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CC4335-D388-4078-BCCF-994C462B10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40175F-24A0-48C4-A321-812C8A921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4057A3-1716-496C-B5AF-6AE02EEE2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ED678C-FB94-4F70-B799-17D950F1B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4EC04B-76B1-471B-B297-AAD854FCD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07DFA0-382D-4DFB-A46D-B5FCBDE82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9"/>
          <p:cNvSpPr/>
          <p:nvPr/>
        </p:nvSpPr>
        <p:spPr>
          <a:xfrm>
            <a:off x="914400" y="609480"/>
            <a:ext cx="82296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Text Box 17"/>
          <p:cNvSpPr/>
          <p:nvPr/>
        </p:nvSpPr>
        <p:spPr>
          <a:xfrm>
            <a:off x="685800" y="22860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" name="Line 21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" name="Picture 8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Text Box 9"/>
          <p:cNvSpPr/>
          <p:nvPr/>
        </p:nvSpPr>
        <p:spPr>
          <a:xfrm>
            <a:off x="838080" y="0"/>
            <a:ext cx="7620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  <a:ea typeface="Arial"/>
              </a:rPr>
              <a:t>Economic Commission for Africa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  <a:ea typeface="Arial"/>
              </a:rPr>
              <a:t>Office for North Africa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1066680" y="6613560"/>
            <a:ext cx="7010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Twenty-eighth  Meeting of the Intergovernmental Committee of Experts (ICE) - </a:t>
            </a:r>
            <a:r>
              <a:rPr b="1" lang="fr-FR" sz="900" spc="-1" strike="noStrike">
                <a:solidFill>
                  <a:srgbClr val="ffffcc"/>
                </a:solidFill>
                <a:latin typeface="Arial"/>
              </a:rPr>
              <a:t>Rabat, Morocco  26 February - 1 March 2013</a:t>
            </a:r>
            <a:endParaRPr b="0" lang="en-US" sz="9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Text Box 11"/>
          <p:cNvSpPr/>
          <p:nvPr/>
        </p:nvSpPr>
        <p:spPr>
          <a:xfrm>
            <a:off x="8381880" y="66294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8610480" y="6583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F54B-7EA4-431F-975F-91833C4EAB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752480" y="22096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914400" y="2274840"/>
            <a:ext cx="7162920" cy="32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Status of Implementation of the Work Programme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March 2012 – February 2013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EA-AN/CIE/XXVIII/5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52280" y="76464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Office initiated several actions to implement the recommendations of the 27th ICE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038480" y="152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Arial"/>
                <a:ea typeface="Arial"/>
              </a:rPr>
              <a:t>27th ICE Meeting recommendations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04920" y="1407960"/>
            <a:ext cx="83055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Social protection systems in North Afric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ssessment done through :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 study on the status of the social protection systems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GM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04920" y="2218680"/>
            <a:ext cx="8534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Greater in-depth analysis of North Africa’s potential in terms of high value addition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A study on diversification and sophistication of North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African economies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EGM 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Operationalizing the North African Free Trade Area 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 Advisory services to the UMA Secretariat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8458200" cy="39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sitive feedback from its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tter communication and outreach acti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tructive relation with its traditional and new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low regional integration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re support to built UMA capa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5880960" y="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Arial"/>
                <a:ea typeface="Arial"/>
              </a:rPr>
              <a:t>Lessons Learn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further develop member states awareness of availability of advisory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ity/Coordination in the particip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O-NA ICE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A Conference of Min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664520" y="0"/>
            <a:ext cx="46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Arial"/>
                <a:ea typeface="Arial"/>
              </a:rPr>
              <a:t>Areas needing Improvemen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276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Jean-Paul Gondj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jgondje@uneca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  <a:ea typeface="Arial"/>
              </a:rPr>
              <a:t>The SRO NA work programme for 2012-2013 is guided by </a:t>
            </a: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ffff99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The strategic framework reviewed and recommended by the 25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Session of the ICE, Rabat March 2010 and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adopted by the Conference of African  Ministers of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Finance, Planning and Economic Development, Lilongwe,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Malawi,  March 201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 The  MYP 2010-2012 with UMA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 The  ICE recommendations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 The Interactions with members States, RECs and other partners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Major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tus of the Implementation of the 27th ICE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llenges, Lessons learnt, Areas needing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6934320" y="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Arial"/>
                <a:ea typeface="Arial"/>
              </a:rPr>
              <a:t>Outlin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6629400" y="152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Major Outcome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" name="ZoneTexte 7"/>
          <p:cNvSpPr/>
          <p:nvPr/>
        </p:nvSpPr>
        <p:spPr>
          <a:xfrm>
            <a:off x="304920" y="762120"/>
            <a:ext cx="853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80880" y="1447920"/>
            <a:ext cx="87631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hrough its activities </a:t>
            </a: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Arial"/>
              </a:rPr>
              <a:t>(Advisory services, EGMs, Workshops, Publications, Communication and Information outreach …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he Office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ontributed to enhance the capacities of member’s States and UMA in the areas of economic and social transformation, green economy, financial integration, energy transition, gender issues and participatory governance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ontributed to build consensus and reach concrete positions and recommendations for promoting effective integration of the three pillars of sustainable development, including the human dimension 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68580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upport to member States and UMA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7"/>
          <p:cNvSpPr/>
          <p:nvPr/>
        </p:nvSpPr>
        <p:spPr>
          <a:xfrm>
            <a:off x="304920" y="1523880"/>
            <a:ext cx="8534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ntributed to the formulation of policies in a number of areas of interest for its member countries by organizing and facilitating three expert group meetings  on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Social protection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Promoting financial integration and regional governance, 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Setting North Africa’s priorities for RIO+20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llaborated with UNECE to undertake an environmental performance review (EPR) at the request of Morocco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acilitated joint collaboration activities between Morocco and Mauritania through UNDP Office in Mauritania  to build an integrated Social Account Matrix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629400" y="152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Major Outcome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4920" y="60948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upport to member States and UMA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5400" y="11430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The Office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7"/>
          <p:cNvSpPr/>
          <p:nvPr/>
        </p:nvSpPr>
        <p:spPr>
          <a:xfrm>
            <a:off x="304920" y="1752480"/>
            <a:ext cx="853416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llaborated with UN Statistics Division and the European Environment Agency to conduct consultative and training workshops on water statistics and accounts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rovided technical support to its member States through technical advisory missions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trengthened partnership with UMA  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629400" y="152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Major Outcome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04920" y="60948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upport to member States and UMA…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400" y="11430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The Office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7"/>
          <p:cNvSpPr/>
          <p:nvPr/>
        </p:nvSpPr>
        <p:spPr>
          <a:xfrm>
            <a:off x="457200" y="609480"/>
            <a:ext cx="830592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Knowledge Management and Information Sharing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trengthened knowledge networks with the private sector, the civil society organizations, the UMA and UN agencies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ree new Networks have been established as part of the ECA Knowledge platform 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romotion of renewal energy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ocial protection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romotion of financial integration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trengthened its network of academics, researchers and institutions working on international trade, growth and regional integration by organizing the 6th edition ot its International Colloquium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Worked closely with UN thematic groups on Youth, Migration Gender, Governance, MDGs, etc 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6629400" y="152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Major Outcome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5400" y="10666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The Office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380880" y="81000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Calibri"/>
              </a:rPr>
              <a:t>Implementation of innovative funding mechanisms for renewable sources of energy in North Africa (DA project)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60948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314136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Calibri"/>
              </a:rPr>
              <a:t>Organized an EGM on « Innovative funding of renewable energy source mechanisms in North Africa » (October 2012)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457200" y="3733920"/>
            <a:ext cx="800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16804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Calibri"/>
              </a:rPr>
              <a:t>Project linked to the UN Initiative entitled « Sustainable Energy for All » targeting a 30% increase in the use of renewable energy across the world 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57200" y="426708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Launched a study for the formulation of a regional energy strategy which will serve as a framework reference for the development of a North African strategy for renewable sources of energy as recommended by the Council of Ministers for Energy and Mines in 2010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6629400" y="152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Major Outcome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304920" y="8236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ainstreaming  the regional dimension in national policie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685800" y="1828800"/>
            <a:ext cx="7924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teps were taken to conduct a study on mainstreaming the regional dimension in national policies in Africa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Missions were conducted for this purpose by the Office in three countries for data collection and interviews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762120" y="41968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National authorities underscored the need for accelerating regional integration in North Africa with specific focus on Trade liberalization and sectoral development policies (Transport, Energy, Agriculture)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6629400" y="152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Major Outcome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3T08:25:03Z</dcterms:created>
  <dc:creator>UNECA</dc:creator>
  <dc:description/>
  <dc:language>en-US</dc:language>
  <cp:lastModifiedBy>ECA</cp:lastModifiedBy>
  <cp:lastPrinted>2001-03-23T10:50:40Z</cp:lastPrinted>
  <dcterms:modified xsi:type="dcterms:W3CDTF">2013-02-28T11:06:47Z</dcterms:modified>
  <cp:revision>928</cp:revision>
  <dc:subject/>
  <dc:title>No Slide Title</dc:title>
</cp:coreProperties>
</file>