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3A3759-A81E-42CC-9279-D58A36236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048A22-E109-4463-9FBE-38F30F23A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310251-893E-44B7-9207-C3D5635D4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C0A9D9-7DE3-4F2F-A99E-757C6A121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2372A2-B166-4736-9693-52088503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407934-18CA-4ACC-BF14-453BCE4D8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9"/>
          <p:cNvSpPr/>
          <p:nvPr/>
        </p:nvSpPr>
        <p:spPr>
          <a:xfrm>
            <a:off x="914400" y="609480"/>
            <a:ext cx="8229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Text Box 17"/>
          <p:cNvSpPr/>
          <p:nvPr/>
        </p:nvSpPr>
        <p:spPr>
          <a:xfrm>
            <a:off x="685800" y="2286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" name="Picture 8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Text Box 9"/>
          <p:cNvSpPr/>
          <p:nvPr/>
        </p:nvSpPr>
        <p:spPr>
          <a:xfrm>
            <a:off x="838080" y="0"/>
            <a:ext cx="7620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  <a:ea typeface="Arial"/>
              </a:rPr>
              <a:t>Economic Commission for Africa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  <a:ea typeface="Arial"/>
              </a:rPr>
              <a:t>Office for North Africa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066680" y="6613560"/>
            <a:ext cx="701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Twenty-eighth  Meeting of the Intergovernmental Committee of Experts (ICE) - </a:t>
            </a:r>
            <a:r>
              <a:rPr b="1" lang="fr-FR" sz="900" spc="-1" strike="noStrike">
                <a:solidFill>
                  <a:srgbClr val="ffffcc"/>
                </a:solidFill>
                <a:latin typeface="Arial"/>
              </a:rPr>
              <a:t>Rabat, Morocco  26 February - 1 March 2013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8381880" y="6629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86104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548B-6614-42EB-A029-FCFDAE8D3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752480" y="22096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914400" y="2274840"/>
            <a:ext cx="716292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Status of Implementation of the Work Programme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March 2012 – February 2013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EA-AN/CIE/XXVIII/5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52280" y="76464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Office initiated several actions to implement the recommendations of the 27th ICE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038480" y="152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Arial"/>
                <a:ea typeface="Arial"/>
              </a:rPr>
              <a:t>27th ICE Meeting recommendations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04920" y="140796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Social protection systems in North Afric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done through 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 study on the status of the social protection system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GM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04920" y="2218680"/>
            <a:ext cx="8534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Greater in-depth analysis of North Africa’s potential in terms of high value additi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A study on diversification and sophistication of North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African economie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EGM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Operationalizing the North African Free Trade Area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 Advisory services to the UMA Secretariat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458200" cy="39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sitive feedback from its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tter communication and outreach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tive relation with its traditional and new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ow regional integration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support to built UMA capa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880960" y="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Lessons Learn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further develop member states awareness of availability of advisory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ity/Coordination in the particip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O-NA ICE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A Conference of Min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64520" y="0"/>
            <a:ext cx="46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Areas needing Improvemen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276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Jean-Paul Gondj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jgondje@uneca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99"/>
                </a:solidFill>
                <a:latin typeface="Arial"/>
                <a:ea typeface="Arial"/>
              </a:rPr>
              <a:t>The SRO NA work programme for 2012-2013 is guided by 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ffff99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he strategic framework reviewed and recommended by the 25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Session of the ICE, Rabat March 2010 an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adopted by the Conference of African  Ministers o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Finance, Planning and Economic Development, Lilongwe,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    Malawi,  March 201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The  MYP 2010-2012 with UMA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The  ICE recommendation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- The Interactions with members States, RECs and other partners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Major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tus of the Implementation of the 27th ICE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llenges, Lessons learnt, Areas needing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6934320" y="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Outlin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ZoneTexte 7"/>
          <p:cNvSpPr/>
          <p:nvPr/>
        </p:nvSpPr>
        <p:spPr>
          <a:xfrm>
            <a:off x="304920" y="76212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1447920"/>
            <a:ext cx="87631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rough its activities </a:t>
            </a:r>
            <a:r>
              <a:rPr b="0" lang="en-US" sz="2400" spc="-1" strike="noStrike">
                <a:solidFill>
                  <a:srgbClr val="e6e6e6"/>
                </a:solidFill>
                <a:latin typeface="Arial"/>
                <a:ea typeface="Arial"/>
              </a:rPr>
              <a:t>(Advisory services, EGMs, Workshops, Publications, Communication and Information outreach …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Office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tributed to enhance the capacities of member’s States and UMA in the areas of economic and social transformation, green economy, financial integration, energy transition, gender issues and participatory governance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tributed to build consensus and reach concrete positions and recommendations for promoting effective integration of the three pillars of sustainable development, including the human dimension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6858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pport to member States and UMA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7"/>
          <p:cNvSpPr/>
          <p:nvPr/>
        </p:nvSpPr>
        <p:spPr>
          <a:xfrm>
            <a:off x="304920" y="1523880"/>
            <a:ext cx="8534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tributed to the formulation of policies in a number of areas of interest for its member countries by organizing and facilitating three expert group meetings  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Social protecti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Promoting financial integration and regional governance,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Setting North Africa’s priorities for RIO+20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llaborated with UNECE to undertake an environmental performance review (EPR) at the request of Morocco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acilitated joint collaboration activities between Morocco and Mauritania through UNDP Office in Mauritania  to build an integrated Social Account Matrix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609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pport to member States and UMA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400" y="11430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The Offic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7"/>
          <p:cNvSpPr/>
          <p:nvPr/>
        </p:nvSpPr>
        <p:spPr>
          <a:xfrm>
            <a:off x="304920" y="1752480"/>
            <a:ext cx="853416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llaborated with UN Statistics Division and the European Environment Agency to conduct consultative and training workshops on water statistics and account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vided technical support to its member States through technical advisory mission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trengthened partnership with UMA 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04920" y="609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pport to member States and UMA…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400" y="11430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The Offic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7"/>
          <p:cNvSpPr/>
          <p:nvPr/>
        </p:nvSpPr>
        <p:spPr>
          <a:xfrm>
            <a:off x="457200" y="609480"/>
            <a:ext cx="830592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Knowledge Management and Information Sharing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trengthened knowledge networks with the private sector, the civil society organizations, the UMA and UN agencie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new Networks have been established as part of the ECA Knowledge platform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motion of renewal energy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ocial protecti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motion of financial integration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trengthened its network of academics, researchers and institutions working on international trade, growth and regional integration by organizing the 6th edition ot its International Colloquium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Worked closely with UN thematic groups on Youth, Migration Gender, Governance, MDGs, etc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400" y="10666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The Offic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380880" y="8100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Calibri"/>
              </a:rPr>
              <a:t>Implementation of innovative funding mechanisms for renewable sources of energy in North Africa (DA project)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0948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314136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Calibri"/>
              </a:rPr>
              <a:t>Organized an EGM on « Innovative funding of renewable energy source mechanisms in North Africa » (October 2012)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57200" y="373392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16804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Calibri"/>
              </a:rPr>
              <a:t>Project linked to the UN Initiative entitled « Sustainable Energy for All » targeting a 30% increase in the use of renewable energy across the world 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7200" y="42670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aunched a study for the formulation of a regional energy strategy which will serve as a framework reference for the development of a North African strategy for renewable sources of energy as recommended by the Council of Ministers for Energy and Mines in 2010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04920" y="8236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ainstreaming  the regional dimension in national polici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85800" y="1828800"/>
            <a:ext cx="792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s were taken to conduct a study on mainstreaming the regional dimension in national policies in Africa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issions were conducted for this purpose by the Office in three countries for data collection and interviews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762120" y="41968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ational authorities underscored the need for accelerating regional integration in North Africa with specific focus on Trade liberalization and sectoral development policies (Transport, Energy, Agriculture)</a:t>
            </a:r>
            <a:endParaRPr b="0" lang="en-US" sz="2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629400" y="152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Major Outcomes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08:25:03Z</dcterms:created>
  <dc:creator>UNECA</dc:creator>
  <dc:description/>
  <dc:language>en-US</dc:language>
  <cp:lastModifiedBy>ECA</cp:lastModifiedBy>
  <cp:lastPrinted>2001-03-23T10:50:40Z</cp:lastPrinted>
  <dcterms:modified xsi:type="dcterms:W3CDTF">2013-02-28T11:06:47Z</dcterms:modified>
  <cp:revision>928</cp:revision>
  <dc:subject/>
  <dc:title>No Slide Title</dc:title>
</cp:coreProperties>
</file>