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D68FB-55B2-4439-90A0-AB3BD40DD2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25" name="PlaceHolder 2"/>
          <p:cNvSpPr>
            <a:spLocks noGrp="1"/>
          </p:cNvSpPr>
          <p:nvPr>
            <p:ph/>
          </p:nvPr>
        </p:nvSpPr>
        <p:spPr>
          <a:xfrm>
            <a:off x="1371600" y="383976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3"/>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1"/>
          </p:nvPr>
        </p:nvSpPr>
        <p:spPr/>
        <p:txBody>
          <a:bodyPr/>
          <a:p>
            <a:fld id="{AEF4E80E-6CD1-4CCA-9D65-348EED0012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28"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5"/>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sldNum" idx="1"/>
          </p:nvPr>
        </p:nvSpPr>
        <p:spPr/>
        <p:txBody>
          <a:bodyPr/>
          <a:p>
            <a:fld id="{F878F416-1387-4C5F-8B3E-7AB3D39CC2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33" name="PlaceHolder 2"/>
          <p:cNvSpPr>
            <a:spLocks noGrp="1"/>
          </p:cNvSpPr>
          <p:nvPr>
            <p:ph/>
          </p:nvPr>
        </p:nvSpPr>
        <p:spPr>
          <a:xfrm>
            <a:off x="137160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353556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569988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137160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6"/>
          <p:cNvSpPr>
            <a:spLocks noGrp="1"/>
          </p:cNvSpPr>
          <p:nvPr>
            <p:ph/>
          </p:nvPr>
        </p:nvSpPr>
        <p:spPr>
          <a:xfrm>
            <a:off x="353556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7"/>
          <p:cNvSpPr>
            <a:spLocks noGrp="1"/>
          </p:cNvSpPr>
          <p:nvPr>
            <p:ph/>
          </p:nvPr>
        </p:nvSpPr>
        <p:spPr>
          <a:xfrm>
            <a:off x="569988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sldNum" idx="1"/>
          </p:nvPr>
        </p:nvSpPr>
        <p:spPr/>
        <p:txBody>
          <a:bodyPr/>
          <a:p>
            <a:fld id="{03CF4CA1-99C5-4898-BAEC-B945D6119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F0AD83-EEF1-46E9-B98B-3E2A2F06CA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4" name="PlaceHolder 2"/>
          <p:cNvSpPr>
            <a:spLocks noGrp="1"/>
          </p:cNvSpPr>
          <p:nvPr>
            <p:ph type="subTitle"/>
          </p:nvPr>
        </p:nvSpPr>
        <p:spPr>
          <a:xfrm>
            <a:off x="1371600" y="3839760"/>
            <a:ext cx="6400800" cy="171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2"/>
          </p:nvPr>
        </p:nvSpPr>
        <p:spPr/>
        <p:txBody>
          <a:bodyPr/>
          <a:p>
            <a:fld id="{163C4E01-7AAB-48AE-88DB-8F129284E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6" name="PlaceHolder 2"/>
          <p:cNvSpPr>
            <a:spLocks noGrp="1"/>
          </p:cNvSpPr>
          <p:nvPr>
            <p:ph/>
          </p:nvPr>
        </p:nvSpPr>
        <p:spPr>
          <a:xfrm>
            <a:off x="1371600" y="3839760"/>
            <a:ext cx="640080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2"/>
          </p:nvPr>
        </p:nvSpPr>
        <p:spPr/>
        <p:txBody>
          <a:bodyPr/>
          <a:p>
            <a:fld id="{60FC7745-F6F8-46E9-AD92-CCEC898A72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8"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2"/>
          </p:nvPr>
        </p:nvSpPr>
        <p:spPr/>
        <p:txBody>
          <a:bodyPr/>
          <a:p>
            <a:fld id="{24A8100F-4B68-438C-AC09-202F815DF4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3" name="PlaceHolder 2"/>
          <p:cNvSpPr>
            <a:spLocks noGrp="1"/>
          </p:cNvSpPr>
          <p:nvPr>
            <p:ph type="sldNum" idx="2"/>
          </p:nvPr>
        </p:nvSpPr>
        <p:spPr/>
        <p:txBody>
          <a:bodyPr/>
          <a:p>
            <a:fld id="{AFB8E1C6-A37F-4C8A-9F4A-5187070FAA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360160" y="2495520"/>
            <a:ext cx="4421160" cy="3872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43460419-93E0-4777-A4F4-86AFDDB7E4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53"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2"/>
          </p:nvPr>
        </p:nvSpPr>
        <p:spPr/>
        <p:txBody>
          <a:bodyPr/>
          <a:p>
            <a:fld id="{CAE2E601-27E1-4C9B-AE73-9E127E6DFA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4" name="PlaceHolder 2"/>
          <p:cNvSpPr>
            <a:spLocks noGrp="1"/>
          </p:cNvSpPr>
          <p:nvPr>
            <p:ph type="subTitle"/>
          </p:nvPr>
        </p:nvSpPr>
        <p:spPr>
          <a:xfrm>
            <a:off x="1371600" y="3839760"/>
            <a:ext cx="6400800" cy="171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p:txBody>
          <a:bodyPr/>
          <a:p>
            <a:fld id="{FC7BD6F1-225E-4089-B728-8BA06DC85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57"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4"/>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2"/>
          </p:nvPr>
        </p:nvSpPr>
        <p:spPr/>
        <p:txBody>
          <a:bodyPr/>
          <a:p>
            <a:fld id="{9BBF4118-45F0-4033-88E8-D59BA35924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1"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4"/>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2"/>
          </p:nvPr>
        </p:nvSpPr>
        <p:spPr/>
        <p:txBody>
          <a:bodyPr/>
          <a:p>
            <a:fld id="{587DA69C-5453-42EA-8246-FE72CA6FEF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5" name="PlaceHolder 2"/>
          <p:cNvSpPr>
            <a:spLocks noGrp="1"/>
          </p:cNvSpPr>
          <p:nvPr>
            <p:ph/>
          </p:nvPr>
        </p:nvSpPr>
        <p:spPr>
          <a:xfrm>
            <a:off x="1371600" y="383976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3"/>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2"/>
          </p:nvPr>
        </p:nvSpPr>
        <p:spPr/>
        <p:txBody>
          <a:bodyPr/>
          <a:p>
            <a:fld id="{50EA7651-3AB5-461B-90F8-C2FBD7E25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8"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5"/>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sldNum" idx="2"/>
          </p:nvPr>
        </p:nvSpPr>
        <p:spPr/>
        <p:txBody>
          <a:bodyPr/>
          <a:p>
            <a:fld id="{F445D10B-4AA4-4A80-B59C-7422B9A82E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73" name="PlaceHolder 2"/>
          <p:cNvSpPr>
            <a:spLocks noGrp="1"/>
          </p:cNvSpPr>
          <p:nvPr>
            <p:ph/>
          </p:nvPr>
        </p:nvSpPr>
        <p:spPr>
          <a:xfrm>
            <a:off x="137160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353556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5699880" y="383976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137160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6"/>
          <p:cNvSpPr>
            <a:spLocks noGrp="1"/>
          </p:cNvSpPr>
          <p:nvPr>
            <p:ph/>
          </p:nvPr>
        </p:nvSpPr>
        <p:spPr>
          <a:xfrm>
            <a:off x="353556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7"/>
          <p:cNvSpPr>
            <a:spLocks noGrp="1"/>
          </p:cNvSpPr>
          <p:nvPr>
            <p:ph/>
          </p:nvPr>
        </p:nvSpPr>
        <p:spPr>
          <a:xfrm>
            <a:off x="5699880" y="4735440"/>
            <a:ext cx="206064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sldNum" idx="2"/>
          </p:nvPr>
        </p:nvSpPr>
        <p:spPr/>
        <p:txBody>
          <a:bodyPr/>
          <a:p>
            <a:fld id="{27E00943-B5C5-4E28-9075-893769A5BC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6" name="PlaceHolder 2"/>
          <p:cNvSpPr>
            <a:spLocks noGrp="1"/>
          </p:cNvSpPr>
          <p:nvPr>
            <p:ph/>
          </p:nvPr>
        </p:nvSpPr>
        <p:spPr>
          <a:xfrm>
            <a:off x="1371600" y="3839760"/>
            <a:ext cx="640080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p:txBody>
          <a:bodyPr/>
          <a:p>
            <a:fld id="{4DF8FF15-860D-4E25-8BC7-8487B69FF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8"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1"/>
          </p:nvPr>
        </p:nvSpPr>
        <p:spPr/>
        <p:txBody>
          <a:bodyPr/>
          <a:p>
            <a:fld id="{916D07D7-581F-4CAE-9A32-3456C281B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3" name="PlaceHolder 2"/>
          <p:cNvSpPr>
            <a:spLocks noGrp="1"/>
          </p:cNvSpPr>
          <p:nvPr>
            <p:ph type="sldNum" idx="1"/>
          </p:nvPr>
        </p:nvSpPr>
        <p:spPr/>
        <p:txBody>
          <a:bodyPr/>
          <a:p>
            <a:fld id="{B6E2B4A4-792B-42EA-A19E-694F342EE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360160" y="2495520"/>
            <a:ext cx="4421160" cy="3872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CE09C339-7535-4CE2-BB15-8172C9A7E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13"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5156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4"/>
          <p:cNvSpPr>
            <a:spLocks noGrp="1"/>
          </p:cNvSpPr>
          <p:nvPr>
            <p:ph/>
          </p:nvPr>
        </p:nvSpPr>
        <p:spPr>
          <a:xfrm>
            <a:off x="137160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1"/>
          </p:nvPr>
        </p:nvSpPr>
        <p:spPr/>
        <p:txBody>
          <a:bodyPr/>
          <a:p>
            <a:fld id="{4C67CB48-9BAB-4F36-8118-01DBCBB944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17" name="PlaceHolder 2"/>
          <p:cNvSpPr>
            <a:spLocks noGrp="1"/>
          </p:cNvSpPr>
          <p:nvPr>
            <p:ph/>
          </p:nvPr>
        </p:nvSpPr>
        <p:spPr>
          <a:xfrm>
            <a:off x="1371600" y="3839760"/>
            <a:ext cx="3123360" cy="1714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4"/>
          <p:cNvSpPr>
            <a:spLocks noGrp="1"/>
          </p:cNvSpPr>
          <p:nvPr>
            <p:ph/>
          </p:nvPr>
        </p:nvSpPr>
        <p:spPr>
          <a:xfrm>
            <a:off x="4651560" y="473544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1"/>
          </p:nvPr>
        </p:nvSpPr>
        <p:spPr/>
        <p:txBody>
          <a:bodyPr/>
          <a:p>
            <a:fld id="{3E578F4A-6F4C-4368-BF56-79B741E53E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Lucida Sans"/>
            </a:endParaRPr>
          </a:p>
        </p:txBody>
      </p:sp>
      <p:sp>
        <p:nvSpPr>
          <p:cNvPr id="21" name="PlaceHolder 2"/>
          <p:cNvSpPr>
            <a:spLocks noGrp="1"/>
          </p:cNvSpPr>
          <p:nvPr>
            <p:ph/>
          </p:nvPr>
        </p:nvSpPr>
        <p:spPr>
          <a:xfrm>
            <a:off x="137160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3"/>
          <p:cNvSpPr>
            <a:spLocks noGrp="1"/>
          </p:cNvSpPr>
          <p:nvPr>
            <p:ph/>
          </p:nvPr>
        </p:nvSpPr>
        <p:spPr>
          <a:xfrm>
            <a:off x="4651560" y="3839760"/>
            <a:ext cx="312336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4"/>
          <p:cNvSpPr>
            <a:spLocks noGrp="1"/>
          </p:cNvSpPr>
          <p:nvPr>
            <p:ph/>
          </p:nvPr>
        </p:nvSpPr>
        <p:spPr>
          <a:xfrm>
            <a:off x="1371600" y="4735440"/>
            <a:ext cx="6400800" cy="817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1"/>
          </p:nvPr>
        </p:nvSpPr>
        <p:spPr/>
        <p:txBody>
          <a:bodyPr/>
          <a:p>
            <a:fld id="{9E1EBFC4-9BBE-4329-9B1C-CDD29A766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76440"/>
            <a:ext cx="8229600" cy="4525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indent="4572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indent="9144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indent="13716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indent="1828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indent="1828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indent="1828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 name="PlaceHolder 2"/>
          <p:cNvSpPr>
            <a:spLocks noGrp="1"/>
          </p:cNvSpPr>
          <p:nvPr>
            <p:ph type="title"/>
          </p:nvPr>
        </p:nvSpPr>
        <p:spPr>
          <a:xfrm>
            <a:off x="430200" y="341280"/>
            <a:ext cx="8282160" cy="1371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Lucida Sans"/>
              </a:rPr>
              <a:t>Click to edit the title text format</a:t>
            </a:r>
            <a:endParaRPr b="1" lang="en-US" sz="4000" spc="-1" strike="noStrike">
              <a:solidFill>
                <a:srgbClr val="ffffff"/>
              </a:solidFill>
              <a:latin typeface="Lucida Sans"/>
            </a:endParaRPr>
          </a:p>
        </p:txBody>
      </p:sp>
      <p:sp>
        <p:nvSpPr>
          <p:cNvPr id="2" name="PlaceHolder 3"/>
          <p:cNvSpPr>
            <a:spLocks noGrp="1"/>
          </p:cNvSpPr>
          <p:nvPr>
            <p:ph type="sldNum" idx="1"/>
          </p:nvPr>
        </p:nvSpPr>
        <p:spPr>
          <a:xfrm>
            <a:off x="8418240" y="6377040"/>
            <a:ext cx="268200" cy="279360"/>
          </a:xfrm>
          <a:prstGeom prst="rect">
            <a:avLst/>
          </a:prstGeom>
          <a:noFill/>
          <a:ln w="0">
            <a:noFill/>
          </a:ln>
        </p:spPr>
        <p:txBody>
          <a:bodyPr lIns="0" rIns="0" tIns="0" bIns="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88888"/>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F047-E9BE-4F1A-AEFC-BDF863A032D2}" type="slidenum">
              <a:rPr b="0" lang="en-US" sz="1800" spc="-1" strike="noStrike">
                <a:solidFill>
                  <a:srgbClr val="888888"/>
                </a:solidFill>
                <a:latin typeface="Arial"/>
                <a:ea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
          <p:cNvSpPr/>
          <p:nvPr/>
        </p:nvSpPr>
        <p:spPr>
          <a:xfrm>
            <a:off x="0" y="0"/>
            <a:ext cx="9144000" cy="6845400"/>
          </a:xfrm>
          <a:prstGeom prst="rect">
            <a:avLst/>
          </a:prstGeom>
          <a:solidFill>
            <a:srgbClr val="44ae6c"/>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Lucida Sans"/>
              </a:rPr>
              <a:t>Click to edit the title text format</a:t>
            </a:r>
            <a:endParaRPr b="1" lang="en-US" sz="4000" spc="-1" strike="noStrike">
              <a:solidFill>
                <a:srgbClr val="ffffff"/>
              </a:solidFill>
              <a:latin typeface="Lucida Sans"/>
            </a:endParaRPr>
          </a:p>
        </p:txBody>
      </p:sp>
      <p:sp>
        <p:nvSpPr>
          <p:cNvPr id="41" name="PlaceHolder 2"/>
          <p:cNvSpPr>
            <a:spLocks noGrp="1"/>
          </p:cNvSpPr>
          <p:nvPr>
            <p:ph type="body"/>
          </p:nvPr>
        </p:nvSpPr>
        <p:spPr>
          <a:xfrm>
            <a:off x="1371600" y="3839760"/>
            <a:ext cx="6400800" cy="1714680"/>
          </a:xfrm>
          <a:prstGeom prst="rect">
            <a:avLst/>
          </a:prstGeom>
          <a:noFill/>
          <a:ln w="0">
            <a:noFill/>
          </a:ln>
        </p:spPr>
        <p:txBody>
          <a:bodyPr lIns="0" rIns="0" tIns="0" bIns="0" anchor="t">
            <a:normAutofit fontScale="8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indent="4068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indent="8136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indent="122040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indent="162756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indent="162756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indent="1627560">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2" name="PlaceHolder 3"/>
          <p:cNvSpPr>
            <a:spLocks noGrp="1"/>
          </p:cNvSpPr>
          <p:nvPr>
            <p:ph type="sldNum" idx="2"/>
          </p:nvPr>
        </p:nvSpPr>
        <p:spPr>
          <a:xfrm>
            <a:off x="8418240" y="6377040"/>
            <a:ext cx="268200" cy="279360"/>
          </a:xfrm>
          <a:prstGeom prst="rect">
            <a:avLst/>
          </a:prstGeom>
          <a:noFill/>
          <a:ln w="0">
            <a:noFill/>
          </a:ln>
        </p:spPr>
        <p:txBody>
          <a:bodyPr lIns="0" rIns="0" tIns="0" bIns="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88888"/>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5B4E-9401-49D0-B5EE-8E303EE0A40A}" type="slidenum">
              <a:rPr b="0" lang="en-US" sz="1800" spc="-1" strike="noStrike">
                <a:solidFill>
                  <a:srgbClr val="888888"/>
                </a:solidFill>
                <a:latin typeface="Arial"/>
                <a:ea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0" y="0"/>
            <a:ext cx="9144000" cy="684540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AutoShape 3"/>
          <p:cNvSpPr/>
          <p:nvPr/>
        </p:nvSpPr>
        <p:spPr>
          <a:xfrm>
            <a:off x="2955960" y="3224160"/>
            <a:ext cx="4538520" cy="560520"/>
          </a:xfrm>
          <a:custGeom>
            <a:avLst/>
            <a:gdLst>
              <a:gd name="textAreaLeft" fmla="*/ 0 w 4538520"/>
              <a:gd name="textAreaRight" fmla="*/ 4538880 w 4538520"/>
              <a:gd name="textAreaTop" fmla="*/ 0 h 560520"/>
              <a:gd name="textAreaBottom" fmla="*/ 560880 h 560520"/>
            </a:gdLst>
            <a:ahLst/>
            <a:rect l="textAreaLeft" t="textAreaTop" r="textAreaRight" b="textAreaBottom"/>
            <a:pathLst>
              <a:path w="21600" h="21600">
                <a:moveTo>
                  <a:pt x="20282" y="0"/>
                </a:moveTo>
                <a:lnTo>
                  <a:pt x="1318" y="0"/>
                </a:lnTo>
                <a:lnTo>
                  <a:pt x="1081" y="172"/>
                </a:lnTo>
                <a:lnTo>
                  <a:pt x="858" y="669"/>
                </a:lnTo>
                <a:lnTo>
                  <a:pt x="653" y="1460"/>
                </a:lnTo>
                <a:lnTo>
                  <a:pt x="469" y="2514"/>
                </a:lnTo>
                <a:lnTo>
                  <a:pt x="310" y="3803"/>
                </a:lnTo>
                <a:lnTo>
                  <a:pt x="180" y="5295"/>
                </a:lnTo>
                <a:lnTo>
                  <a:pt x="82" y="6961"/>
                </a:lnTo>
                <a:lnTo>
                  <a:pt x="21" y="8770"/>
                </a:lnTo>
                <a:lnTo>
                  <a:pt x="0" y="10692"/>
                </a:lnTo>
                <a:lnTo>
                  <a:pt x="0" y="10908"/>
                </a:lnTo>
                <a:lnTo>
                  <a:pt x="21" y="12830"/>
                </a:lnTo>
                <a:lnTo>
                  <a:pt x="82" y="14639"/>
                </a:lnTo>
                <a:lnTo>
                  <a:pt x="180" y="16304"/>
                </a:lnTo>
                <a:lnTo>
                  <a:pt x="310" y="17797"/>
                </a:lnTo>
                <a:lnTo>
                  <a:pt x="469" y="19085"/>
                </a:lnTo>
                <a:lnTo>
                  <a:pt x="653" y="20140"/>
                </a:lnTo>
                <a:lnTo>
                  <a:pt x="858" y="20931"/>
                </a:lnTo>
                <a:lnTo>
                  <a:pt x="1081" y="21428"/>
                </a:lnTo>
                <a:lnTo>
                  <a:pt x="1318" y="21600"/>
                </a:lnTo>
                <a:lnTo>
                  <a:pt x="20282" y="21600"/>
                </a:lnTo>
                <a:lnTo>
                  <a:pt x="20519" y="21428"/>
                </a:lnTo>
                <a:lnTo>
                  <a:pt x="20742" y="20931"/>
                </a:lnTo>
                <a:lnTo>
                  <a:pt x="20947" y="20140"/>
                </a:lnTo>
                <a:lnTo>
                  <a:pt x="21131" y="19085"/>
                </a:lnTo>
                <a:lnTo>
                  <a:pt x="21290" y="17797"/>
                </a:lnTo>
                <a:lnTo>
                  <a:pt x="21420" y="16304"/>
                </a:lnTo>
                <a:lnTo>
                  <a:pt x="21518" y="14639"/>
                </a:lnTo>
                <a:lnTo>
                  <a:pt x="21579" y="12830"/>
                </a:lnTo>
                <a:lnTo>
                  <a:pt x="21600" y="10908"/>
                </a:lnTo>
                <a:lnTo>
                  <a:pt x="21600" y="10692"/>
                </a:lnTo>
                <a:lnTo>
                  <a:pt x="21579" y="8770"/>
                </a:lnTo>
                <a:lnTo>
                  <a:pt x="21518" y="6961"/>
                </a:lnTo>
                <a:lnTo>
                  <a:pt x="21420" y="5295"/>
                </a:lnTo>
                <a:lnTo>
                  <a:pt x="21290" y="3803"/>
                </a:lnTo>
                <a:lnTo>
                  <a:pt x="21131" y="2514"/>
                </a:lnTo>
                <a:lnTo>
                  <a:pt x="20947" y="1460"/>
                </a:lnTo>
                <a:lnTo>
                  <a:pt x="20742" y="669"/>
                </a:lnTo>
                <a:lnTo>
                  <a:pt x="20519" y="172"/>
                </a:lnTo>
                <a:lnTo>
                  <a:pt x="20282"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81" name="AutoShape 2"/>
          <p:cNvSpPr/>
          <p:nvPr/>
        </p:nvSpPr>
        <p:spPr>
          <a:xfrm>
            <a:off x="7558200" y="3224160"/>
            <a:ext cx="1584360" cy="560520"/>
          </a:xfrm>
          <a:custGeom>
            <a:avLst/>
            <a:gdLst>
              <a:gd name="textAreaLeft" fmla="*/ 0 w 1584360"/>
              <a:gd name="textAreaRight" fmla="*/ 1584720 w 1584360"/>
              <a:gd name="textAreaTop" fmla="*/ 0 h 560520"/>
              <a:gd name="textAreaBottom" fmla="*/ 560880 h 560520"/>
            </a:gdLst>
            <a:ahLst/>
            <a:rect l="textAreaLeft" t="textAreaTop" r="textAreaRight" b="textAreaBottom"/>
            <a:pathLst>
              <a:path w="21600" h="21600">
                <a:moveTo>
                  <a:pt x="21600" y="0"/>
                </a:moveTo>
                <a:lnTo>
                  <a:pt x="3244" y="0"/>
                </a:lnTo>
                <a:lnTo>
                  <a:pt x="2590" y="187"/>
                </a:lnTo>
                <a:lnTo>
                  <a:pt x="1981" y="722"/>
                </a:lnTo>
                <a:lnTo>
                  <a:pt x="1430" y="1568"/>
                </a:lnTo>
                <a:lnTo>
                  <a:pt x="950" y="2690"/>
                </a:lnTo>
                <a:lnTo>
                  <a:pt x="554" y="4049"/>
                </a:lnTo>
                <a:lnTo>
                  <a:pt x="255" y="5609"/>
                </a:lnTo>
                <a:lnTo>
                  <a:pt x="66" y="7333"/>
                </a:lnTo>
                <a:lnTo>
                  <a:pt x="0" y="9184"/>
                </a:lnTo>
                <a:lnTo>
                  <a:pt x="0" y="12416"/>
                </a:lnTo>
                <a:lnTo>
                  <a:pt x="66" y="14267"/>
                </a:lnTo>
                <a:lnTo>
                  <a:pt x="255" y="15991"/>
                </a:lnTo>
                <a:lnTo>
                  <a:pt x="554" y="17551"/>
                </a:lnTo>
                <a:lnTo>
                  <a:pt x="950" y="18910"/>
                </a:lnTo>
                <a:lnTo>
                  <a:pt x="1430" y="20032"/>
                </a:lnTo>
                <a:lnTo>
                  <a:pt x="1981" y="20878"/>
                </a:lnTo>
                <a:lnTo>
                  <a:pt x="2590" y="21413"/>
                </a:lnTo>
                <a:lnTo>
                  <a:pt x="3244" y="21600"/>
                </a:lnTo>
                <a:lnTo>
                  <a:pt x="21600" y="21600"/>
                </a:lnTo>
                <a:lnTo>
                  <a:pt x="21600"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82" name="Rectangle 1"/>
          <p:cNvSpPr/>
          <p:nvPr/>
        </p:nvSpPr>
        <p:spPr>
          <a:xfrm>
            <a:off x="7770960" y="3392640"/>
            <a:ext cx="113184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ato"/>
                <a:ea typeface="Lato"/>
              </a:rPr>
              <a:t>UNECA.ORG</a:t>
            </a:r>
            <a:endParaRPr b="0" lang="en-US" sz="1500" spc="-1" strike="noStrike">
              <a:solidFill>
                <a:srgbClr val="000000"/>
              </a:solidFill>
              <a:latin typeface="Calibri"/>
            </a:endParaRPr>
          </a:p>
        </p:txBody>
      </p:sp>
      <p:sp>
        <p:nvSpPr>
          <p:cNvPr id="83" name="Rectangle 2"/>
          <p:cNvSpPr/>
          <p:nvPr/>
        </p:nvSpPr>
        <p:spPr>
          <a:xfrm>
            <a:off x="0" y="0"/>
            <a:ext cx="9144000" cy="2722680"/>
          </a:xfrm>
          <a:prstGeom prst="rect">
            <a:avLst/>
          </a:prstGeom>
          <a:solidFill>
            <a:srgbClr val="44ae6c"/>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3"/>
          <p:cNvSpPr/>
          <p:nvPr/>
        </p:nvSpPr>
        <p:spPr>
          <a:xfrm>
            <a:off x="4413240" y="2328840"/>
            <a:ext cx="4729320" cy="741240"/>
          </a:xfrm>
          <a:prstGeom prst="rect">
            <a:avLst/>
          </a:prstGeom>
          <a:solidFill>
            <a:srgbClr val="44ae6c"/>
          </a:solid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AutoShape 4"/>
          <p:cNvSpPr/>
          <p:nvPr/>
        </p:nvSpPr>
        <p:spPr>
          <a:xfrm>
            <a:off x="2922480" y="2422440"/>
            <a:ext cx="4351320" cy="647640"/>
          </a:xfrm>
          <a:custGeom>
            <a:avLst/>
            <a:gdLst>
              <a:gd name="textAreaLeft" fmla="*/ 0 w 4351320"/>
              <a:gd name="textAreaRight" fmla="*/ 4351680 w 4351320"/>
              <a:gd name="textAreaTop" fmla="*/ 0 h 647640"/>
              <a:gd name="textAreaBottom" fmla="*/ 648000 h 647640"/>
            </a:gdLst>
            <a:ahLst/>
            <a:rect l="textAreaLeft" t="textAreaTop" r="textAreaRight" b="textAreaBottom"/>
            <a:pathLst>
              <a:path w="21600" h="21600">
                <a:moveTo>
                  <a:pt x="20008" y="0"/>
                </a:moveTo>
                <a:lnTo>
                  <a:pt x="1592" y="0"/>
                </a:lnTo>
                <a:lnTo>
                  <a:pt x="1357" y="116"/>
                </a:lnTo>
                <a:lnTo>
                  <a:pt x="1132" y="453"/>
                </a:lnTo>
                <a:lnTo>
                  <a:pt x="921" y="994"/>
                </a:lnTo>
                <a:lnTo>
                  <a:pt x="725" y="1723"/>
                </a:lnTo>
                <a:lnTo>
                  <a:pt x="548" y="2623"/>
                </a:lnTo>
                <a:lnTo>
                  <a:pt x="391" y="3677"/>
                </a:lnTo>
                <a:lnTo>
                  <a:pt x="257" y="4870"/>
                </a:lnTo>
                <a:lnTo>
                  <a:pt x="148" y="6185"/>
                </a:lnTo>
                <a:lnTo>
                  <a:pt x="67" y="7604"/>
                </a:lnTo>
                <a:lnTo>
                  <a:pt x="17" y="9112"/>
                </a:lnTo>
                <a:lnTo>
                  <a:pt x="0" y="10692"/>
                </a:lnTo>
                <a:lnTo>
                  <a:pt x="0" y="10908"/>
                </a:lnTo>
                <a:lnTo>
                  <a:pt x="17" y="12488"/>
                </a:lnTo>
                <a:lnTo>
                  <a:pt x="67" y="13996"/>
                </a:lnTo>
                <a:lnTo>
                  <a:pt x="148" y="15416"/>
                </a:lnTo>
                <a:lnTo>
                  <a:pt x="257" y="16730"/>
                </a:lnTo>
                <a:lnTo>
                  <a:pt x="391" y="17923"/>
                </a:lnTo>
                <a:lnTo>
                  <a:pt x="548" y="18978"/>
                </a:lnTo>
                <a:lnTo>
                  <a:pt x="725" y="19878"/>
                </a:lnTo>
                <a:lnTo>
                  <a:pt x="921" y="20606"/>
                </a:lnTo>
                <a:lnTo>
                  <a:pt x="1132" y="21147"/>
                </a:lnTo>
                <a:lnTo>
                  <a:pt x="1357" y="21484"/>
                </a:lnTo>
                <a:lnTo>
                  <a:pt x="1592" y="21600"/>
                </a:lnTo>
                <a:lnTo>
                  <a:pt x="20008" y="21600"/>
                </a:lnTo>
                <a:lnTo>
                  <a:pt x="20243" y="21484"/>
                </a:lnTo>
                <a:lnTo>
                  <a:pt x="20468" y="21147"/>
                </a:lnTo>
                <a:lnTo>
                  <a:pt x="20679" y="20606"/>
                </a:lnTo>
                <a:lnTo>
                  <a:pt x="20875" y="19878"/>
                </a:lnTo>
                <a:lnTo>
                  <a:pt x="21052" y="18978"/>
                </a:lnTo>
                <a:lnTo>
                  <a:pt x="21209" y="17923"/>
                </a:lnTo>
                <a:lnTo>
                  <a:pt x="21343" y="16730"/>
                </a:lnTo>
                <a:lnTo>
                  <a:pt x="21452" y="15416"/>
                </a:lnTo>
                <a:lnTo>
                  <a:pt x="21533" y="13996"/>
                </a:lnTo>
                <a:lnTo>
                  <a:pt x="21583" y="12488"/>
                </a:lnTo>
                <a:lnTo>
                  <a:pt x="21600" y="10908"/>
                </a:lnTo>
                <a:lnTo>
                  <a:pt x="21600" y="10692"/>
                </a:lnTo>
                <a:lnTo>
                  <a:pt x="21583" y="9112"/>
                </a:lnTo>
                <a:lnTo>
                  <a:pt x="21533" y="7604"/>
                </a:lnTo>
                <a:lnTo>
                  <a:pt x="21452" y="6185"/>
                </a:lnTo>
                <a:lnTo>
                  <a:pt x="21343" y="4870"/>
                </a:lnTo>
                <a:lnTo>
                  <a:pt x="21209" y="3677"/>
                </a:lnTo>
                <a:lnTo>
                  <a:pt x="21052" y="2623"/>
                </a:lnTo>
                <a:lnTo>
                  <a:pt x="20875" y="1723"/>
                </a:lnTo>
                <a:lnTo>
                  <a:pt x="20679" y="994"/>
                </a:lnTo>
                <a:lnTo>
                  <a:pt x="20468" y="453"/>
                </a:lnTo>
                <a:lnTo>
                  <a:pt x="20243" y="116"/>
                </a:lnTo>
                <a:lnTo>
                  <a:pt x="20008"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86" name="PlaceHolder 1"/>
          <p:cNvSpPr>
            <a:spLocks noGrp="1"/>
          </p:cNvSpPr>
          <p:nvPr>
            <p:ph type="title"/>
          </p:nvPr>
        </p:nvSpPr>
        <p:spPr>
          <a:xfrm>
            <a:off x="429840" y="341280"/>
            <a:ext cx="6086520" cy="1371600"/>
          </a:xfrm>
          <a:prstGeom prst="rect">
            <a:avLst/>
          </a:prstGeom>
          <a:noFill/>
          <a:ln w="0">
            <a:noFill/>
          </a:ln>
        </p:spPr>
        <p:txBody>
          <a:bodyPr lIns="0" rIns="0" tIns="0" bIns="0" anchor="t">
            <a:noAutofit/>
          </a:bodyPr>
          <a:p>
            <a:pPr indent="0">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Lucida Sans"/>
              </a:rPr>
              <a:t>Rapport d’activités UMA CEA 2014-2016</a:t>
            </a:r>
            <a:endParaRPr b="1" lang="en-US" sz="3200" spc="-1" strike="noStrike">
              <a:solidFill>
                <a:srgbClr val="ffffff"/>
              </a:solidFill>
              <a:latin typeface="Lucida Sans"/>
            </a:endParaRPr>
          </a:p>
        </p:txBody>
      </p:sp>
      <p:sp>
        <p:nvSpPr>
          <p:cNvPr id="87" name="Rectangle 6"/>
          <p:cNvSpPr/>
          <p:nvPr/>
        </p:nvSpPr>
        <p:spPr>
          <a:xfrm>
            <a:off x="817884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Times New Roman"/>
              </a:rPr>
              <a:t>ECA</a:t>
            </a:r>
            <a:endParaRPr b="0" lang="en-US" sz="2700" spc="-1" strike="noStrike">
              <a:solidFill>
                <a:srgbClr val="000000"/>
              </a:solidFill>
              <a:latin typeface="Calibri"/>
            </a:endParaRPr>
          </a:p>
        </p:txBody>
      </p:sp>
      <p:sp>
        <p:nvSpPr>
          <p:cNvPr id="88" name="Rectangle 7"/>
          <p:cNvSpPr/>
          <p:nvPr/>
        </p:nvSpPr>
        <p:spPr>
          <a:xfrm>
            <a:off x="7562880" y="284040"/>
            <a:ext cx="574560" cy="478080"/>
          </a:xfrm>
          <a:prstGeom prst="rect">
            <a:avLst/>
          </a:prstGeom>
          <a:blipFill rotWithShape="0">
            <a:blip r:embed="rId2"/>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8"/>
          <p:cNvSpPr/>
          <p:nvPr/>
        </p:nvSpPr>
        <p:spPr>
          <a:xfrm>
            <a:off x="430200" y="1839960"/>
            <a:ext cx="52322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Lato"/>
                <a:ea typeface="Lato"/>
              </a:rPr>
              <a:t>Aziz Jaid</a:t>
            </a:r>
            <a:endParaRPr b="0" lang="en-US" sz="1700" spc="-1" strike="noStrike">
              <a:solidFill>
                <a:srgbClr val="000000"/>
              </a:solidFill>
              <a:latin typeface="Calibri"/>
            </a:endParaRPr>
          </a:p>
        </p:txBody>
      </p:sp>
      <p:sp>
        <p:nvSpPr>
          <p:cNvPr id="90" name="Rectangle 9"/>
          <p:cNvSpPr/>
          <p:nvPr/>
        </p:nvSpPr>
        <p:spPr>
          <a:xfrm>
            <a:off x="3303720" y="3367080"/>
            <a:ext cx="38383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ato"/>
                <a:ea typeface="Lato"/>
              </a:rPr>
              <a:t>Rabat, Maroc | </a:t>
            </a:r>
            <a:r>
              <a:rPr b="1" lang="en-US" sz="1900" spc="-1" strike="noStrike">
                <a:solidFill>
                  <a:srgbClr val="ffffff"/>
                </a:solidFill>
                <a:latin typeface="Gill Sans MT"/>
                <a:ea typeface="Lato"/>
              </a:rPr>
              <a:t>06.Déc</a:t>
            </a:r>
            <a:r>
              <a:rPr b="1" lang="en-US" sz="1900" spc="-1" strike="noStrike">
                <a:solidFill>
                  <a:srgbClr val="ffffff"/>
                </a:solidFill>
                <a:latin typeface="Gill Sans MT"/>
                <a:ea typeface="Gill Sans MT"/>
              </a:rPr>
              <a:t>.2016</a:t>
            </a:r>
            <a:endParaRPr b="0" lang="en-US" sz="1900" spc="-1" strike="noStrike">
              <a:solidFill>
                <a:srgbClr val="000000"/>
              </a:solidFill>
              <a:latin typeface="Calibri"/>
            </a:endParaRPr>
          </a:p>
        </p:txBody>
      </p:sp>
      <p:sp>
        <p:nvSpPr>
          <p:cNvPr id="91" name="Rectangle 10"/>
          <p:cNvSpPr/>
          <p:nvPr/>
        </p:nvSpPr>
        <p:spPr>
          <a:xfrm>
            <a:off x="3203640" y="2624040"/>
            <a:ext cx="4608360" cy="3834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Gill Sans MT"/>
                <a:ea typeface="Lato"/>
              </a:rPr>
              <a:t>Réunion de concertation </a:t>
            </a:r>
            <a:endParaRPr b="0" lang="en-US" sz="19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360160" y="2495520"/>
            <a:ext cx="4421160" cy="835200"/>
          </a:xfrm>
          <a:prstGeom prst="rect">
            <a:avLst/>
          </a:prstGeom>
          <a:noFill/>
          <a:ln w="0">
            <a:noFill/>
          </a:ln>
        </p:spPr>
        <p:txBody>
          <a:bodyPr lIns="0" rIns="0" tIns="0" bIns="0" anchor="t">
            <a:noAutofit/>
          </a:bodyPr>
          <a:p>
            <a:pPr indent="0">
              <a:lnSpc>
                <a:spcPts val="6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Lato"/>
                <a:ea typeface="Lato"/>
              </a:rPr>
              <a:t>Merci!</a:t>
            </a:r>
            <a:endParaRPr b="1" lang="en-US" sz="5500" spc="-1" strike="noStrike">
              <a:solidFill>
                <a:srgbClr val="ffffff"/>
              </a:solidFill>
              <a:latin typeface="Lucida Sans"/>
            </a:endParaRPr>
          </a:p>
        </p:txBody>
      </p:sp>
      <p:sp>
        <p:nvSpPr>
          <p:cNvPr id="197" name="Rectangle 2"/>
          <p:cNvSpPr/>
          <p:nvPr/>
        </p:nvSpPr>
        <p:spPr>
          <a:xfrm>
            <a:off x="8231040" y="18432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Times New Roman"/>
              </a:rPr>
              <a:t>ECA</a:t>
            </a:r>
            <a:endParaRPr b="0" lang="en-US" sz="2700" spc="-1" strike="noStrike">
              <a:solidFill>
                <a:srgbClr val="000000"/>
              </a:solidFill>
              <a:latin typeface="Calibri"/>
            </a:endParaRPr>
          </a:p>
        </p:txBody>
      </p:sp>
      <p:sp>
        <p:nvSpPr>
          <p:cNvPr id="198" name="Rectangle 3"/>
          <p:cNvSpPr/>
          <p:nvPr/>
        </p:nvSpPr>
        <p:spPr>
          <a:xfrm>
            <a:off x="7616880" y="171360"/>
            <a:ext cx="573120" cy="47952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4"/>
          <p:cNvSpPr/>
          <p:nvPr/>
        </p:nvSpPr>
        <p:spPr>
          <a:xfrm>
            <a:off x="2049480" y="4203720"/>
            <a:ext cx="6267600" cy="549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Lato"/>
                <a:ea typeface="Lato"/>
              </a:rPr>
              <a:t>ajaid@uneca.org</a:t>
            </a:r>
            <a:endParaRPr b="0" lang="en-US" sz="3600" spc="-1" strike="noStrike">
              <a:solidFill>
                <a:srgbClr val="000000"/>
              </a:solidFill>
              <a:latin typeface="Calibri"/>
            </a:endParaRPr>
          </a:p>
        </p:txBody>
      </p:sp>
      <p:sp>
        <p:nvSpPr>
          <p:cNvPr id="200" name="AutoShape 5"/>
          <p:cNvSpPr/>
          <p:nvPr/>
        </p:nvSpPr>
        <p:spPr>
          <a:xfrm>
            <a:off x="3924360" y="5302080"/>
            <a:ext cx="1293840" cy="443160"/>
          </a:xfrm>
          <a:custGeom>
            <a:avLst/>
            <a:gdLst>
              <a:gd name="textAreaLeft" fmla="*/ 0 w 1293840"/>
              <a:gd name="textAreaRight" fmla="*/ 1294200 w 1293840"/>
              <a:gd name="textAreaTop" fmla="*/ 0 h 443160"/>
              <a:gd name="textAreaBottom" fmla="*/ 443520 h 44316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7"/>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7"/>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201" name="Rectangle 6"/>
          <p:cNvSpPr/>
          <p:nvPr/>
        </p:nvSpPr>
        <p:spPr>
          <a:xfrm>
            <a:off x="4118040" y="5423040"/>
            <a:ext cx="9079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3"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94"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5"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6"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97"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98"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0"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01" name="Rectangle 11"/>
          <p:cNvSpPr/>
          <p:nvPr/>
        </p:nvSpPr>
        <p:spPr>
          <a:xfrm>
            <a:off x="279360" y="360360"/>
            <a:ext cx="25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Plan de la présentation</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02"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EB70-8542-43D3-8C3F-F4077FBF4C17}"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03"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4" name="Rectangle 1"/>
          <p:cNvSpPr/>
          <p:nvPr/>
        </p:nvSpPr>
        <p:spPr>
          <a:xfrm>
            <a:off x="900000" y="2276640"/>
            <a:ext cx="7344000" cy="2560680"/>
          </a:xfrm>
          <a:prstGeom prst="rect">
            <a:avLst/>
          </a:prstGeom>
          <a:noFill/>
          <a:ln w="0">
            <a:noFill/>
          </a:ln>
        </p:spPr>
        <p:style>
          <a:lnRef idx="0"/>
          <a:fillRef idx="0"/>
          <a:effectRef idx="0"/>
          <a:fontRef idx="minor"/>
        </p:style>
        <p:txBody>
          <a:bodyPr lIns="0" rIns="0" tIns="0" bIns="0" anchor="t">
            <a:spAutoFit/>
          </a:bodyPr>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Contexte</a:t>
            </a:r>
            <a:endParaRPr b="0" lang="en-US" sz="2100" spc="-1" strike="noStrike">
              <a:solidFill>
                <a:srgbClr val="000000"/>
              </a:solidFill>
              <a:latin typeface="Calibri"/>
            </a:endParaRPr>
          </a:p>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Capitalisation des acquis</a:t>
            </a:r>
            <a:endParaRPr b="0" lang="en-US" sz="2100" spc="-1" strike="noStrike">
              <a:solidFill>
                <a:srgbClr val="000000"/>
              </a:solidFill>
              <a:latin typeface="Calibri"/>
            </a:endParaRPr>
          </a:p>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Domaines d’intervention</a:t>
            </a:r>
            <a:endParaRPr b="0" lang="en-US" sz="21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Développement économique, commerce et promotion du secteur privé</a:t>
            </a:r>
            <a:endParaRPr b="0" lang="en-US" sz="21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Intégration des dimensions Genre et Migration dans l’agenda sous régional</a:t>
            </a:r>
            <a:endParaRPr b="0" lang="en-US" sz="2100" spc="-1" strike="noStrike">
              <a:solidFill>
                <a:srgbClr val="000000"/>
              </a:solidFill>
              <a:latin typeface="Calibri"/>
            </a:endParaRPr>
          </a:p>
          <a:p>
            <a:pPr marL="3826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Lato"/>
                <a:ea typeface="Lato"/>
              </a:rPr>
              <a:t>Conclusion</a:t>
            </a:r>
            <a:endParaRPr b="0" lang="en-US" sz="21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6"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07"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8"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09"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0"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11"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3"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14" name="Rectangle 11"/>
          <p:cNvSpPr/>
          <p:nvPr/>
        </p:nvSpPr>
        <p:spPr>
          <a:xfrm>
            <a:off x="279360" y="360360"/>
            <a:ext cx="2552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Contexte</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15"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3493-8B60-4BE1-8786-5D9DB23CDA9D}"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16"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7" name="Rectangle 1"/>
          <p:cNvSpPr/>
          <p:nvPr/>
        </p:nvSpPr>
        <p:spPr>
          <a:xfrm>
            <a:off x="611280" y="1341360"/>
            <a:ext cx="7632720" cy="447588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promotion de l’intégration régionale est un axe central du mandat de la CEA. Dans une continuité de l’appui de la Commission au projet africain d’intégration, inspiré du Plan d’action de Lagos, et structuré autour des objectifs du Traité d’Abuja, du Programme NEPAD et de la Vision 2063.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action des BSR AN est une composante à part entière de cette stratégie d’accompagnement</a:t>
            </a:r>
            <a:r>
              <a:rPr b="0" i="1" lang="fr-FR" sz="1400" spc="-1" strike="noStrike">
                <a:solidFill>
                  <a:srgbClr val="000000"/>
                </a:solidFill>
                <a:latin typeface="Calibri"/>
                <a:ea typeface="Calibri"/>
              </a:rPr>
              <a:t>.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BSR-AN et l’UMA ont signé un mémorandum d’entente le 14 janvier 2008 pour la formalisation de leur coopération bilatérale.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activités mises en œuvre 2014-2016 s’inscrivent dans une logique: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de prise en compte des nouveaux défis de la sous-région, dans le contexte des mutations politiques intervenues depuis 2011,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de recadrage de l’action de la CEA vers des recherches/analyses basées sur des données statistiques plus affinées, et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de capitalisation des acquis par la mise en œuvre des recommandations formulées lors des évaluations précédentes.</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fis et enjeux du développement du Maghreb</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Existence d’un diagnostic partagé entre les deux institutions sur les défis de la sous région (intégration régionale, migration, commerc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Au niveau continental: la construction de la Zone de libre-échange continentale pour laquelle l’UMA devrait jouer un rôle catalyseur au nom des pays maghrébins.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Au niveau global: le nouveau cadre de coopération pour le développement construit autour des Objectifs du Développement Durables 2030, mais intégrant également l’Agenda d’Action d’Addis Abeba (AAAA) et l’Agenda africain 2063.</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19"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20"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1"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2"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3"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24"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26"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27" name="Rectangle 11"/>
          <p:cNvSpPr/>
          <p:nvPr/>
        </p:nvSpPr>
        <p:spPr>
          <a:xfrm>
            <a:off x="279360" y="360360"/>
            <a:ext cx="25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Capitalisation des acquis</a:t>
            </a:r>
            <a:endParaRPr b="0" lang="en-US" sz="1800" spc="-1" strike="noStrike">
              <a:solidFill>
                <a:srgbClr val="000000"/>
              </a:solidFill>
              <a:latin typeface="Calibri"/>
            </a:endParaRPr>
          </a:p>
        </p:txBody>
      </p:sp>
      <p:sp>
        <p:nvSpPr>
          <p:cNvPr id="128"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B65F-0283-4B12-ADEF-01F339E19C00}"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29"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0" name="Rectangle 1"/>
          <p:cNvSpPr/>
          <p:nvPr/>
        </p:nvSpPr>
        <p:spPr>
          <a:xfrm>
            <a:off x="900000" y="2349360"/>
            <a:ext cx="7344000" cy="243972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activités mises en œuvre intègrent également les principales recommandations des processus d’évaluation précédents</a:t>
            </a:r>
            <a:endParaRPr b="0" lang="en-US" sz="20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dernière réunion d’évaluation (mai 2015) </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choix des thématiques d’intervention et des activités </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diagnostic et l’analyse prospective partagés </a:t>
            </a:r>
            <a:endParaRPr b="0" lang="en-US" sz="20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Une plus grande ouverture du champ de partenariat vers les autres agences du système des Nations Unies et les institutions internationales ou régionales</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2"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33"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4"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5"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6"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37"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39"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40" name="Rectangle 11"/>
          <p:cNvSpPr/>
          <p:nvPr/>
        </p:nvSpPr>
        <p:spPr>
          <a:xfrm>
            <a:off x="279360" y="360360"/>
            <a:ext cx="2552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omaines d’intervention</a:t>
            </a:r>
            <a:endParaRPr b="0" lang="en-US" sz="1800" spc="-1" strike="noStrike">
              <a:solidFill>
                <a:srgbClr val="000000"/>
              </a:solidFill>
              <a:latin typeface="Calibri"/>
            </a:endParaRPr>
          </a:p>
        </p:txBody>
      </p:sp>
      <p:sp>
        <p:nvSpPr>
          <p:cNvPr id="141"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8259-6779-4A65-BF6A-E4813DCA3F30}"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42"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3" name="Rectangle 1"/>
          <p:cNvSpPr/>
          <p:nvPr/>
        </p:nvSpPr>
        <p:spPr>
          <a:xfrm>
            <a:off x="900000" y="2492280"/>
            <a:ext cx="7344000" cy="2194920"/>
          </a:xfrm>
          <a:prstGeom prst="rect">
            <a:avLst/>
          </a:prstGeom>
          <a:noFill/>
          <a:ln w="0">
            <a:noFill/>
          </a:ln>
        </p:spPr>
        <p:style>
          <a:lnRef idx="0"/>
          <a:fillRef idx="0"/>
          <a:effectRef idx="0"/>
          <a:fontRef idx="minor"/>
        </p:style>
        <p:txBody>
          <a:bodyPr lIns="0" rIns="0" tIns="0" bIns="0" anchor="t">
            <a:sp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ccélération de l’intégration régionale dans ses dimensions développement économique, facilitation du commerce et promotion du secteur privé</a:t>
            </a:r>
            <a:endParaRPr b="0" lang="en-US" sz="24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s politiques ‘Genre’ et ‘Migration’ dans l’agenda sous régional </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5"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46"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7"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8"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49"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50"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52"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53" name="Rectangle 11"/>
          <p:cNvSpPr/>
          <p:nvPr/>
        </p:nvSpPr>
        <p:spPr>
          <a:xfrm>
            <a:off x="279360" y="360360"/>
            <a:ext cx="3571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éveloppement économique…</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54"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AD69-8162-4953-8B04-F3996E1A2EFD}"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55"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56" name="Rectangle 1"/>
          <p:cNvSpPr/>
          <p:nvPr/>
        </p:nvSpPr>
        <p:spPr>
          <a:xfrm>
            <a:off x="539640" y="981000"/>
            <a:ext cx="8280360" cy="511524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tégration régionale et secteurs porteurs dans l’espace UMA : Le développement des chaines de valeurs régionales (CVR)</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e table ronde des experts lors du XXIX° CIE + une étude technique sur les chaînes de valeurs régionales + une réunion d’experts + un colloque sur le thème : « Commerce, localisation des IDE et participation des pays méditerranéens aux chaînes de valeurs : Quelles retombées en termes de développement ?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Il est prévu, en termes de suivi, d’élaborer un projet pour le développement des CVR au niveau des secteurs ayant un fort potentiel dans la sous-région et un cadre stratégique de suivi évaluation</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technique et services-conseils à l’UM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e série de tables rondes nationales + une régionale pour soutenir la participation du secteur privé maghrébin aux actions climatiques, en particulier dans le cadre de la mise en œuvre des contributions nationales déterminées.</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a table ronde régionale a abouti à l'adoption de la Déclaration de l'UME. Cette Déclaration présentée et officiellement signée à la COP 22</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à la mise en œuvre du Programme d’action sous régional de lutte contre la désertification au Maghreb PASR-LCD (2011-2020)</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étude sur la rentabilité économique, sociale et environnementale des investissements stratégiques en matière de lutte contre la désertification finalisée.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Par ailleurs, le Bureau a fourni un appui substantif à la mission du </a:t>
            </a:r>
            <a:r>
              <a:rPr b="0" i="1" lang="fr-FR" sz="1400" spc="-1" strike="noStrike">
                <a:solidFill>
                  <a:srgbClr val="000000"/>
                </a:solidFill>
                <a:latin typeface="Calibri"/>
                <a:ea typeface="Calibri"/>
              </a:rPr>
              <a:t>Land Policy Initiative </a:t>
            </a:r>
            <a:r>
              <a:rPr b="0" lang="fr-FR" sz="1400" spc="-1" strike="noStrike">
                <a:solidFill>
                  <a:srgbClr val="000000"/>
                </a:solidFill>
                <a:latin typeface="Calibri"/>
                <a:ea typeface="Calibri"/>
              </a:rPr>
              <a:t>(LPI) auprès de l’UMA en contribuant à la définition des composantes du projet LPI-UMA pour une meilleure intégration des questions foncières au Maghreb.</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telier de formation sur les règles d’origine </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en faveur du Groupe de travail de l’UMA en charge de la préparation du protocole d’accord sur les règles d’origine</a:t>
            </a:r>
            <a:endParaRPr b="0" lang="en-US" sz="1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58"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59"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0"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1"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2"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63"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5"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66" name="Rectangle 11"/>
          <p:cNvSpPr/>
          <p:nvPr/>
        </p:nvSpPr>
        <p:spPr>
          <a:xfrm>
            <a:off x="279360" y="360360"/>
            <a:ext cx="3571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éveloppement économique…</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67"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A3BF-DF2B-4B07-9607-F9D31601975E}"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68"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69" name="Rectangle 1"/>
          <p:cNvSpPr/>
          <p:nvPr/>
        </p:nvSpPr>
        <p:spPr>
          <a:xfrm>
            <a:off x="900000" y="1341360"/>
            <a:ext cx="7344000" cy="447588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telier sur l’harmonisation des procédures douanières et l’échange de documents informatiques entre administrations douanières dans la région arab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atelier a offert l’occasion aux douanes de la région de bénéficier de l’expérience d’autres régions en matière d’harmonisation douanière et d’échanges de documents informatiques entre douane</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technique et services-conseils pour la mise en place d’un mécanisme de financement autonome de l’intégration au Maghreb</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e étude a proposé un nouveau système permettant une couverture optimale des besoins financiers actuels et futurs de l’UMA</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L’étude validée par les experts de l’UMA et des Etats membres</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tude et réunion d’experts sur le transport international et la facilitation du commerce</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Un plan d’action visant la simplification et l’harmonisation des formalités douanières et de transport-transit inter-états et la réduction des coûts directs et indirects des transactions commerciales</a:t>
            </a:r>
            <a:r>
              <a:rPr b="1" lang="fr-FR" sz="1400" spc="-1" strike="noStrike">
                <a:solidFill>
                  <a:srgbClr val="000000"/>
                </a:solidFill>
                <a:latin typeface="Calibri"/>
                <a:ea typeface="Calibri"/>
              </a:rPr>
              <a:t>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ui à l’UMA et aux Etats membres pour la mise en œuvre de l’Initiative BIAT/CFTA</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Calibri"/>
              </a:rPr>
              <a:t>Organisation et animation de deux ateliers régionaux pour la préparation du Plan d'action sous-régional BIAT. </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tude et réunion d’experts sur l’industrialisation par le commerce en Afrique du Nord dans le contexte de la Zone de Libre Echange Continentale et les Méga accords commerciaux</a:t>
            </a:r>
            <a:endParaRPr b="0" lang="en-US" sz="14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unions du Mécanisme  de coordination sous régionale MSRC-Afrique du Nord (2014, 2015 et 2016)</a:t>
            </a:r>
            <a:endParaRPr b="0" lang="en-US" sz="1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1"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72"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3"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4"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5"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76"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78"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79" name="Rectangle 11"/>
          <p:cNvSpPr/>
          <p:nvPr/>
        </p:nvSpPr>
        <p:spPr>
          <a:xfrm>
            <a:off x="279360" y="360360"/>
            <a:ext cx="2552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Dimensions sociales…</a:t>
            </a:r>
            <a:r>
              <a:rPr b="1" lang="en-US" sz="1800" spc="-1" strike="noStrike">
                <a:solidFill>
                  <a:srgbClr val="ffffff"/>
                </a:solidFill>
                <a:latin typeface="Lato"/>
                <a:ea typeface="Lato"/>
              </a:rPr>
              <a:t> </a:t>
            </a:r>
            <a:endParaRPr b="0" lang="en-US" sz="1800" spc="-1" strike="noStrike">
              <a:solidFill>
                <a:srgbClr val="000000"/>
              </a:solidFill>
              <a:latin typeface="Calibri"/>
            </a:endParaRPr>
          </a:p>
        </p:txBody>
      </p:sp>
      <p:sp>
        <p:nvSpPr>
          <p:cNvPr id="180"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77E6-9EB7-486A-BF71-361C30172D1B}"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81"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2" name="Rectangle 1"/>
          <p:cNvSpPr/>
          <p:nvPr/>
        </p:nvSpPr>
        <p:spPr>
          <a:xfrm>
            <a:off x="900000" y="2276640"/>
            <a:ext cx="7344000" cy="2008080"/>
          </a:xfrm>
          <a:prstGeom prst="rect">
            <a:avLst/>
          </a:prstGeom>
          <a:noFill/>
          <a:ln w="0">
            <a:noFill/>
          </a:ln>
        </p:spPr>
        <p:style>
          <a:lnRef idx="0"/>
          <a:fillRef idx="0"/>
          <a:effectRef idx="0"/>
          <a:fontRef idx="minor"/>
        </p:style>
        <p:txBody>
          <a:bodyPr lIns="0" rIns="0" tIns="0" bIns="0" anchor="t">
            <a:spAutoFit/>
          </a:bodyPr>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tude et réunion d’experts pour l’intégration de la migration dans les processus de développement</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Réponse à l’une des recommandations majeures du 2ème Dialogue de haut niveau des Nations Unies sur les migrations, à savoir l’amélioration de l'impact des transferts de fonds sur le développement des pays membres.</a:t>
            </a:r>
            <a:endParaRPr b="0" lang="en-US" sz="12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Deux études nationales (Maroc et Tunisie) + deux ateliers régionaux</a:t>
            </a:r>
            <a:endParaRPr b="0" lang="en-US" sz="1200" spc="-1" strike="noStrike">
              <a:solidFill>
                <a:srgbClr val="000000"/>
              </a:solidFill>
              <a:latin typeface="Calibri"/>
            </a:endParaRPr>
          </a:p>
          <a:p>
            <a:pPr marL="3254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ui à l’élaboration d’une stratégie Genre pour l’UMA</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Prise en compte effective de l’approche genre tant dans son programme de travail que dans son fonctionnement interne</a:t>
            </a:r>
            <a:endParaRPr b="0" lang="en-US" sz="1200" spc="-1" strike="noStrike">
              <a:solidFill>
                <a:srgbClr val="000000"/>
              </a:solidFill>
              <a:latin typeface="Calibri"/>
            </a:endParaRPr>
          </a:p>
          <a:p>
            <a:pPr marL="3254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6135840"/>
            <a:ext cx="6026040" cy="442800"/>
          </a:xfrm>
          <a:custGeom>
            <a:avLst/>
            <a:gdLst>
              <a:gd name="textAreaLeft" fmla="*/ 0 w 6026040"/>
              <a:gd name="textAreaRight" fmla="*/ 6026400 w 6026040"/>
              <a:gd name="textAreaTop" fmla="*/ 0 h 442800"/>
              <a:gd name="textAreaBottom" fmla="*/ 443160 h 442800"/>
            </a:gdLst>
            <a:ahLst/>
            <a:rect l="textAreaLeft" t="textAreaTop" r="textAreaRight" b="textAreaBottom"/>
            <a:pathLst>
              <a:path w="21600" h="21600">
                <a:moveTo>
                  <a:pt x="20929" y="0"/>
                </a:moveTo>
                <a:lnTo>
                  <a:pt x="0" y="0"/>
                </a:lnTo>
                <a:lnTo>
                  <a:pt x="0" y="21600"/>
                </a:lnTo>
                <a:lnTo>
                  <a:pt x="20929" y="21600"/>
                </a:lnTo>
                <a:lnTo>
                  <a:pt x="21107" y="21274"/>
                </a:lnTo>
                <a:lnTo>
                  <a:pt x="21268" y="20353"/>
                </a:lnTo>
                <a:lnTo>
                  <a:pt x="21404" y="18924"/>
                </a:lnTo>
                <a:lnTo>
                  <a:pt x="21508" y="17076"/>
                </a:lnTo>
                <a:lnTo>
                  <a:pt x="21576" y="14893"/>
                </a:lnTo>
                <a:lnTo>
                  <a:pt x="21600" y="12465"/>
                </a:lnTo>
                <a:lnTo>
                  <a:pt x="21600" y="9135"/>
                </a:lnTo>
                <a:lnTo>
                  <a:pt x="21576" y="6707"/>
                </a:lnTo>
                <a:lnTo>
                  <a:pt x="21508" y="4524"/>
                </a:lnTo>
                <a:lnTo>
                  <a:pt x="21404" y="2676"/>
                </a:lnTo>
                <a:lnTo>
                  <a:pt x="21268" y="1247"/>
                </a:lnTo>
                <a:lnTo>
                  <a:pt x="21107" y="326"/>
                </a:lnTo>
                <a:lnTo>
                  <a:pt x="20929"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4" name="Rectangle 3"/>
          <p:cNvSpPr/>
          <p:nvPr/>
        </p:nvSpPr>
        <p:spPr>
          <a:xfrm>
            <a:off x="324000" y="6237360"/>
            <a:ext cx="532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ato"/>
                <a:ea typeface="Lato"/>
              </a:rPr>
              <a:t>Rapport d’activités UMA CEA 2014-2016 </a:t>
            </a:r>
            <a:endParaRPr b="0" lang="en-US" sz="1600" spc="-1" strike="noStrike">
              <a:solidFill>
                <a:srgbClr val="000000"/>
              </a:solidFill>
              <a:latin typeface="Calibri"/>
            </a:endParaRPr>
          </a:p>
        </p:txBody>
      </p:sp>
      <p:sp>
        <p:nvSpPr>
          <p:cNvPr id="185" name="AutoShape 4"/>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6" name="AutoShape 5"/>
          <p:cNvSpPr/>
          <p:nvPr/>
        </p:nvSpPr>
        <p:spPr>
          <a:xfrm>
            <a:off x="0" y="0"/>
            <a:ext cx="9131400" cy="6845400"/>
          </a:xfrm>
          <a:custGeom>
            <a:avLst/>
            <a:gdLst>
              <a:gd name="textAreaLeft" fmla="*/ 0 w 9131400"/>
              <a:gd name="textAreaRight" fmla="*/ 9131760 w 9131400"/>
              <a:gd name="textAreaTop" fmla="*/ 0 h 6845400"/>
              <a:gd name="textAreaBottom" fmla="*/ 6845760 h 6845400"/>
            </a:gdLst>
            <a:ahLst/>
            <a:rect l="textAreaLeft" t="textAreaTop" r="textAreaRight" b="textAreaBottom"/>
            <a:pathLst>
              <a:path w="21600" h="21600">
                <a:moveTo>
                  <a:pt x="0" y="21600"/>
                </a:moveTo>
                <a:lnTo>
                  <a:pt x="0" y="0"/>
                </a:lnTo>
                <a:lnTo>
                  <a:pt x="21600" y="0"/>
                </a:lnTo>
              </a:path>
            </a:pathLst>
          </a:custGeom>
          <a:noFill/>
          <a:ln w="3240">
            <a:solidFill>
              <a:srgbClr val="7b7b7b"/>
            </a:solidFill>
            <a:round/>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7" name="AutoShape 6"/>
          <p:cNvSpPr/>
          <p:nvPr/>
        </p:nvSpPr>
        <p:spPr>
          <a:xfrm>
            <a:off x="0" y="290520"/>
            <a:ext cx="4475160" cy="441360"/>
          </a:xfrm>
          <a:custGeom>
            <a:avLst/>
            <a:gdLst>
              <a:gd name="textAreaLeft" fmla="*/ 0 w 4475160"/>
              <a:gd name="textAreaRight" fmla="*/ 4475520 w 4475160"/>
              <a:gd name="textAreaTop" fmla="*/ 0 h 441360"/>
              <a:gd name="textAreaBottom" fmla="*/ 441720 h 441360"/>
            </a:gdLst>
            <a:ahLst/>
            <a:rect l="textAreaLeft" t="textAreaTop" r="textAreaRight" b="textAreaBottom"/>
            <a:pathLst>
              <a:path w="21600" h="21600">
                <a:moveTo>
                  <a:pt x="20694" y="0"/>
                </a:moveTo>
                <a:lnTo>
                  <a:pt x="115" y="0"/>
                </a:lnTo>
                <a:lnTo>
                  <a:pt x="0" y="157"/>
                </a:lnTo>
                <a:lnTo>
                  <a:pt x="0" y="21443"/>
                </a:lnTo>
                <a:lnTo>
                  <a:pt x="115" y="21600"/>
                </a:lnTo>
                <a:lnTo>
                  <a:pt x="20694" y="21600"/>
                </a:lnTo>
                <a:lnTo>
                  <a:pt x="20935" y="21272"/>
                </a:lnTo>
                <a:lnTo>
                  <a:pt x="21151" y="20346"/>
                </a:lnTo>
                <a:lnTo>
                  <a:pt x="21335" y="18910"/>
                </a:lnTo>
                <a:lnTo>
                  <a:pt x="21476" y="17052"/>
                </a:lnTo>
                <a:lnTo>
                  <a:pt x="21568" y="14858"/>
                </a:lnTo>
                <a:lnTo>
                  <a:pt x="21600" y="12416"/>
                </a:lnTo>
                <a:lnTo>
                  <a:pt x="21600" y="9183"/>
                </a:lnTo>
                <a:lnTo>
                  <a:pt x="21568" y="6742"/>
                </a:lnTo>
                <a:lnTo>
                  <a:pt x="21476" y="4549"/>
                </a:lnTo>
                <a:lnTo>
                  <a:pt x="21335" y="2690"/>
                </a:lnTo>
                <a:lnTo>
                  <a:pt x="21151" y="1254"/>
                </a:lnTo>
                <a:lnTo>
                  <a:pt x="20935" y="328"/>
                </a:lnTo>
                <a:lnTo>
                  <a:pt x="20694" y="0"/>
                </a:lnTo>
                <a:close/>
              </a:path>
            </a:pathLst>
          </a:custGeom>
          <a:solidFill>
            <a:srgbClr val="44ae6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88" name="Rectangle 7"/>
          <p:cNvSpPr/>
          <p:nvPr/>
        </p:nvSpPr>
        <p:spPr>
          <a:xfrm>
            <a:off x="8123400" y="297000"/>
            <a:ext cx="7556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85c1"/>
                </a:solidFill>
                <a:latin typeface="Times New Roman"/>
                <a:ea typeface="Times New Roman"/>
              </a:rPr>
              <a:t>ECA</a:t>
            </a:r>
            <a:endParaRPr b="0" lang="en-US" sz="2700" spc="-1" strike="noStrike">
              <a:solidFill>
                <a:srgbClr val="000000"/>
              </a:solidFill>
              <a:latin typeface="Calibri"/>
            </a:endParaRPr>
          </a:p>
        </p:txBody>
      </p:sp>
      <p:sp>
        <p:nvSpPr>
          <p:cNvPr id="189" name="Rectangle 8"/>
          <p:cNvSpPr/>
          <p:nvPr/>
        </p:nvSpPr>
        <p:spPr>
          <a:xfrm>
            <a:off x="7508880" y="284040"/>
            <a:ext cx="573120" cy="478080"/>
          </a:xfrm>
          <a:prstGeom prst="rect">
            <a:avLst/>
          </a:prstGeom>
          <a:blipFill rotWithShape="0">
            <a:blip r:embed="rId1"/>
            <a:srcRect/>
            <a:stretch/>
          </a:blipFill>
          <a:ln w="0">
            <a:noFill/>
          </a:ln>
        </p:spPr>
        <p:style>
          <a:lnRef idx="0"/>
          <a:fillRef idx="0"/>
          <a:effectRef idx="0"/>
          <a:fontRef idx="minor"/>
        </p:style>
        <p:txBody>
          <a:bodyPr lIns="45720" rIns="45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AutoShape 9"/>
          <p:cNvSpPr/>
          <p:nvPr/>
        </p:nvSpPr>
        <p:spPr>
          <a:xfrm>
            <a:off x="6121440" y="6135840"/>
            <a:ext cx="1292040" cy="441000"/>
          </a:xfrm>
          <a:custGeom>
            <a:avLst/>
            <a:gdLst>
              <a:gd name="textAreaLeft" fmla="*/ 0 w 1292040"/>
              <a:gd name="textAreaRight" fmla="*/ 1292400 w 1292040"/>
              <a:gd name="textAreaTop" fmla="*/ 0 h 441000"/>
              <a:gd name="textAreaBottom" fmla="*/ 441360 h 441000"/>
            </a:gdLst>
            <a:ahLst/>
            <a:rect l="textAreaLeft" t="textAreaTop" r="textAreaRight" b="textAreaBottom"/>
            <a:pathLst>
              <a:path w="21600" h="21600">
                <a:moveTo>
                  <a:pt x="18463" y="0"/>
                </a:moveTo>
                <a:lnTo>
                  <a:pt x="3137" y="0"/>
                </a:lnTo>
                <a:lnTo>
                  <a:pt x="2303" y="328"/>
                </a:lnTo>
                <a:lnTo>
                  <a:pt x="1554" y="1254"/>
                </a:lnTo>
                <a:lnTo>
                  <a:pt x="919" y="2690"/>
                </a:lnTo>
                <a:lnTo>
                  <a:pt x="428" y="4549"/>
                </a:lnTo>
                <a:lnTo>
                  <a:pt x="112" y="6742"/>
                </a:lnTo>
                <a:lnTo>
                  <a:pt x="0" y="9183"/>
                </a:lnTo>
                <a:lnTo>
                  <a:pt x="0" y="12416"/>
                </a:lnTo>
                <a:lnTo>
                  <a:pt x="112" y="14858"/>
                </a:lnTo>
                <a:lnTo>
                  <a:pt x="428" y="17052"/>
                </a:lnTo>
                <a:lnTo>
                  <a:pt x="919" y="18910"/>
                </a:lnTo>
                <a:lnTo>
                  <a:pt x="1554" y="20346"/>
                </a:lnTo>
                <a:lnTo>
                  <a:pt x="2303" y="21272"/>
                </a:lnTo>
                <a:lnTo>
                  <a:pt x="3137" y="21600"/>
                </a:lnTo>
                <a:lnTo>
                  <a:pt x="18463" y="21600"/>
                </a:lnTo>
                <a:lnTo>
                  <a:pt x="19297" y="21272"/>
                </a:lnTo>
                <a:lnTo>
                  <a:pt x="20047" y="20346"/>
                </a:lnTo>
                <a:lnTo>
                  <a:pt x="20681" y="18910"/>
                </a:lnTo>
                <a:lnTo>
                  <a:pt x="21172" y="17052"/>
                </a:lnTo>
                <a:lnTo>
                  <a:pt x="21488" y="14858"/>
                </a:lnTo>
                <a:lnTo>
                  <a:pt x="21600" y="12416"/>
                </a:lnTo>
                <a:lnTo>
                  <a:pt x="21600" y="9183"/>
                </a:lnTo>
                <a:lnTo>
                  <a:pt x="21488" y="6742"/>
                </a:lnTo>
                <a:lnTo>
                  <a:pt x="21172" y="4549"/>
                </a:lnTo>
                <a:lnTo>
                  <a:pt x="20681" y="2690"/>
                </a:lnTo>
                <a:lnTo>
                  <a:pt x="20047" y="1254"/>
                </a:lnTo>
                <a:lnTo>
                  <a:pt x="19297" y="328"/>
                </a:lnTo>
                <a:lnTo>
                  <a:pt x="18463" y="0"/>
                </a:lnTo>
                <a:close/>
              </a:path>
            </a:pathLst>
          </a:custGeom>
          <a:solidFill>
            <a:srgbClr val="399d5c"/>
          </a:solid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91" name="Rectangle 10"/>
          <p:cNvSpPr/>
          <p:nvPr/>
        </p:nvSpPr>
        <p:spPr>
          <a:xfrm>
            <a:off x="6313320" y="6256440"/>
            <a:ext cx="908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NECA.ORG</a:t>
            </a:r>
            <a:endParaRPr b="0" lang="en-US" sz="1200" spc="-1" strike="noStrike">
              <a:solidFill>
                <a:srgbClr val="000000"/>
              </a:solidFill>
              <a:latin typeface="Calibri"/>
            </a:endParaRPr>
          </a:p>
        </p:txBody>
      </p:sp>
      <p:sp>
        <p:nvSpPr>
          <p:cNvPr id="192" name="Rectangle 11"/>
          <p:cNvSpPr/>
          <p:nvPr/>
        </p:nvSpPr>
        <p:spPr>
          <a:xfrm>
            <a:off x="279360" y="360360"/>
            <a:ext cx="2552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ato"/>
                <a:ea typeface="Lato"/>
              </a:rPr>
              <a:t>Conclusion</a:t>
            </a:r>
            <a:endParaRPr b="0" lang="en-US" sz="1800" spc="-1" strike="noStrike">
              <a:solidFill>
                <a:srgbClr val="000000"/>
              </a:solidFill>
              <a:latin typeface="Calibri"/>
            </a:endParaRPr>
          </a:p>
        </p:txBody>
      </p:sp>
      <p:sp>
        <p:nvSpPr>
          <p:cNvPr id="193" name="Rectangle 12"/>
          <p:cNvSpPr/>
          <p:nvPr/>
        </p:nvSpPr>
        <p:spPr>
          <a:xfrm>
            <a:off x="4659480" y="414360"/>
            <a:ext cx="56016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2962-2596-4A68-A029-CF7FFDB5A44B}" type="slidenum">
              <a:rPr b="1" lang="en-US" sz="1600" spc="-1" strike="noStrike">
                <a:solidFill>
                  <a:srgbClr val="399d5c"/>
                </a:solidFill>
                <a:latin typeface="Lucida Sans"/>
                <a:ea typeface="Lucida Sans"/>
              </a:rPr>
              <a:t>&lt;number&gt;</a:t>
            </a:fld>
            <a:endParaRPr b="0" lang="en-US" sz="1600" spc="-1" strike="noStrike">
              <a:solidFill>
                <a:srgbClr val="000000"/>
              </a:solidFill>
              <a:latin typeface="Calibri"/>
            </a:endParaRPr>
          </a:p>
        </p:txBody>
      </p:sp>
      <p:sp>
        <p:nvSpPr>
          <p:cNvPr id="194" name="Line 13"/>
          <p:cNvSpPr/>
          <p:nvPr/>
        </p:nvSpPr>
        <p:spPr>
          <a:xfrm>
            <a:off x="0" y="6851520"/>
            <a:ext cx="9144000" cy="0"/>
          </a:xfrm>
          <a:prstGeom prst="line">
            <a:avLst/>
          </a:prstGeom>
          <a:ln w="12600">
            <a:solidFill>
              <a:srgbClr val="666666"/>
            </a:solidFill>
            <a:miter/>
          </a:ln>
        </p:spPr>
        <p:style>
          <a:lnRef idx="0"/>
          <a:fillRef idx="0"/>
          <a:effectRef idx="0"/>
          <a:fontRef idx="minor"/>
        </p:style>
        <p:txBody>
          <a:bodyPr lIns="45720" rIns="45720" tIns="-46800" bIns="-46800" anchor="t">
            <a:noAutofit/>
          </a:bodyPr>
          <a:p>
            <a:endParaRPr b="0" lang="en-US" sz="1800" spc="-1" strike="noStrike">
              <a:solidFill>
                <a:srgbClr val="000000"/>
              </a:solidFill>
              <a:latin typeface="Calibri"/>
            </a:endParaRPr>
          </a:p>
        </p:txBody>
      </p:sp>
      <p:sp>
        <p:nvSpPr>
          <p:cNvPr id="195" name="Rectangle 1"/>
          <p:cNvSpPr/>
          <p:nvPr/>
        </p:nvSpPr>
        <p:spPr>
          <a:xfrm>
            <a:off x="971640" y="2349360"/>
            <a:ext cx="7345440" cy="2744640"/>
          </a:xfrm>
          <a:prstGeom prst="rect">
            <a:avLst/>
          </a:prstGeom>
          <a:noFill/>
          <a:ln w="0">
            <a:noFill/>
          </a:ln>
        </p:spPr>
        <p:style>
          <a:lnRef idx="0"/>
          <a:fillRef idx="0"/>
          <a:effectRef idx="0"/>
          <a:fontRef idx="minor"/>
        </p:style>
        <p:txBody>
          <a:bodyPr lIns="0" rIns="0" tIns="0" bIns="0" anchor="t">
            <a:sp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 important d’activités</a:t>
            </a:r>
            <a:endParaRPr b="0" lang="en-US" sz="20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tivités conjointes et d’intérêt commun aux deux institutions et au profit des pays membres et du processus d’intégration maghrébine.</a:t>
            </a:r>
            <a:endParaRPr b="0" lang="en-US" sz="20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axes de collaboration appelés à être examinés, confirmés ou revus dans la perspective d’un partenariat dynamique et adapté aux défis et opportunités de développement de la sous-région. </a:t>
            </a:r>
            <a:endParaRPr b="0" lang="en-US" sz="2000" spc="-1" strike="noStrike">
              <a:solidFill>
                <a:srgbClr val="000000"/>
              </a:solidFill>
              <a:latin typeface="Calibri"/>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dialogue constant entre les deux institutions permettra de définir ces axes et d’en déduire les activités futures.</a:t>
            </a: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ziz Jaid</dc:creator>
  <dc:description/>
  <dc:language>en-US</dc:language>
  <cp:lastModifiedBy>Aziz Jaid</cp:lastModifiedBy>
  <dcterms:modified xsi:type="dcterms:W3CDTF">2016-12-01T08:22:35Z</dcterms:modified>
  <cp:revision>9</cp:revision>
  <dc:subject/>
  <dc:title>TITLE OF THE  PRESENTATION</dc:title>
</cp:coreProperties>
</file>