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A08D36-2469-47E7-AAB1-51AEC5B2B9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360160" y="2495520"/>
            <a:ext cx="4421160" cy="83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Lucida Sans"/>
            </a:endParaRPr>
          </a:p>
        </p:txBody>
      </p:sp>
      <p:sp>
        <p:nvSpPr>
          <p:cNvPr id="25" name="PlaceHolder 2"/>
          <p:cNvSpPr>
            <a:spLocks noGrp="1"/>
          </p:cNvSpPr>
          <p:nvPr>
            <p:ph/>
          </p:nvPr>
        </p:nvSpPr>
        <p:spPr>
          <a:xfrm>
            <a:off x="1371600" y="3839760"/>
            <a:ext cx="640080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 name="PlaceHolder 3"/>
          <p:cNvSpPr>
            <a:spLocks noGrp="1"/>
          </p:cNvSpPr>
          <p:nvPr>
            <p:ph/>
          </p:nvPr>
        </p:nvSpPr>
        <p:spPr>
          <a:xfrm>
            <a:off x="1371600" y="4735440"/>
            <a:ext cx="640080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sldNum" idx="1"/>
          </p:nvPr>
        </p:nvSpPr>
        <p:spPr/>
        <p:txBody>
          <a:bodyPr/>
          <a:p>
            <a:fld id="{A12022CA-8C53-4F93-86CC-FE6CAB473C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0160" y="2495520"/>
            <a:ext cx="4421160" cy="83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Lucida Sans"/>
            </a:endParaRPr>
          </a:p>
        </p:txBody>
      </p:sp>
      <p:sp>
        <p:nvSpPr>
          <p:cNvPr id="28" name="PlaceHolder 2"/>
          <p:cNvSpPr>
            <a:spLocks noGrp="1"/>
          </p:cNvSpPr>
          <p:nvPr>
            <p:ph/>
          </p:nvPr>
        </p:nvSpPr>
        <p:spPr>
          <a:xfrm>
            <a:off x="1371600" y="3839760"/>
            <a:ext cx="312336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 name="PlaceHolder 3"/>
          <p:cNvSpPr>
            <a:spLocks noGrp="1"/>
          </p:cNvSpPr>
          <p:nvPr>
            <p:ph/>
          </p:nvPr>
        </p:nvSpPr>
        <p:spPr>
          <a:xfrm>
            <a:off x="4651560" y="3839760"/>
            <a:ext cx="312336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 name="PlaceHolder 4"/>
          <p:cNvSpPr>
            <a:spLocks noGrp="1"/>
          </p:cNvSpPr>
          <p:nvPr>
            <p:ph/>
          </p:nvPr>
        </p:nvSpPr>
        <p:spPr>
          <a:xfrm>
            <a:off x="1371600" y="4735440"/>
            <a:ext cx="312336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5"/>
          <p:cNvSpPr>
            <a:spLocks noGrp="1"/>
          </p:cNvSpPr>
          <p:nvPr>
            <p:ph/>
          </p:nvPr>
        </p:nvSpPr>
        <p:spPr>
          <a:xfrm>
            <a:off x="4651560" y="4735440"/>
            <a:ext cx="312336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sldNum" idx="1"/>
          </p:nvPr>
        </p:nvSpPr>
        <p:spPr/>
        <p:txBody>
          <a:bodyPr/>
          <a:p>
            <a:fld id="{ECC1A9EC-2AB6-4C4A-B886-82CEB5D05D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360160" y="2495520"/>
            <a:ext cx="4421160" cy="83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Lucida Sans"/>
            </a:endParaRPr>
          </a:p>
        </p:txBody>
      </p:sp>
      <p:sp>
        <p:nvSpPr>
          <p:cNvPr id="33" name="PlaceHolder 2"/>
          <p:cNvSpPr>
            <a:spLocks noGrp="1"/>
          </p:cNvSpPr>
          <p:nvPr>
            <p:ph/>
          </p:nvPr>
        </p:nvSpPr>
        <p:spPr>
          <a:xfrm>
            <a:off x="1371600" y="3839760"/>
            <a:ext cx="206064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 name="PlaceHolder 3"/>
          <p:cNvSpPr>
            <a:spLocks noGrp="1"/>
          </p:cNvSpPr>
          <p:nvPr>
            <p:ph/>
          </p:nvPr>
        </p:nvSpPr>
        <p:spPr>
          <a:xfrm>
            <a:off x="3535560" y="3839760"/>
            <a:ext cx="206064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 name="PlaceHolder 4"/>
          <p:cNvSpPr>
            <a:spLocks noGrp="1"/>
          </p:cNvSpPr>
          <p:nvPr>
            <p:ph/>
          </p:nvPr>
        </p:nvSpPr>
        <p:spPr>
          <a:xfrm>
            <a:off x="5699880" y="3839760"/>
            <a:ext cx="206064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5"/>
          <p:cNvSpPr>
            <a:spLocks noGrp="1"/>
          </p:cNvSpPr>
          <p:nvPr>
            <p:ph/>
          </p:nvPr>
        </p:nvSpPr>
        <p:spPr>
          <a:xfrm>
            <a:off x="1371600" y="4735440"/>
            <a:ext cx="206064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6"/>
          <p:cNvSpPr>
            <a:spLocks noGrp="1"/>
          </p:cNvSpPr>
          <p:nvPr>
            <p:ph/>
          </p:nvPr>
        </p:nvSpPr>
        <p:spPr>
          <a:xfrm>
            <a:off x="3535560" y="4735440"/>
            <a:ext cx="206064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7"/>
          <p:cNvSpPr>
            <a:spLocks noGrp="1"/>
          </p:cNvSpPr>
          <p:nvPr>
            <p:ph/>
          </p:nvPr>
        </p:nvSpPr>
        <p:spPr>
          <a:xfrm>
            <a:off x="5699880" y="4735440"/>
            <a:ext cx="206064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sldNum" idx="1"/>
          </p:nvPr>
        </p:nvSpPr>
        <p:spPr/>
        <p:txBody>
          <a:bodyPr/>
          <a:p>
            <a:fld id="{2A8640C0-8B5E-460D-AE42-18A97D1CBE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6634D6-EDF6-45A3-BA0D-F4012C2C1A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360160" y="2495520"/>
            <a:ext cx="4421160" cy="83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Lucida Sans"/>
            </a:endParaRPr>
          </a:p>
        </p:txBody>
      </p:sp>
      <p:sp>
        <p:nvSpPr>
          <p:cNvPr id="44" name="PlaceHolder 2"/>
          <p:cNvSpPr>
            <a:spLocks noGrp="1"/>
          </p:cNvSpPr>
          <p:nvPr>
            <p:ph type="subTitle"/>
          </p:nvPr>
        </p:nvSpPr>
        <p:spPr>
          <a:xfrm>
            <a:off x="1371600" y="3839760"/>
            <a:ext cx="6400800" cy="1714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2"/>
          </p:nvPr>
        </p:nvSpPr>
        <p:spPr/>
        <p:txBody>
          <a:bodyPr/>
          <a:p>
            <a:fld id="{55E28A1A-58A8-4296-A9BE-0B20C89F2E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360160" y="2495520"/>
            <a:ext cx="4421160" cy="83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Lucida Sans"/>
            </a:endParaRPr>
          </a:p>
        </p:txBody>
      </p:sp>
      <p:sp>
        <p:nvSpPr>
          <p:cNvPr id="46" name="PlaceHolder 2"/>
          <p:cNvSpPr>
            <a:spLocks noGrp="1"/>
          </p:cNvSpPr>
          <p:nvPr>
            <p:ph/>
          </p:nvPr>
        </p:nvSpPr>
        <p:spPr>
          <a:xfrm>
            <a:off x="1371600" y="3839760"/>
            <a:ext cx="6400800" cy="1714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2"/>
          </p:nvPr>
        </p:nvSpPr>
        <p:spPr/>
        <p:txBody>
          <a:bodyPr/>
          <a:p>
            <a:fld id="{98997D40-40BF-4BA7-A796-0545C640BF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360160" y="2495520"/>
            <a:ext cx="4421160" cy="83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Lucida Sans"/>
            </a:endParaRPr>
          </a:p>
        </p:txBody>
      </p:sp>
      <p:sp>
        <p:nvSpPr>
          <p:cNvPr id="48" name="PlaceHolder 2"/>
          <p:cNvSpPr>
            <a:spLocks noGrp="1"/>
          </p:cNvSpPr>
          <p:nvPr>
            <p:ph/>
          </p:nvPr>
        </p:nvSpPr>
        <p:spPr>
          <a:xfrm>
            <a:off x="1371600" y="3839760"/>
            <a:ext cx="3123360" cy="1714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3"/>
          <p:cNvSpPr>
            <a:spLocks noGrp="1"/>
          </p:cNvSpPr>
          <p:nvPr>
            <p:ph/>
          </p:nvPr>
        </p:nvSpPr>
        <p:spPr>
          <a:xfrm>
            <a:off x="4651560" y="3839760"/>
            <a:ext cx="3123360" cy="1714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sldNum" idx="2"/>
          </p:nvPr>
        </p:nvSpPr>
        <p:spPr/>
        <p:txBody>
          <a:bodyPr/>
          <a:p>
            <a:fld id="{CB8786F0-4038-46CD-B9B5-1A0B6AAFF9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360160" y="2495520"/>
            <a:ext cx="4421160" cy="83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Lucida Sans"/>
            </a:endParaRPr>
          </a:p>
        </p:txBody>
      </p:sp>
      <p:sp>
        <p:nvSpPr>
          <p:cNvPr id="3" name="PlaceHolder 2"/>
          <p:cNvSpPr>
            <a:spLocks noGrp="1"/>
          </p:cNvSpPr>
          <p:nvPr>
            <p:ph type="sldNum" idx="2"/>
          </p:nvPr>
        </p:nvSpPr>
        <p:spPr/>
        <p:txBody>
          <a:bodyPr/>
          <a:p>
            <a:fld id="{93F10EB5-F189-4DB4-AC44-B50C5A3C7B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360160" y="2495520"/>
            <a:ext cx="4421160" cy="3872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sldNum" idx="2"/>
          </p:nvPr>
        </p:nvSpPr>
        <p:spPr/>
        <p:txBody>
          <a:bodyPr/>
          <a:p>
            <a:fld id="{BB522B98-BC8B-44CE-8401-EBFEFB335C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60160" y="2495520"/>
            <a:ext cx="4421160" cy="83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Lucida Sans"/>
            </a:endParaRPr>
          </a:p>
        </p:txBody>
      </p:sp>
      <p:sp>
        <p:nvSpPr>
          <p:cNvPr id="53" name="PlaceHolder 2"/>
          <p:cNvSpPr>
            <a:spLocks noGrp="1"/>
          </p:cNvSpPr>
          <p:nvPr>
            <p:ph/>
          </p:nvPr>
        </p:nvSpPr>
        <p:spPr>
          <a:xfrm>
            <a:off x="1371600" y="3839760"/>
            <a:ext cx="312336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PlaceHolder 3"/>
          <p:cNvSpPr>
            <a:spLocks noGrp="1"/>
          </p:cNvSpPr>
          <p:nvPr>
            <p:ph/>
          </p:nvPr>
        </p:nvSpPr>
        <p:spPr>
          <a:xfrm>
            <a:off x="4651560" y="3839760"/>
            <a:ext cx="3123360" cy="1714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PlaceHolder 4"/>
          <p:cNvSpPr>
            <a:spLocks noGrp="1"/>
          </p:cNvSpPr>
          <p:nvPr>
            <p:ph/>
          </p:nvPr>
        </p:nvSpPr>
        <p:spPr>
          <a:xfrm>
            <a:off x="1371600" y="4735440"/>
            <a:ext cx="312336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2"/>
          </p:nvPr>
        </p:nvSpPr>
        <p:spPr/>
        <p:txBody>
          <a:bodyPr/>
          <a:p>
            <a:fld id="{9C6AF5C2-F1F7-43D6-B6AE-5DC0CA0747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360160" y="2495520"/>
            <a:ext cx="4421160" cy="83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Lucida Sans"/>
            </a:endParaRPr>
          </a:p>
        </p:txBody>
      </p:sp>
      <p:sp>
        <p:nvSpPr>
          <p:cNvPr id="4" name="PlaceHolder 2"/>
          <p:cNvSpPr>
            <a:spLocks noGrp="1"/>
          </p:cNvSpPr>
          <p:nvPr>
            <p:ph type="subTitle"/>
          </p:nvPr>
        </p:nvSpPr>
        <p:spPr>
          <a:xfrm>
            <a:off x="1371600" y="3839760"/>
            <a:ext cx="6400800" cy="1714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1"/>
          </p:nvPr>
        </p:nvSpPr>
        <p:spPr/>
        <p:txBody>
          <a:bodyPr/>
          <a:p>
            <a:fld id="{049EDD9A-4D47-4F96-9F93-3DF9E2D337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360160" y="2495520"/>
            <a:ext cx="4421160" cy="83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Lucida Sans"/>
            </a:endParaRPr>
          </a:p>
        </p:txBody>
      </p:sp>
      <p:sp>
        <p:nvSpPr>
          <p:cNvPr id="57" name="PlaceHolder 2"/>
          <p:cNvSpPr>
            <a:spLocks noGrp="1"/>
          </p:cNvSpPr>
          <p:nvPr>
            <p:ph/>
          </p:nvPr>
        </p:nvSpPr>
        <p:spPr>
          <a:xfrm>
            <a:off x="1371600" y="3839760"/>
            <a:ext cx="3123360" cy="1714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PlaceHolder 3"/>
          <p:cNvSpPr>
            <a:spLocks noGrp="1"/>
          </p:cNvSpPr>
          <p:nvPr>
            <p:ph/>
          </p:nvPr>
        </p:nvSpPr>
        <p:spPr>
          <a:xfrm>
            <a:off x="4651560" y="3839760"/>
            <a:ext cx="312336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4"/>
          <p:cNvSpPr>
            <a:spLocks noGrp="1"/>
          </p:cNvSpPr>
          <p:nvPr>
            <p:ph/>
          </p:nvPr>
        </p:nvSpPr>
        <p:spPr>
          <a:xfrm>
            <a:off x="4651560" y="4735440"/>
            <a:ext cx="312336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2"/>
          </p:nvPr>
        </p:nvSpPr>
        <p:spPr/>
        <p:txBody>
          <a:bodyPr/>
          <a:p>
            <a:fld id="{482447A5-905A-4687-BB47-B965B095CF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60160" y="2495520"/>
            <a:ext cx="4421160" cy="83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Lucida Sans"/>
            </a:endParaRPr>
          </a:p>
        </p:txBody>
      </p:sp>
      <p:sp>
        <p:nvSpPr>
          <p:cNvPr id="61" name="PlaceHolder 2"/>
          <p:cNvSpPr>
            <a:spLocks noGrp="1"/>
          </p:cNvSpPr>
          <p:nvPr>
            <p:ph/>
          </p:nvPr>
        </p:nvSpPr>
        <p:spPr>
          <a:xfrm>
            <a:off x="1371600" y="3839760"/>
            <a:ext cx="312336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PlaceHolder 3"/>
          <p:cNvSpPr>
            <a:spLocks noGrp="1"/>
          </p:cNvSpPr>
          <p:nvPr>
            <p:ph/>
          </p:nvPr>
        </p:nvSpPr>
        <p:spPr>
          <a:xfrm>
            <a:off x="4651560" y="3839760"/>
            <a:ext cx="312336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PlaceHolder 4"/>
          <p:cNvSpPr>
            <a:spLocks noGrp="1"/>
          </p:cNvSpPr>
          <p:nvPr>
            <p:ph/>
          </p:nvPr>
        </p:nvSpPr>
        <p:spPr>
          <a:xfrm>
            <a:off x="1371600" y="4735440"/>
            <a:ext cx="640080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2"/>
          </p:nvPr>
        </p:nvSpPr>
        <p:spPr/>
        <p:txBody>
          <a:bodyPr/>
          <a:p>
            <a:fld id="{0A77826F-DEDF-4BD7-92B0-BC859E3D5B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360160" y="2495520"/>
            <a:ext cx="4421160" cy="83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Lucida Sans"/>
            </a:endParaRPr>
          </a:p>
        </p:txBody>
      </p:sp>
      <p:sp>
        <p:nvSpPr>
          <p:cNvPr id="65" name="PlaceHolder 2"/>
          <p:cNvSpPr>
            <a:spLocks noGrp="1"/>
          </p:cNvSpPr>
          <p:nvPr>
            <p:ph/>
          </p:nvPr>
        </p:nvSpPr>
        <p:spPr>
          <a:xfrm>
            <a:off x="1371600" y="3839760"/>
            <a:ext cx="640080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PlaceHolder 3"/>
          <p:cNvSpPr>
            <a:spLocks noGrp="1"/>
          </p:cNvSpPr>
          <p:nvPr>
            <p:ph/>
          </p:nvPr>
        </p:nvSpPr>
        <p:spPr>
          <a:xfrm>
            <a:off x="1371600" y="4735440"/>
            <a:ext cx="640080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sldNum" idx="2"/>
          </p:nvPr>
        </p:nvSpPr>
        <p:spPr/>
        <p:txBody>
          <a:bodyPr/>
          <a:p>
            <a:fld id="{B487D285-4323-4901-B9C7-6ECA526EDC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60160" y="2495520"/>
            <a:ext cx="4421160" cy="83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Lucida Sans"/>
            </a:endParaRPr>
          </a:p>
        </p:txBody>
      </p:sp>
      <p:sp>
        <p:nvSpPr>
          <p:cNvPr id="68" name="PlaceHolder 2"/>
          <p:cNvSpPr>
            <a:spLocks noGrp="1"/>
          </p:cNvSpPr>
          <p:nvPr>
            <p:ph/>
          </p:nvPr>
        </p:nvSpPr>
        <p:spPr>
          <a:xfrm>
            <a:off x="1371600" y="3839760"/>
            <a:ext cx="312336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PlaceHolder 3"/>
          <p:cNvSpPr>
            <a:spLocks noGrp="1"/>
          </p:cNvSpPr>
          <p:nvPr>
            <p:ph/>
          </p:nvPr>
        </p:nvSpPr>
        <p:spPr>
          <a:xfrm>
            <a:off x="4651560" y="3839760"/>
            <a:ext cx="312336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PlaceHolder 4"/>
          <p:cNvSpPr>
            <a:spLocks noGrp="1"/>
          </p:cNvSpPr>
          <p:nvPr>
            <p:ph/>
          </p:nvPr>
        </p:nvSpPr>
        <p:spPr>
          <a:xfrm>
            <a:off x="1371600" y="4735440"/>
            <a:ext cx="312336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PlaceHolder 5"/>
          <p:cNvSpPr>
            <a:spLocks noGrp="1"/>
          </p:cNvSpPr>
          <p:nvPr>
            <p:ph/>
          </p:nvPr>
        </p:nvSpPr>
        <p:spPr>
          <a:xfrm>
            <a:off x="4651560" y="4735440"/>
            <a:ext cx="312336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sldNum" idx="2"/>
          </p:nvPr>
        </p:nvSpPr>
        <p:spPr/>
        <p:txBody>
          <a:bodyPr/>
          <a:p>
            <a:fld id="{FA4B7AFD-850F-4DC0-BB3E-38DF20F935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360160" y="2495520"/>
            <a:ext cx="4421160" cy="83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Lucida Sans"/>
            </a:endParaRPr>
          </a:p>
        </p:txBody>
      </p:sp>
      <p:sp>
        <p:nvSpPr>
          <p:cNvPr id="73" name="PlaceHolder 2"/>
          <p:cNvSpPr>
            <a:spLocks noGrp="1"/>
          </p:cNvSpPr>
          <p:nvPr>
            <p:ph/>
          </p:nvPr>
        </p:nvSpPr>
        <p:spPr>
          <a:xfrm>
            <a:off x="1371600" y="3839760"/>
            <a:ext cx="206064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PlaceHolder 3"/>
          <p:cNvSpPr>
            <a:spLocks noGrp="1"/>
          </p:cNvSpPr>
          <p:nvPr>
            <p:ph/>
          </p:nvPr>
        </p:nvSpPr>
        <p:spPr>
          <a:xfrm>
            <a:off x="3535560" y="3839760"/>
            <a:ext cx="206064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PlaceHolder 4"/>
          <p:cNvSpPr>
            <a:spLocks noGrp="1"/>
          </p:cNvSpPr>
          <p:nvPr>
            <p:ph/>
          </p:nvPr>
        </p:nvSpPr>
        <p:spPr>
          <a:xfrm>
            <a:off x="5699880" y="3839760"/>
            <a:ext cx="206064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PlaceHolder 5"/>
          <p:cNvSpPr>
            <a:spLocks noGrp="1"/>
          </p:cNvSpPr>
          <p:nvPr>
            <p:ph/>
          </p:nvPr>
        </p:nvSpPr>
        <p:spPr>
          <a:xfrm>
            <a:off x="1371600" y="4735440"/>
            <a:ext cx="206064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PlaceHolder 6"/>
          <p:cNvSpPr>
            <a:spLocks noGrp="1"/>
          </p:cNvSpPr>
          <p:nvPr>
            <p:ph/>
          </p:nvPr>
        </p:nvSpPr>
        <p:spPr>
          <a:xfrm>
            <a:off x="3535560" y="4735440"/>
            <a:ext cx="206064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PlaceHolder 7"/>
          <p:cNvSpPr>
            <a:spLocks noGrp="1"/>
          </p:cNvSpPr>
          <p:nvPr>
            <p:ph/>
          </p:nvPr>
        </p:nvSpPr>
        <p:spPr>
          <a:xfrm>
            <a:off x="5699880" y="4735440"/>
            <a:ext cx="206064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sldNum" idx="2"/>
          </p:nvPr>
        </p:nvSpPr>
        <p:spPr/>
        <p:txBody>
          <a:bodyPr/>
          <a:p>
            <a:fld id="{E63A78AA-1E6F-4F42-AA07-6A2CAFE2BC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360160" y="2495520"/>
            <a:ext cx="4421160" cy="83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Lucida Sans"/>
            </a:endParaRPr>
          </a:p>
        </p:txBody>
      </p:sp>
      <p:sp>
        <p:nvSpPr>
          <p:cNvPr id="6" name="PlaceHolder 2"/>
          <p:cNvSpPr>
            <a:spLocks noGrp="1"/>
          </p:cNvSpPr>
          <p:nvPr>
            <p:ph/>
          </p:nvPr>
        </p:nvSpPr>
        <p:spPr>
          <a:xfrm>
            <a:off x="1371600" y="3839760"/>
            <a:ext cx="6400800" cy="1714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1"/>
          </p:nvPr>
        </p:nvSpPr>
        <p:spPr/>
        <p:txBody>
          <a:bodyPr/>
          <a:p>
            <a:fld id="{7E3C783A-646F-4FD6-85CA-28CECC4A63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360160" y="2495520"/>
            <a:ext cx="4421160" cy="83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Lucida Sans"/>
            </a:endParaRPr>
          </a:p>
        </p:txBody>
      </p:sp>
      <p:sp>
        <p:nvSpPr>
          <p:cNvPr id="8" name="PlaceHolder 2"/>
          <p:cNvSpPr>
            <a:spLocks noGrp="1"/>
          </p:cNvSpPr>
          <p:nvPr>
            <p:ph/>
          </p:nvPr>
        </p:nvSpPr>
        <p:spPr>
          <a:xfrm>
            <a:off x="1371600" y="3839760"/>
            <a:ext cx="3123360" cy="1714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3"/>
          <p:cNvSpPr>
            <a:spLocks noGrp="1"/>
          </p:cNvSpPr>
          <p:nvPr>
            <p:ph/>
          </p:nvPr>
        </p:nvSpPr>
        <p:spPr>
          <a:xfrm>
            <a:off x="4651560" y="3839760"/>
            <a:ext cx="3123360" cy="1714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sldNum" idx="1"/>
          </p:nvPr>
        </p:nvSpPr>
        <p:spPr/>
        <p:txBody>
          <a:bodyPr/>
          <a:p>
            <a:fld id="{2506A45D-4E9D-473B-A83E-2F9F6067B6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360160" y="2495520"/>
            <a:ext cx="4421160" cy="83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Lucida Sans"/>
            </a:endParaRPr>
          </a:p>
        </p:txBody>
      </p:sp>
      <p:sp>
        <p:nvSpPr>
          <p:cNvPr id="3" name="PlaceHolder 2"/>
          <p:cNvSpPr>
            <a:spLocks noGrp="1"/>
          </p:cNvSpPr>
          <p:nvPr>
            <p:ph type="sldNum" idx="1"/>
          </p:nvPr>
        </p:nvSpPr>
        <p:spPr/>
        <p:txBody>
          <a:bodyPr/>
          <a:p>
            <a:fld id="{EFB68AFB-0181-44A8-AD15-92AF09AE54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360160" y="2495520"/>
            <a:ext cx="4421160" cy="3872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sldNum" idx="1"/>
          </p:nvPr>
        </p:nvSpPr>
        <p:spPr/>
        <p:txBody>
          <a:bodyPr/>
          <a:p>
            <a:fld id="{7E47947A-6508-4529-8A56-E08C01BAF7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360160" y="2495520"/>
            <a:ext cx="4421160" cy="83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Lucida Sans"/>
            </a:endParaRPr>
          </a:p>
        </p:txBody>
      </p:sp>
      <p:sp>
        <p:nvSpPr>
          <p:cNvPr id="13" name="PlaceHolder 2"/>
          <p:cNvSpPr>
            <a:spLocks noGrp="1"/>
          </p:cNvSpPr>
          <p:nvPr>
            <p:ph/>
          </p:nvPr>
        </p:nvSpPr>
        <p:spPr>
          <a:xfrm>
            <a:off x="1371600" y="3839760"/>
            <a:ext cx="312336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 name="PlaceHolder 3"/>
          <p:cNvSpPr>
            <a:spLocks noGrp="1"/>
          </p:cNvSpPr>
          <p:nvPr>
            <p:ph/>
          </p:nvPr>
        </p:nvSpPr>
        <p:spPr>
          <a:xfrm>
            <a:off x="4651560" y="3839760"/>
            <a:ext cx="3123360" cy="1714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 name="PlaceHolder 4"/>
          <p:cNvSpPr>
            <a:spLocks noGrp="1"/>
          </p:cNvSpPr>
          <p:nvPr>
            <p:ph/>
          </p:nvPr>
        </p:nvSpPr>
        <p:spPr>
          <a:xfrm>
            <a:off x="1371600" y="4735440"/>
            <a:ext cx="312336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1"/>
          </p:nvPr>
        </p:nvSpPr>
        <p:spPr/>
        <p:txBody>
          <a:bodyPr/>
          <a:p>
            <a:fld id="{6092AA65-F2F3-4BFD-A234-197773C23F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360160" y="2495520"/>
            <a:ext cx="4421160" cy="83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Lucida Sans"/>
            </a:endParaRPr>
          </a:p>
        </p:txBody>
      </p:sp>
      <p:sp>
        <p:nvSpPr>
          <p:cNvPr id="17" name="PlaceHolder 2"/>
          <p:cNvSpPr>
            <a:spLocks noGrp="1"/>
          </p:cNvSpPr>
          <p:nvPr>
            <p:ph/>
          </p:nvPr>
        </p:nvSpPr>
        <p:spPr>
          <a:xfrm>
            <a:off x="1371600" y="3839760"/>
            <a:ext cx="3123360" cy="1714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 name="PlaceHolder 3"/>
          <p:cNvSpPr>
            <a:spLocks noGrp="1"/>
          </p:cNvSpPr>
          <p:nvPr>
            <p:ph/>
          </p:nvPr>
        </p:nvSpPr>
        <p:spPr>
          <a:xfrm>
            <a:off x="4651560" y="3839760"/>
            <a:ext cx="312336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 name="PlaceHolder 4"/>
          <p:cNvSpPr>
            <a:spLocks noGrp="1"/>
          </p:cNvSpPr>
          <p:nvPr>
            <p:ph/>
          </p:nvPr>
        </p:nvSpPr>
        <p:spPr>
          <a:xfrm>
            <a:off x="4651560" y="4735440"/>
            <a:ext cx="312336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1"/>
          </p:nvPr>
        </p:nvSpPr>
        <p:spPr/>
        <p:txBody>
          <a:bodyPr/>
          <a:p>
            <a:fld id="{696EB5A1-3D0E-4B2B-B7EF-C25159090C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360160" y="2495520"/>
            <a:ext cx="4421160" cy="83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Lucida Sans"/>
            </a:endParaRPr>
          </a:p>
        </p:txBody>
      </p:sp>
      <p:sp>
        <p:nvSpPr>
          <p:cNvPr id="21" name="PlaceHolder 2"/>
          <p:cNvSpPr>
            <a:spLocks noGrp="1"/>
          </p:cNvSpPr>
          <p:nvPr>
            <p:ph/>
          </p:nvPr>
        </p:nvSpPr>
        <p:spPr>
          <a:xfrm>
            <a:off x="1371600" y="3839760"/>
            <a:ext cx="312336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 name="PlaceHolder 3"/>
          <p:cNvSpPr>
            <a:spLocks noGrp="1"/>
          </p:cNvSpPr>
          <p:nvPr>
            <p:ph/>
          </p:nvPr>
        </p:nvSpPr>
        <p:spPr>
          <a:xfrm>
            <a:off x="4651560" y="3839760"/>
            <a:ext cx="312336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 name="PlaceHolder 4"/>
          <p:cNvSpPr>
            <a:spLocks noGrp="1"/>
          </p:cNvSpPr>
          <p:nvPr>
            <p:ph/>
          </p:nvPr>
        </p:nvSpPr>
        <p:spPr>
          <a:xfrm>
            <a:off x="1371600" y="4735440"/>
            <a:ext cx="640080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1"/>
          </p:nvPr>
        </p:nvSpPr>
        <p:spPr/>
        <p:txBody>
          <a:bodyPr/>
          <a:p>
            <a:fld id="{1ED39746-91E7-41A2-8EFF-C46A4EB3D3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576440"/>
            <a:ext cx="8229600" cy="452592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indent="45720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indent="91440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indent="137160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indent="182880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indent="182880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indent="182880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1" name="PlaceHolder 2"/>
          <p:cNvSpPr>
            <a:spLocks noGrp="1"/>
          </p:cNvSpPr>
          <p:nvPr>
            <p:ph type="title"/>
          </p:nvPr>
        </p:nvSpPr>
        <p:spPr>
          <a:xfrm>
            <a:off x="430200" y="341280"/>
            <a:ext cx="8282160" cy="13716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Lucida Sans"/>
              </a:rPr>
              <a:t>Click to edit the title text format</a:t>
            </a:r>
            <a:endParaRPr b="1" lang="en-US" sz="4000" spc="-1" strike="noStrike">
              <a:solidFill>
                <a:srgbClr val="ffffff"/>
              </a:solidFill>
              <a:latin typeface="Lucida Sans"/>
            </a:endParaRPr>
          </a:p>
        </p:txBody>
      </p:sp>
      <p:sp>
        <p:nvSpPr>
          <p:cNvPr id="2" name="PlaceHolder 3"/>
          <p:cNvSpPr>
            <a:spLocks noGrp="1"/>
          </p:cNvSpPr>
          <p:nvPr>
            <p:ph type="sldNum" idx="1"/>
          </p:nvPr>
        </p:nvSpPr>
        <p:spPr>
          <a:xfrm>
            <a:off x="8418240" y="6377040"/>
            <a:ext cx="268200" cy="279360"/>
          </a:xfrm>
          <a:prstGeom prst="rect">
            <a:avLst/>
          </a:prstGeom>
          <a:noFill/>
          <a:ln w="0">
            <a:noFill/>
          </a:ln>
        </p:spPr>
        <p:txBody>
          <a:bodyPr lIns="0" rIns="0" tIns="0" bIns="0" anchor="t"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88888"/>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A51BD-498A-4DC9-8B07-00AD4D656630}" type="slidenum">
              <a:rPr b="0" lang="en-US" sz="1800" spc="-1" strike="noStrike">
                <a:solidFill>
                  <a:srgbClr val="888888"/>
                </a:solidFill>
                <a:latin typeface="Arial"/>
                <a:ea typeface="Arial"/>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1"/>
          <p:cNvSpPr/>
          <p:nvPr/>
        </p:nvSpPr>
        <p:spPr>
          <a:xfrm>
            <a:off x="0" y="0"/>
            <a:ext cx="9144000" cy="6845400"/>
          </a:xfrm>
          <a:prstGeom prst="rect">
            <a:avLst/>
          </a:prstGeom>
          <a:solidFill>
            <a:srgbClr val="44ae6c"/>
          </a:solidFill>
          <a:ln w="0">
            <a:noFill/>
          </a:ln>
        </p:spPr>
        <p:style>
          <a:lnRef idx="0"/>
          <a:fillRef idx="0"/>
          <a:effectRef idx="0"/>
          <a:fontRef idx="minor"/>
        </p:style>
        <p: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1"/>
          <p:cNvSpPr>
            <a:spLocks noGrp="1"/>
          </p:cNvSpPr>
          <p:nvPr>
            <p:ph type="title"/>
          </p:nvPr>
        </p:nvSpPr>
        <p:spPr>
          <a:xfrm>
            <a:off x="2360160" y="2495520"/>
            <a:ext cx="4421160" cy="83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Lucida Sans"/>
              </a:rPr>
              <a:t>Click to edit the title text format</a:t>
            </a:r>
            <a:endParaRPr b="1" lang="en-US" sz="4000" spc="-1" strike="noStrike">
              <a:solidFill>
                <a:srgbClr val="ffffff"/>
              </a:solidFill>
              <a:latin typeface="Lucida Sans"/>
            </a:endParaRPr>
          </a:p>
        </p:txBody>
      </p:sp>
      <p:sp>
        <p:nvSpPr>
          <p:cNvPr id="41" name="PlaceHolder 2"/>
          <p:cNvSpPr>
            <a:spLocks noGrp="1"/>
          </p:cNvSpPr>
          <p:nvPr>
            <p:ph type="body"/>
          </p:nvPr>
        </p:nvSpPr>
        <p:spPr>
          <a:xfrm>
            <a:off x="1371600" y="3839760"/>
            <a:ext cx="6400800" cy="1714680"/>
          </a:xfrm>
          <a:prstGeom prst="rect">
            <a:avLst/>
          </a:prstGeom>
          <a:noFill/>
          <a:ln w="0">
            <a:noFill/>
          </a:ln>
        </p:spPr>
        <p:txBody>
          <a:bodyPr lIns="0" rIns="0" tIns="0" bIns="0" anchor="t">
            <a:normAutofit fontScale="89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indent="40680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indent="81360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indent="122040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indent="162756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indent="162756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indent="162756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42" name="PlaceHolder 3"/>
          <p:cNvSpPr>
            <a:spLocks noGrp="1"/>
          </p:cNvSpPr>
          <p:nvPr>
            <p:ph type="sldNum" idx="2"/>
          </p:nvPr>
        </p:nvSpPr>
        <p:spPr>
          <a:xfrm>
            <a:off x="8418240" y="6377040"/>
            <a:ext cx="268200" cy="279360"/>
          </a:xfrm>
          <a:prstGeom prst="rect">
            <a:avLst/>
          </a:prstGeom>
          <a:noFill/>
          <a:ln w="0">
            <a:noFill/>
          </a:ln>
        </p:spPr>
        <p:txBody>
          <a:bodyPr lIns="0" rIns="0" tIns="0" bIns="0" anchor="t"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88888"/>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7AAA7-00CE-40E8-B079-010E8505BD90}" type="slidenum">
              <a:rPr b="0" lang="en-US" sz="1800" spc="-1" strike="noStrike">
                <a:solidFill>
                  <a:srgbClr val="888888"/>
                </a:solidFill>
                <a:latin typeface="Arial"/>
                <a:ea typeface="Arial"/>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1"/>
          <p:cNvSpPr/>
          <p:nvPr/>
        </p:nvSpPr>
        <p:spPr>
          <a:xfrm>
            <a:off x="0" y="0"/>
            <a:ext cx="9144000" cy="6845400"/>
          </a:xfrm>
          <a:prstGeom prst="rect">
            <a:avLst/>
          </a:prstGeom>
          <a:blipFill rotWithShape="0">
            <a:blip r:embed="rId1"/>
            <a:srcRect/>
            <a:stretch/>
          </a:blipFill>
          <a:ln w="0">
            <a:noFill/>
          </a:ln>
        </p:spPr>
        <p:style>
          <a:lnRef idx="0"/>
          <a:fillRef idx="0"/>
          <a:effectRef idx="0"/>
          <a:fontRef idx="minor"/>
        </p:style>
        <p: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AutoShape 3"/>
          <p:cNvSpPr/>
          <p:nvPr/>
        </p:nvSpPr>
        <p:spPr>
          <a:xfrm>
            <a:off x="2955960" y="3224160"/>
            <a:ext cx="4538520" cy="560520"/>
          </a:xfrm>
          <a:custGeom>
            <a:avLst/>
            <a:gdLst>
              <a:gd name="textAreaLeft" fmla="*/ 0 w 4538520"/>
              <a:gd name="textAreaRight" fmla="*/ 4538880 w 4538520"/>
              <a:gd name="textAreaTop" fmla="*/ 0 h 560520"/>
              <a:gd name="textAreaBottom" fmla="*/ 560880 h 560520"/>
            </a:gdLst>
            <a:ahLst/>
            <a:rect l="textAreaLeft" t="textAreaTop" r="textAreaRight" b="textAreaBottom"/>
            <a:pathLst>
              <a:path w="21600" h="21600">
                <a:moveTo>
                  <a:pt x="20282" y="0"/>
                </a:moveTo>
                <a:lnTo>
                  <a:pt x="1318" y="0"/>
                </a:lnTo>
                <a:lnTo>
                  <a:pt x="1081" y="172"/>
                </a:lnTo>
                <a:lnTo>
                  <a:pt x="858" y="669"/>
                </a:lnTo>
                <a:lnTo>
                  <a:pt x="653" y="1460"/>
                </a:lnTo>
                <a:lnTo>
                  <a:pt x="469" y="2514"/>
                </a:lnTo>
                <a:lnTo>
                  <a:pt x="310" y="3803"/>
                </a:lnTo>
                <a:lnTo>
                  <a:pt x="180" y="5295"/>
                </a:lnTo>
                <a:lnTo>
                  <a:pt x="82" y="6961"/>
                </a:lnTo>
                <a:lnTo>
                  <a:pt x="21" y="8770"/>
                </a:lnTo>
                <a:lnTo>
                  <a:pt x="0" y="10692"/>
                </a:lnTo>
                <a:lnTo>
                  <a:pt x="0" y="10908"/>
                </a:lnTo>
                <a:lnTo>
                  <a:pt x="21" y="12830"/>
                </a:lnTo>
                <a:lnTo>
                  <a:pt x="82" y="14639"/>
                </a:lnTo>
                <a:lnTo>
                  <a:pt x="180" y="16304"/>
                </a:lnTo>
                <a:lnTo>
                  <a:pt x="310" y="17797"/>
                </a:lnTo>
                <a:lnTo>
                  <a:pt x="469" y="19085"/>
                </a:lnTo>
                <a:lnTo>
                  <a:pt x="653" y="20140"/>
                </a:lnTo>
                <a:lnTo>
                  <a:pt x="858" y="20931"/>
                </a:lnTo>
                <a:lnTo>
                  <a:pt x="1081" y="21428"/>
                </a:lnTo>
                <a:lnTo>
                  <a:pt x="1318" y="21600"/>
                </a:lnTo>
                <a:lnTo>
                  <a:pt x="20282" y="21600"/>
                </a:lnTo>
                <a:lnTo>
                  <a:pt x="20519" y="21428"/>
                </a:lnTo>
                <a:lnTo>
                  <a:pt x="20742" y="20931"/>
                </a:lnTo>
                <a:lnTo>
                  <a:pt x="20947" y="20140"/>
                </a:lnTo>
                <a:lnTo>
                  <a:pt x="21131" y="19085"/>
                </a:lnTo>
                <a:lnTo>
                  <a:pt x="21290" y="17797"/>
                </a:lnTo>
                <a:lnTo>
                  <a:pt x="21420" y="16304"/>
                </a:lnTo>
                <a:lnTo>
                  <a:pt x="21518" y="14639"/>
                </a:lnTo>
                <a:lnTo>
                  <a:pt x="21579" y="12830"/>
                </a:lnTo>
                <a:lnTo>
                  <a:pt x="21600" y="10908"/>
                </a:lnTo>
                <a:lnTo>
                  <a:pt x="21600" y="10692"/>
                </a:lnTo>
                <a:lnTo>
                  <a:pt x="21579" y="8770"/>
                </a:lnTo>
                <a:lnTo>
                  <a:pt x="21518" y="6961"/>
                </a:lnTo>
                <a:lnTo>
                  <a:pt x="21420" y="5295"/>
                </a:lnTo>
                <a:lnTo>
                  <a:pt x="21290" y="3803"/>
                </a:lnTo>
                <a:lnTo>
                  <a:pt x="21131" y="2514"/>
                </a:lnTo>
                <a:lnTo>
                  <a:pt x="20947" y="1460"/>
                </a:lnTo>
                <a:lnTo>
                  <a:pt x="20742" y="669"/>
                </a:lnTo>
                <a:lnTo>
                  <a:pt x="20519" y="172"/>
                </a:lnTo>
                <a:lnTo>
                  <a:pt x="20282" y="0"/>
                </a:lnTo>
                <a:close/>
              </a:path>
            </a:pathLst>
          </a:custGeom>
          <a:solidFill>
            <a:srgbClr val="44ae6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81" name="AutoShape 2"/>
          <p:cNvSpPr/>
          <p:nvPr/>
        </p:nvSpPr>
        <p:spPr>
          <a:xfrm>
            <a:off x="7558200" y="3224160"/>
            <a:ext cx="1584360" cy="560520"/>
          </a:xfrm>
          <a:custGeom>
            <a:avLst/>
            <a:gdLst>
              <a:gd name="textAreaLeft" fmla="*/ 0 w 1584360"/>
              <a:gd name="textAreaRight" fmla="*/ 1584720 w 1584360"/>
              <a:gd name="textAreaTop" fmla="*/ 0 h 560520"/>
              <a:gd name="textAreaBottom" fmla="*/ 560880 h 560520"/>
            </a:gdLst>
            <a:ahLst/>
            <a:rect l="textAreaLeft" t="textAreaTop" r="textAreaRight" b="textAreaBottom"/>
            <a:pathLst>
              <a:path w="21600" h="21600">
                <a:moveTo>
                  <a:pt x="21600" y="0"/>
                </a:moveTo>
                <a:lnTo>
                  <a:pt x="3244" y="0"/>
                </a:lnTo>
                <a:lnTo>
                  <a:pt x="2590" y="187"/>
                </a:lnTo>
                <a:lnTo>
                  <a:pt x="1981" y="722"/>
                </a:lnTo>
                <a:lnTo>
                  <a:pt x="1430" y="1568"/>
                </a:lnTo>
                <a:lnTo>
                  <a:pt x="950" y="2690"/>
                </a:lnTo>
                <a:lnTo>
                  <a:pt x="554" y="4049"/>
                </a:lnTo>
                <a:lnTo>
                  <a:pt x="255" y="5609"/>
                </a:lnTo>
                <a:lnTo>
                  <a:pt x="66" y="7333"/>
                </a:lnTo>
                <a:lnTo>
                  <a:pt x="0" y="9184"/>
                </a:lnTo>
                <a:lnTo>
                  <a:pt x="0" y="12416"/>
                </a:lnTo>
                <a:lnTo>
                  <a:pt x="66" y="14267"/>
                </a:lnTo>
                <a:lnTo>
                  <a:pt x="255" y="15991"/>
                </a:lnTo>
                <a:lnTo>
                  <a:pt x="554" y="17551"/>
                </a:lnTo>
                <a:lnTo>
                  <a:pt x="950" y="18910"/>
                </a:lnTo>
                <a:lnTo>
                  <a:pt x="1430" y="20032"/>
                </a:lnTo>
                <a:lnTo>
                  <a:pt x="1981" y="20878"/>
                </a:lnTo>
                <a:lnTo>
                  <a:pt x="2590" y="21413"/>
                </a:lnTo>
                <a:lnTo>
                  <a:pt x="3244" y="21600"/>
                </a:lnTo>
                <a:lnTo>
                  <a:pt x="21600" y="21600"/>
                </a:lnTo>
                <a:lnTo>
                  <a:pt x="21600" y="0"/>
                </a:lnTo>
                <a:close/>
              </a:path>
            </a:pathLst>
          </a:custGeom>
          <a:solidFill>
            <a:srgbClr val="399d5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82" name="Rectangle 1"/>
          <p:cNvSpPr/>
          <p:nvPr/>
        </p:nvSpPr>
        <p:spPr>
          <a:xfrm>
            <a:off x="7770960" y="3392640"/>
            <a:ext cx="1131840" cy="45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Lato"/>
                <a:ea typeface="Lato"/>
              </a:rPr>
              <a:t>UNECA.ORG</a:t>
            </a:r>
            <a:endParaRPr b="0" lang="en-US" sz="1500" spc="-1" strike="noStrike">
              <a:solidFill>
                <a:srgbClr val="000000"/>
              </a:solidFill>
              <a:latin typeface="Calibri"/>
            </a:endParaRPr>
          </a:p>
        </p:txBody>
      </p:sp>
      <p:sp>
        <p:nvSpPr>
          <p:cNvPr id="83" name="Rectangle 2"/>
          <p:cNvSpPr/>
          <p:nvPr/>
        </p:nvSpPr>
        <p:spPr>
          <a:xfrm>
            <a:off x="0" y="0"/>
            <a:ext cx="9144000" cy="2722680"/>
          </a:xfrm>
          <a:prstGeom prst="rect">
            <a:avLst/>
          </a:prstGeom>
          <a:solidFill>
            <a:srgbClr val="44ae6c"/>
          </a:solidFill>
          <a:ln w="0">
            <a:noFill/>
          </a:ln>
        </p:spPr>
        <p:style>
          <a:lnRef idx="0"/>
          <a:fillRef idx="0"/>
          <a:effectRef idx="0"/>
          <a:fontRef idx="minor"/>
        </p:style>
        <p: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Rectangle 3"/>
          <p:cNvSpPr/>
          <p:nvPr/>
        </p:nvSpPr>
        <p:spPr>
          <a:xfrm>
            <a:off x="4413240" y="2328840"/>
            <a:ext cx="4729320" cy="741240"/>
          </a:xfrm>
          <a:prstGeom prst="rect">
            <a:avLst/>
          </a:prstGeom>
          <a:solidFill>
            <a:srgbClr val="44ae6c"/>
          </a:solidFill>
          <a:ln w="0">
            <a:noFill/>
          </a:ln>
        </p:spPr>
        <p:style>
          <a:lnRef idx="0"/>
          <a:fillRef idx="0"/>
          <a:effectRef idx="0"/>
          <a:fontRef idx="minor"/>
        </p:style>
        <p: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AutoShape 4"/>
          <p:cNvSpPr/>
          <p:nvPr/>
        </p:nvSpPr>
        <p:spPr>
          <a:xfrm>
            <a:off x="2922480" y="2422440"/>
            <a:ext cx="4351320" cy="647640"/>
          </a:xfrm>
          <a:custGeom>
            <a:avLst/>
            <a:gdLst>
              <a:gd name="textAreaLeft" fmla="*/ 0 w 4351320"/>
              <a:gd name="textAreaRight" fmla="*/ 4351680 w 4351320"/>
              <a:gd name="textAreaTop" fmla="*/ 0 h 647640"/>
              <a:gd name="textAreaBottom" fmla="*/ 648000 h 647640"/>
            </a:gdLst>
            <a:ahLst/>
            <a:rect l="textAreaLeft" t="textAreaTop" r="textAreaRight" b="textAreaBottom"/>
            <a:pathLst>
              <a:path w="21600" h="21600">
                <a:moveTo>
                  <a:pt x="20008" y="0"/>
                </a:moveTo>
                <a:lnTo>
                  <a:pt x="1592" y="0"/>
                </a:lnTo>
                <a:lnTo>
                  <a:pt x="1357" y="116"/>
                </a:lnTo>
                <a:lnTo>
                  <a:pt x="1132" y="453"/>
                </a:lnTo>
                <a:lnTo>
                  <a:pt x="921" y="994"/>
                </a:lnTo>
                <a:lnTo>
                  <a:pt x="725" y="1723"/>
                </a:lnTo>
                <a:lnTo>
                  <a:pt x="548" y="2623"/>
                </a:lnTo>
                <a:lnTo>
                  <a:pt x="391" y="3677"/>
                </a:lnTo>
                <a:lnTo>
                  <a:pt x="257" y="4870"/>
                </a:lnTo>
                <a:lnTo>
                  <a:pt x="148" y="6185"/>
                </a:lnTo>
                <a:lnTo>
                  <a:pt x="67" y="7604"/>
                </a:lnTo>
                <a:lnTo>
                  <a:pt x="17" y="9112"/>
                </a:lnTo>
                <a:lnTo>
                  <a:pt x="0" y="10692"/>
                </a:lnTo>
                <a:lnTo>
                  <a:pt x="0" y="10908"/>
                </a:lnTo>
                <a:lnTo>
                  <a:pt x="17" y="12488"/>
                </a:lnTo>
                <a:lnTo>
                  <a:pt x="67" y="13996"/>
                </a:lnTo>
                <a:lnTo>
                  <a:pt x="148" y="15416"/>
                </a:lnTo>
                <a:lnTo>
                  <a:pt x="257" y="16730"/>
                </a:lnTo>
                <a:lnTo>
                  <a:pt x="391" y="17923"/>
                </a:lnTo>
                <a:lnTo>
                  <a:pt x="548" y="18978"/>
                </a:lnTo>
                <a:lnTo>
                  <a:pt x="725" y="19878"/>
                </a:lnTo>
                <a:lnTo>
                  <a:pt x="921" y="20606"/>
                </a:lnTo>
                <a:lnTo>
                  <a:pt x="1132" y="21147"/>
                </a:lnTo>
                <a:lnTo>
                  <a:pt x="1357" y="21484"/>
                </a:lnTo>
                <a:lnTo>
                  <a:pt x="1592" y="21600"/>
                </a:lnTo>
                <a:lnTo>
                  <a:pt x="20008" y="21600"/>
                </a:lnTo>
                <a:lnTo>
                  <a:pt x="20243" y="21484"/>
                </a:lnTo>
                <a:lnTo>
                  <a:pt x="20468" y="21147"/>
                </a:lnTo>
                <a:lnTo>
                  <a:pt x="20679" y="20606"/>
                </a:lnTo>
                <a:lnTo>
                  <a:pt x="20875" y="19878"/>
                </a:lnTo>
                <a:lnTo>
                  <a:pt x="21052" y="18978"/>
                </a:lnTo>
                <a:lnTo>
                  <a:pt x="21209" y="17923"/>
                </a:lnTo>
                <a:lnTo>
                  <a:pt x="21343" y="16730"/>
                </a:lnTo>
                <a:lnTo>
                  <a:pt x="21452" y="15416"/>
                </a:lnTo>
                <a:lnTo>
                  <a:pt x="21533" y="13996"/>
                </a:lnTo>
                <a:lnTo>
                  <a:pt x="21583" y="12488"/>
                </a:lnTo>
                <a:lnTo>
                  <a:pt x="21600" y="10908"/>
                </a:lnTo>
                <a:lnTo>
                  <a:pt x="21600" y="10692"/>
                </a:lnTo>
                <a:lnTo>
                  <a:pt x="21583" y="9112"/>
                </a:lnTo>
                <a:lnTo>
                  <a:pt x="21533" y="7604"/>
                </a:lnTo>
                <a:lnTo>
                  <a:pt x="21452" y="6185"/>
                </a:lnTo>
                <a:lnTo>
                  <a:pt x="21343" y="4870"/>
                </a:lnTo>
                <a:lnTo>
                  <a:pt x="21209" y="3677"/>
                </a:lnTo>
                <a:lnTo>
                  <a:pt x="21052" y="2623"/>
                </a:lnTo>
                <a:lnTo>
                  <a:pt x="20875" y="1723"/>
                </a:lnTo>
                <a:lnTo>
                  <a:pt x="20679" y="994"/>
                </a:lnTo>
                <a:lnTo>
                  <a:pt x="20468" y="453"/>
                </a:lnTo>
                <a:lnTo>
                  <a:pt x="20243" y="116"/>
                </a:lnTo>
                <a:lnTo>
                  <a:pt x="20008" y="0"/>
                </a:lnTo>
                <a:close/>
              </a:path>
            </a:pathLst>
          </a:custGeom>
          <a:solidFill>
            <a:srgbClr val="44ae6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86" name="PlaceHolder 1"/>
          <p:cNvSpPr>
            <a:spLocks noGrp="1"/>
          </p:cNvSpPr>
          <p:nvPr>
            <p:ph type="title"/>
          </p:nvPr>
        </p:nvSpPr>
        <p:spPr>
          <a:xfrm>
            <a:off x="429840" y="341280"/>
            <a:ext cx="6086520" cy="1371600"/>
          </a:xfrm>
          <a:prstGeom prst="rect">
            <a:avLst/>
          </a:prstGeom>
          <a:noFill/>
          <a:ln w="0">
            <a:noFill/>
          </a:ln>
        </p:spPr>
        <p:txBody>
          <a:bodyPr lIns="0" rIns="0" tIns="0" bIns="0" anchor="t">
            <a:noAutofit/>
          </a:bodyPr>
          <a:p>
            <a:pPr indent="0">
              <a:lnSpc>
                <a:spcPct val="11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Lucida Sans"/>
              </a:rPr>
              <a:t>Rapport d’activités UMA CEA 2014-2016</a:t>
            </a:r>
            <a:endParaRPr b="1" lang="en-US" sz="3200" spc="-1" strike="noStrike">
              <a:solidFill>
                <a:srgbClr val="ffffff"/>
              </a:solidFill>
              <a:latin typeface="Lucida Sans"/>
            </a:endParaRPr>
          </a:p>
        </p:txBody>
      </p:sp>
      <p:sp>
        <p:nvSpPr>
          <p:cNvPr id="87" name="Rectangle 6"/>
          <p:cNvSpPr/>
          <p:nvPr/>
        </p:nvSpPr>
        <p:spPr>
          <a:xfrm>
            <a:off x="8178840" y="297000"/>
            <a:ext cx="75564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ea typeface="Times New Roman"/>
              </a:rPr>
              <a:t>ECA</a:t>
            </a:r>
            <a:endParaRPr b="0" lang="en-US" sz="2700" spc="-1" strike="noStrike">
              <a:solidFill>
                <a:srgbClr val="000000"/>
              </a:solidFill>
              <a:latin typeface="Calibri"/>
            </a:endParaRPr>
          </a:p>
        </p:txBody>
      </p:sp>
      <p:sp>
        <p:nvSpPr>
          <p:cNvPr id="88" name="Rectangle 7"/>
          <p:cNvSpPr/>
          <p:nvPr/>
        </p:nvSpPr>
        <p:spPr>
          <a:xfrm>
            <a:off x="7562880" y="284040"/>
            <a:ext cx="574560" cy="478080"/>
          </a:xfrm>
          <a:prstGeom prst="rect">
            <a:avLst/>
          </a:prstGeom>
          <a:blipFill rotWithShape="0">
            <a:blip r:embed="rId2"/>
            <a:srcRect/>
            <a:stretch/>
          </a:blipFill>
          <a:ln w="0">
            <a:noFill/>
          </a:ln>
        </p:spPr>
        <p:style>
          <a:lnRef idx="0"/>
          <a:fillRef idx="0"/>
          <a:effectRef idx="0"/>
          <a:fontRef idx="minor"/>
        </p:style>
        <p: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Rectangle 8"/>
          <p:cNvSpPr/>
          <p:nvPr/>
        </p:nvSpPr>
        <p:spPr>
          <a:xfrm>
            <a:off x="430200" y="1839960"/>
            <a:ext cx="52322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Lato"/>
                <a:ea typeface="Lato"/>
              </a:rPr>
              <a:t>Aziz Jaid</a:t>
            </a:r>
            <a:endParaRPr b="0" lang="en-US" sz="1700" spc="-1" strike="noStrike">
              <a:solidFill>
                <a:srgbClr val="000000"/>
              </a:solidFill>
              <a:latin typeface="Calibri"/>
            </a:endParaRPr>
          </a:p>
        </p:txBody>
      </p:sp>
      <p:sp>
        <p:nvSpPr>
          <p:cNvPr id="90" name="Rectangle 9"/>
          <p:cNvSpPr/>
          <p:nvPr/>
        </p:nvSpPr>
        <p:spPr>
          <a:xfrm>
            <a:off x="3303720" y="3367080"/>
            <a:ext cx="38383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Lato"/>
                <a:ea typeface="Lato"/>
              </a:rPr>
              <a:t>Rabat, Maroc | </a:t>
            </a:r>
            <a:r>
              <a:rPr b="1" lang="en-US" sz="1900" spc="-1" strike="noStrike">
                <a:solidFill>
                  <a:srgbClr val="ffffff"/>
                </a:solidFill>
                <a:latin typeface="Gill Sans MT"/>
                <a:ea typeface="Lato"/>
              </a:rPr>
              <a:t>06.Déc</a:t>
            </a:r>
            <a:r>
              <a:rPr b="1" lang="en-US" sz="1900" spc="-1" strike="noStrike">
                <a:solidFill>
                  <a:srgbClr val="ffffff"/>
                </a:solidFill>
                <a:latin typeface="Gill Sans MT"/>
                <a:ea typeface="Gill Sans MT"/>
              </a:rPr>
              <a:t>.2016</a:t>
            </a:r>
            <a:endParaRPr b="0" lang="en-US" sz="1900" spc="-1" strike="noStrike">
              <a:solidFill>
                <a:srgbClr val="000000"/>
              </a:solidFill>
              <a:latin typeface="Calibri"/>
            </a:endParaRPr>
          </a:p>
        </p:txBody>
      </p:sp>
      <p:sp>
        <p:nvSpPr>
          <p:cNvPr id="91" name="Rectangle 10"/>
          <p:cNvSpPr/>
          <p:nvPr/>
        </p:nvSpPr>
        <p:spPr>
          <a:xfrm>
            <a:off x="3203640" y="2624040"/>
            <a:ext cx="4608360" cy="38340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Gill Sans MT"/>
                <a:ea typeface="Lato"/>
              </a:rPr>
              <a:t>Réunion de concertation </a:t>
            </a:r>
            <a:endParaRPr b="0" lang="en-US" sz="19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360160" y="2495520"/>
            <a:ext cx="4421160" cy="835200"/>
          </a:xfrm>
          <a:prstGeom prst="rect">
            <a:avLst/>
          </a:prstGeom>
          <a:noFill/>
          <a:ln w="0">
            <a:noFill/>
          </a:ln>
        </p:spPr>
        <p:txBody>
          <a:bodyPr lIns="0" rIns="0" tIns="0" bIns="0" anchor="t">
            <a:noAutofit/>
          </a:bodyPr>
          <a:p>
            <a:pPr indent="0">
              <a:lnSpc>
                <a:spcPts val="6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ffff"/>
                </a:solidFill>
                <a:latin typeface="Lato"/>
                <a:ea typeface="Lato"/>
              </a:rPr>
              <a:t>Merci!</a:t>
            </a:r>
            <a:endParaRPr b="1" lang="en-US" sz="5500" spc="-1" strike="noStrike">
              <a:solidFill>
                <a:srgbClr val="ffffff"/>
              </a:solidFill>
              <a:latin typeface="Lucida Sans"/>
            </a:endParaRPr>
          </a:p>
        </p:txBody>
      </p:sp>
      <p:sp>
        <p:nvSpPr>
          <p:cNvPr id="197" name="Rectangle 2"/>
          <p:cNvSpPr/>
          <p:nvPr/>
        </p:nvSpPr>
        <p:spPr>
          <a:xfrm>
            <a:off x="8231040" y="184320"/>
            <a:ext cx="75564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ea typeface="Times New Roman"/>
              </a:rPr>
              <a:t>ECA</a:t>
            </a:r>
            <a:endParaRPr b="0" lang="en-US" sz="2700" spc="-1" strike="noStrike">
              <a:solidFill>
                <a:srgbClr val="000000"/>
              </a:solidFill>
              <a:latin typeface="Calibri"/>
            </a:endParaRPr>
          </a:p>
        </p:txBody>
      </p:sp>
      <p:sp>
        <p:nvSpPr>
          <p:cNvPr id="198" name="Rectangle 3"/>
          <p:cNvSpPr/>
          <p:nvPr/>
        </p:nvSpPr>
        <p:spPr>
          <a:xfrm>
            <a:off x="7616880" y="171360"/>
            <a:ext cx="573120" cy="479520"/>
          </a:xfrm>
          <a:prstGeom prst="rect">
            <a:avLst/>
          </a:prstGeom>
          <a:blipFill rotWithShape="0">
            <a:blip r:embed="rId1"/>
            <a:srcRect/>
            <a:stretch/>
          </a:blipFill>
          <a:ln w="0">
            <a:noFill/>
          </a:ln>
        </p:spPr>
        <p:style>
          <a:lnRef idx="0"/>
          <a:fillRef idx="0"/>
          <a:effectRef idx="0"/>
          <a:fontRef idx="minor"/>
        </p:style>
        <p: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9" name="Rectangle 4"/>
          <p:cNvSpPr/>
          <p:nvPr/>
        </p:nvSpPr>
        <p:spPr>
          <a:xfrm>
            <a:off x="2049480" y="4203720"/>
            <a:ext cx="6267600" cy="5490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Lato"/>
                <a:ea typeface="Lato"/>
              </a:rPr>
              <a:t>ajaid@uneca.org</a:t>
            </a:r>
            <a:endParaRPr b="0" lang="en-US" sz="3600" spc="-1" strike="noStrike">
              <a:solidFill>
                <a:srgbClr val="000000"/>
              </a:solidFill>
              <a:latin typeface="Calibri"/>
            </a:endParaRPr>
          </a:p>
        </p:txBody>
      </p:sp>
      <p:sp>
        <p:nvSpPr>
          <p:cNvPr id="200" name="AutoShape 5"/>
          <p:cNvSpPr/>
          <p:nvPr/>
        </p:nvSpPr>
        <p:spPr>
          <a:xfrm>
            <a:off x="3924360" y="5302080"/>
            <a:ext cx="1293840" cy="443160"/>
          </a:xfrm>
          <a:custGeom>
            <a:avLst/>
            <a:gdLst>
              <a:gd name="textAreaLeft" fmla="*/ 0 w 1293840"/>
              <a:gd name="textAreaRight" fmla="*/ 1294200 w 1293840"/>
              <a:gd name="textAreaTop" fmla="*/ 0 h 443160"/>
              <a:gd name="textAreaBottom" fmla="*/ 443520 h 443160"/>
            </a:gdLst>
            <a:ahLst/>
            <a:rect l="textAreaLeft" t="textAreaTop" r="textAreaRight" b="textAreaBottom"/>
            <a:pathLst>
              <a:path w="21600" h="21600">
                <a:moveTo>
                  <a:pt x="18463" y="0"/>
                </a:moveTo>
                <a:lnTo>
                  <a:pt x="3137" y="0"/>
                </a:lnTo>
                <a:lnTo>
                  <a:pt x="2303" y="328"/>
                </a:lnTo>
                <a:lnTo>
                  <a:pt x="1554" y="1254"/>
                </a:lnTo>
                <a:lnTo>
                  <a:pt x="919" y="2690"/>
                </a:lnTo>
                <a:lnTo>
                  <a:pt x="428" y="4549"/>
                </a:lnTo>
                <a:lnTo>
                  <a:pt x="112" y="6742"/>
                </a:lnTo>
                <a:lnTo>
                  <a:pt x="0" y="9183"/>
                </a:lnTo>
                <a:lnTo>
                  <a:pt x="0" y="12417"/>
                </a:lnTo>
                <a:lnTo>
                  <a:pt x="112" y="14858"/>
                </a:lnTo>
                <a:lnTo>
                  <a:pt x="428" y="17052"/>
                </a:lnTo>
                <a:lnTo>
                  <a:pt x="919" y="18910"/>
                </a:lnTo>
                <a:lnTo>
                  <a:pt x="1554" y="20346"/>
                </a:lnTo>
                <a:lnTo>
                  <a:pt x="2303" y="21272"/>
                </a:lnTo>
                <a:lnTo>
                  <a:pt x="3137" y="21600"/>
                </a:lnTo>
                <a:lnTo>
                  <a:pt x="18463" y="21600"/>
                </a:lnTo>
                <a:lnTo>
                  <a:pt x="19297" y="21272"/>
                </a:lnTo>
                <a:lnTo>
                  <a:pt x="20047" y="20346"/>
                </a:lnTo>
                <a:lnTo>
                  <a:pt x="20681" y="18910"/>
                </a:lnTo>
                <a:lnTo>
                  <a:pt x="21172" y="17052"/>
                </a:lnTo>
                <a:lnTo>
                  <a:pt x="21488" y="14858"/>
                </a:lnTo>
                <a:lnTo>
                  <a:pt x="21600" y="12417"/>
                </a:lnTo>
                <a:lnTo>
                  <a:pt x="21600" y="9183"/>
                </a:lnTo>
                <a:lnTo>
                  <a:pt x="21488" y="6742"/>
                </a:lnTo>
                <a:lnTo>
                  <a:pt x="21172" y="4549"/>
                </a:lnTo>
                <a:lnTo>
                  <a:pt x="20681" y="2690"/>
                </a:lnTo>
                <a:lnTo>
                  <a:pt x="20047" y="1254"/>
                </a:lnTo>
                <a:lnTo>
                  <a:pt x="19297" y="328"/>
                </a:lnTo>
                <a:lnTo>
                  <a:pt x="18463" y="0"/>
                </a:lnTo>
                <a:close/>
              </a:path>
            </a:pathLst>
          </a:custGeom>
          <a:solidFill>
            <a:srgbClr val="399d5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201" name="Rectangle 6"/>
          <p:cNvSpPr/>
          <p:nvPr/>
        </p:nvSpPr>
        <p:spPr>
          <a:xfrm>
            <a:off x="4118040" y="5423040"/>
            <a:ext cx="9079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ea typeface="Lato"/>
              </a:rPr>
              <a:t>UNECA.ORG</a:t>
            </a:r>
            <a:endParaRPr b="0" lang="en-US" sz="12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 name="AutoShape 2"/>
          <p:cNvSpPr/>
          <p:nvPr/>
        </p:nvSpPr>
        <p:spPr>
          <a:xfrm>
            <a:off x="0" y="6135840"/>
            <a:ext cx="6026040" cy="442800"/>
          </a:xfrm>
          <a:custGeom>
            <a:avLst/>
            <a:gdLst>
              <a:gd name="textAreaLeft" fmla="*/ 0 w 6026040"/>
              <a:gd name="textAreaRight" fmla="*/ 6026400 w 6026040"/>
              <a:gd name="textAreaTop" fmla="*/ 0 h 442800"/>
              <a:gd name="textAreaBottom" fmla="*/ 443160 h 442800"/>
            </a:gdLst>
            <a:ahLst/>
            <a:rect l="textAreaLeft" t="textAreaTop" r="textAreaRight" b="textAreaBottom"/>
            <a:pathLst>
              <a:path w="21600" h="21600">
                <a:moveTo>
                  <a:pt x="20929" y="0"/>
                </a:moveTo>
                <a:lnTo>
                  <a:pt x="0" y="0"/>
                </a:lnTo>
                <a:lnTo>
                  <a:pt x="0" y="21600"/>
                </a:lnTo>
                <a:lnTo>
                  <a:pt x="20929" y="21600"/>
                </a:lnTo>
                <a:lnTo>
                  <a:pt x="21107" y="21274"/>
                </a:lnTo>
                <a:lnTo>
                  <a:pt x="21268" y="20353"/>
                </a:lnTo>
                <a:lnTo>
                  <a:pt x="21404" y="18924"/>
                </a:lnTo>
                <a:lnTo>
                  <a:pt x="21508" y="17076"/>
                </a:lnTo>
                <a:lnTo>
                  <a:pt x="21576" y="14893"/>
                </a:lnTo>
                <a:lnTo>
                  <a:pt x="21600" y="12465"/>
                </a:lnTo>
                <a:lnTo>
                  <a:pt x="21600" y="9135"/>
                </a:lnTo>
                <a:lnTo>
                  <a:pt x="21576" y="6707"/>
                </a:lnTo>
                <a:lnTo>
                  <a:pt x="21508" y="4524"/>
                </a:lnTo>
                <a:lnTo>
                  <a:pt x="21404" y="2676"/>
                </a:lnTo>
                <a:lnTo>
                  <a:pt x="21268" y="1247"/>
                </a:lnTo>
                <a:lnTo>
                  <a:pt x="21107" y="326"/>
                </a:lnTo>
                <a:lnTo>
                  <a:pt x="20929" y="0"/>
                </a:lnTo>
                <a:close/>
              </a:path>
            </a:pathLst>
          </a:custGeom>
          <a:solidFill>
            <a:srgbClr val="44ae6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93" name="Rectangle 3"/>
          <p:cNvSpPr/>
          <p:nvPr/>
        </p:nvSpPr>
        <p:spPr>
          <a:xfrm>
            <a:off x="324000" y="6237360"/>
            <a:ext cx="5324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Lato"/>
                <a:ea typeface="Lato"/>
              </a:rPr>
              <a:t>Rapport d’activités UMA CEA 2014-2016 </a:t>
            </a:r>
            <a:endParaRPr b="0" lang="en-US" sz="1600" spc="-1" strike="noStrike">
              <a:solidFill>
                <a:srgbClr val="000000"/>
              </a:solidFill>
              <a:latin typeface="Calibri"/>
            </a:endParaRPr>
          </a:p>
        </p:txBody>
      </p:sp>
      <p:sp>
        <p:nvSpPr>
          <p:cNvPr id="94" name="AutoShape 4"/>
          <p:cNvSpPr/>
          <p:nvPr/>
        </p:nvSpPr>
        <p:spPr>
          <a:xfrm>
            <a:off x="0" y="0"/>
            <a:ext cx="9131400" cy="6845400"/>
          </a:xfrm>
          <a:custGeom>
            <a:avLst/>
            <a:gdLst>
              <a:gd name="textAreaLeft" fmla="*/ 0 w 9131400"/>
              <a:gd name="textAreaRight" fmla="*/ 9131760 w 9131400"/>
              <a:gd name="textAreaTop" fmla="*/ 0 h 6845400"/>
              <a:gd name="textAreaBottom" fmla="*/ 6845760 h 6845400"/>
            </a:gdLst>
            <a:ahLst/>
            <a:rect l="textAreaLeft" t="textAreaTop" r="textAreaRight" b="textAreaBottom"/>
            <a:pathLst>
              <a:path w="21600" h="21600">
                <a:moveTo>
                  <a:pt x="0" y="21600"/>
                </a:moveTo>
                <a:lnTo>
                  <a:pt x="0" y="0"/>
                </a:lnTo>
                <a:lnTo>
                  <a:pt x="21600" y="0"/>
                </a:lnTo>
              </a:path>
            </a:pathLst>
          </a:custGeom>
          <a:noFill/>
          <a:ln w="3240">
            <a:solidFill>
              <a:srgbClr val="7b7b7b"/>
            </a:solidFill>
            <a:round/>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95" name="AutoShape 5"/>
          <p:cNvSpPr/>
          <p:nvPr/>
        </p:nvSpPr>
        <p:spPr>
          <a:xfrm>
            <a:off x="0" y="0"/>
            <a:ext cx="9131400" cy="6845400"/>
          </a:xfrm>
          <a:custGeom>
            <a:avLst/>
            <a:gdLst>
              <a:gd name="textAreaLeft" fmla="*/ 0 w 9131400"/>
              <a:gd name="textAreaRight" fmla="*/ 9131760 w 9131400"/>
              <a:gd name="textAreaTop" fmla="*/ 0 h 6845400"/>
              <a:gd name="textAreaBottom" fmla="*/ 6845760 h 6845400"/>
            </a:gdLst>
            <a:ahLst/>
            <a:rect l="textAreaLeft" t="textAreaTop" r="textAreaRight" b="textAreaBottom"/>
            <a:pathLst>
              <a:path w="21600" h="21600">
                <a:moveTo>
                  <a:pt x="0" y="21600"/>
                </a:moveTo>
                <a:lnTo>
                  <a:pt x="0" y="0"/>
                </a:lnTo>
                <a:lnTo>
                  <a:pt x="21600" y="0"/>
                </a:lnTo>
              </a:path>
            </a:pathLst>
          </a:custGeom>
          <a:noFill/>
          <a:ln w="3240">
            <a:solidFill>
              <a:srgbClr val="7b7b7b"/>
            </a:solidFill>
            <a:round/>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96" name="AutoShape 6"/>
          <p:cNvSpPr/>
          <p:nvPr/>
        </p:nvSpPr>
        <p:spPr>
          <a:xfrm>
            <a:off x="0" y="290520"/>
            <a:ext cx="4475160" cy="441360"/>
          </a:xfrm>
          <a:custGeom>
            <a:avLst/>
            <a:gdLst>
              <a:gd name="textAreaLeft" fmla="*/ 0 w 4475160"/>
              <a:gd name="textAreaRight" fmla="*/ 4475520 w 4475160"/>
              <a:gd name="textAreaTop" fmla="*/ 0 h 441360"/>
              <a:gd name="textAreaBottom" fmla="*/ 441720 h 441360"/>
            </a:gdLst>
            <a:ahLst/>
            <a:rect l="textAreaLeft" t="textAreaTop" r="textAreaRight" b="textAreaBottom"/>
            <a:pathLst>
              <a:path w="21600" h="21600">
                <a:moveTo>
                  <a:pt x="20694" y="0"/>
                </a:moveTo>
                <a:lnTo>
                  <a:pt x="115" y="0"/>
                </a:lnTo>
                <a:lnTo>
                  <a:pt x="0" y="157"/>
                </a:lnTo>
                <a:lnTo>
                  <a:pt x="0" y="21443"/>
                </a:lnTo>
                <a:lnTo>
                  <a:pt x="115" y="21600"/>
                </a:lnTo>
                <a:lnTo>
                  <a:pt x="20694" y="21600"/>
                </a:lnTo>
                <a:lnTo>
                  <a:pt x="20935" y="21272"/>
                </a:lnTo>
                <a:lnTo>
                  <a:pt x="21151" y="20346"/>
                </a:lnTo>
                <a:lnTo>
                  <a:pt x="21335" y="18910"/>
                </a:lnTo>
                <a:lnTo>
                  <a:pt x="21476" y="17052"/>
                </a:lnTo>
                <a:lnTo>
                  <a:pt x="21568" y="14858"/>
                </a:lnTo>
                <a:lnTo>
                  <a:pt x="21600" y="12416"/>
                </a:lnTo>
                <a:lnTo>
                  <a:pt x="21600" y="9183"/>
                </a:lnTo>
                <a:lnTo>
                  <a:pt x="21568" y="6742"/>
                </a:lnTo>
                <a:lnTo>
                  <a:pt x="21476" y="4549"/>
                </a:lnTo>
                <a:lnTo>
                  <a:pt x="21335" y="2690"/>
                </a:lnTo>
                <a:lnTo>
                  <a:pt x="21151" y="1254"/>
                </a:lnTo>
                <a:lnTo>
                  <a:pt x="20935" y="328"/>
                </a:lnTo>
                <a:lnTo>
                  <a:pt x="20694" y="0"/>
                </a:lnTo>
                <a:close/>
              </a:path>
            </a:pathLst>
          </a:custGeom>
          <a:solidFill>
            <a:srgbClr val="44ae6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97" name="Rectangle 7"/>
          <p:cNvSpPr/>
          <p:nvPr/>
        </p:nvSpPr>
        <p:spPr>
          <a:xfrm>
            <a:off x="8123400" y="297000"/>
            <a:ext cx="75564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385c1"/>
                </a:solidFill>
                <a:latin typeface="Times New Roman"/>
                <a:ea typeface="Times New Roman"/>
              </a:rPr>
              <a:t>ECA</a:t>
            </a:r>
            <a:endParaRPr b="0" lang="en-US" sz="2700" spc="-1" strike="noStrike">
              <a:solidFill>
                <a:srgbClr val="000000"/>
              </a:solidFill>
              <a:latin typeface="Calibri"/>
            </a:endParaRPr>
          </a:p>
        </p:txBody>
      </p:sp>
      <p:sp>
        <p:nvSpPr>
          <p:cNvPr id="98" name="Rectangle 8"/>
          <p:cNvSpPr/>
          <p:nvPr/>
        </p:nvSpPr>
        <p:spPr>
          <a:xfrm>
            <a:off x="7508880" y="284040"/>
            <a:ext cx="573120" cy="478080"/>
          </a:xfrm>
          <a:prstGeom prst="rect">
            <a:avLst/>
          </a:prstGeom>
          <a:blipFill rotWithShape="0">
            <a:blip r:embed="rId1"/>
            <a:srcRect/>
            <a:stretch/>
          </a:blipFill>
          <a:ln w="0">
            <a:noFill/>
          </a:ln>
        </p:spPr>
        <p:style>
          <a:lnRef idx="0"/>
          <a:fillRef idx="0"/>
          <a:effectRef idx="0"/>
          <a:fontRef idx="minor"/>
        </p:style>
        <p: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AutoShape 9"/>
          <p:cNvSpPr/>
          <p:nvPr/>
        </p:nvSpPr>
        <p:spPr>
          <a:xfrm>
            <a:off x="6121440" y="6135840"/>
            <a:ext cx="1292040" cy="441000"/>
          </a:xfrm>
          <a:custGeom>
            <a:avLst/>
            <a:gdLst>
              <a:gd name="textAreaLeft" fmla="*/ 0 w 1292040"/>
              <a:gd name="textAreaRight" fmla="*/ 1292400 w 1292040"/>
              <a:gd name="textAreaTop" fmla="*/ 0 h 441000"/>
              <a:gd name="textAreaBottom" fmla="*/ 441360 h 441000"/>
            </a:gdLst>
            <a:ahLst/>
            <a:rect l="textAreaLeft" t="textAreaTop" r="textAreaRight" b="textAreaBottom"/>
            <a:pathLst>
              <a:path w="21600" h="21600">
                <a:moveTo>
                  <a:pt x="18463" y="0"/>
                </a:moveTo>
                <a:lnTo>
                  <a:pt x="3137" y="0"/>
                </a:lnTo>
                <a:lnTo>
                  <a:pt x="2303" y="328"/>
                </a:lnTo>
                <a:lnTo>
                  <a:pt x="1554" y="1254"/>
                </a:lnTo>
                <a:lnTo>
                  <a:pt x="919" y="2690"/>
                </a:lnTo>
                <a:lnTo>
                  <a:pt x="428" y="4549"/>
                </a:lnTo>
                <a:lnTo>
                  <a:pt x="112" y="6742"/>
                </a:lnTo>
                <a:lnTo>
                  <a:pt x="0" y="9183"/>
                </a:lnTo>
                <a:lnTo>
                  <a:pt x="0" y="12416"/>
                </a:lnTo>
                <a:lnTo>
                  <a:pt x="112" y="14858"/>
                </a:lnTo>
                <a:lnTo>
                  <a:pt x="428" y="17052"/>
                </a:lnTo>
                <a:lnTo>
                  <a:pt x="919" y="18910"/>
                </a:lnTo>
                <a:lnTo>
                  <a:pt x="1554" y="20346"/>
                </a:lnTo>
                <a:lnTo>
                  <a:pt x="2303" y="21272"/>
                </a:lnTo>
                <a:lnTo>
                  <a:pt x="3137" y="21600"/>
                </a:lnTo>
                <a:lnTo>
                  <a:pt x="18463" y="21600"/>
                </a:lnTo>
                <a:lnTo>
                  <a:pt x="19297" y="21272"/>
                </a:lnTo>
                <a:lnTo>
                  <a:pt x="20047" y="20346"/>
                </a:lnTo>
                <a:lnTo>
                  <a:pt x="20681" y="18910"/>
                </a:lnTo>
                <a:lnTo>
                  <a:pt x="21172" y="17052"/>
                </a:lnTo>
                <a:lnTo>
                  <a:pt x="21488" y="14858"/>
                </a:lnTo>
                <a:lnTo>
                  <a:pt x="21600" y="12416"/>
                </a:lnTo>
                <a:lnTo>
                  <a:pt x="21600" y="9183"/>
                </a:lnTo>
                <a:lnTo>
                  <a:pt x="21488" y="6742"/>
                </a:lnTo>
                <a:lnTo>
                  <a:pt x="21172" y="4549"/>
                </a:lnTo>
                <a:lnTo>
                  <a:pt x="20681" y="2690"/>
                </a:lnTo>
                <a:lnTo>
                  <a:pt x="20047" y="1254"/>
                </a:lnTo>
                <a:lnTo>
                  <a:pt x="19297" y="328"/>
                </a:lnTo>
                <a:lnTo>
                  <a:pt x="18463" y="0"/>
                </a:lnTo>
                <a:close/>
              </a:path>
            </a:pathLst>
          </a:custGeom>
          <a:solidFill>
            <a:srgbClr val="399d5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00" name="Rectangle 10"/>
          <p:cNvSpPr/>
          <p:nvPr/>
        </p:nvSpPr>
        <p:spPr>
          <a:xfrm>
            <a:off x="6313320" y="6256440"/>
            <a:ext cx="9082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ea typeface="Lato"/>
              </a:rPr>
              <a:t>UNECA.ORG</a:t>
            </a:r>
            <a:endParaRPr b="0" lang="en-US" sz="1200" spc="-1" strike="noStrike">
              <a:solidFill>
                <a:srgbClr val="000000"/>
              </a:solidFill>
              <a:latin typeface="Calibri"/>
            </a:endParaRPr>
          </a:p>
        </p:txBody>
      </p:sp>
      <p:sp>
        <p:nvSpPr>
          <p:cNvPr id="101" name="Rectangle 11"/>
          <p:cNvSpPr/>
          <p:nvPr/>
        </p:nvSpPr>
        <p:spPr>
          <a:xfrm>
            <a:off x="279360" y="360360"/>
            <a:ext cx="25527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Lato"/>
                <a:ea typeface="Lato"/>
              </a:rPr>
              <a:t>Plan de la présentation</a:t>
            </a:r>
            <a:r>
              <a:rPr b="1" lang="en-US" sz="1800" spc="-1" strike="noStrike">
                <a:solidFill>
                  <a:srgbClr val="ffffff"/>
                </a:solidFill>
                <a:latin typeface="Lato"/>
                <a:ea typeface="Lato"/>
              </a:rPr>
              <a:t> </a:t>
            </a:r>
            <a:endParaRPr b="0" lang="en-US" sz="1800" spc="-1" strike="noStrike">
              <a:solidFill>
                <a:srgbClr val="000000"/>
              </a:solidFill>
              <a:latin typeface="Calibri"/>
            </a:endParaRPr>
          </a:p>
        </p:txBody>
      </p:sp>
      <p:sp>
        <p:nvSpPr>
          <p:cNvPr id="102" name="Rectangle 12"/>
          <p:cNvSpPr/>
          <p:nvPr/>
        </p:nvSpPr>
        <p:spPr>
          <a:xfrm>
            <a:off x="4659480" y="414360"/>
            <a:ext cx="560160" cy="27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1CAC8-353B-4597-A48E-73A80046961B}" type="slidenum">
              <a:rPr b="1" lang="en-US" sz="1600" spc="-1" strike="noStrike">
                <a:solidFill>
                  <a:srgbClr val="399d5c"/>
                </a:solidFill>
                <a:latin typeface="Lucida Sans"/>
                <a:ea typeface="Lucida Sans"/>
              </a:rPr>
              <a:t>&lt;number&gt;</a:t>
            </a:fld>
            <a:endParaRPr b="0" lang="en-US" sz="1600" spc="-1" strike="noStrike">
              <a:solidFill>
                <a:srgbClr val="000000"/>
              </a:solidFill>
              <a:latin typeface="Calibri"/>
            </a:endParaRPr>
          </a:p>
        </p:txBody>
      </p:sp>
      <p:sp>
        <p:nvSpPr>
          <p:cNvPr id="103" name="Line 13"/>
          <p:cNvSpPr/>
          <p:nvPr/>
        </p:nvSpPr>
        <p:spPr>
          <a:xfrm>
            <a:off x="0" y="6851520"/>
            <a:ext cx="9144000" cy="0"/>
          </a:xfrm>
          <a:prstGeom prst="line">
            <a:avLst/>
          </a:prstGeom>
          <a:ln w="12600">
            <a:solidFill>
              <a:srgbClr val="666666"/>
            </a:solidFill>
            <a:miter/>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04" name="Rectangle 1"/>
          <p:cNvSpPr/>
          <p:nvPr/>
        </p:nvSpPr>
        <p:spPr>
          <a:xfrm>
            <a:off x="900000" y="2276640"/>
            <a:ext cx="7344000" cy="2560680"/>
          </a:xfrm>
          <a:prstGeom prst="rect">
            <a:avLst/>
          </a:prstGeom>
          <a:noFill/>
          <a:ln w="0">
            <a:noFill/>
          </a:ln>
        </p:spPr>
        <p:style>
          <a:lnRef idx="0"/>
          <a:fillRef idx="0"/>
          <a:effectRef idx="0"/>
          <a:fontRef idx="minor"/>
        </p:style>
        <p:txBody>
          <a:bodyPr lIns="0" rIns="0" tIns="0" bIns="0" anchor="t">
            <a:spAutoFit/>
          </a:bodyPr>
          <a:p>
            <a:pPr marL="3826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Lato"/>
                <a:ea typeface="Lato"/>
              </a:rPr>
              <a:t>Contexte</a:t>
            </a:r>
            <a:endParaRPr b="0" lang="en-US" sz="2100" spc="-1" strike="noStrike">
              <a:solidFill>
                <a:srgbClr val="000000"/>
              </a:solidFill>
              <a:latin typeface="Calibri"/>
            </a:endParaRPr>
          </a:p>
          <a:p>
            <a:pPr marL="3826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Lato"/>
                <a:ea typeface="Lato"/>
              </a:rPr>
              <a:t>Capitalisation des acquis</a:t>
            </a:r>
            <a:endParaRPr b="0" lang="en-US" sz="2100" spc="-1" strike="noStrike">
              <a:solidFill>
                <a:srgbClr val="000000"/>
              </a:solidFill>
              <a:latin typeface="Calibri"/>
            </a:endParaRPr>
          </a:p>
          <a:p>
            <a:pPr marL="3826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Lato"/>
                <a:ea typeface="Lato"/>
              </a:rPr>
              <a:t>Domaines d’intervention</a:t>
            </a:r>
            <a:endParaRPr b="0" lang="en-US" sz="21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Lato"/>
                <a:ea typeface="Lato"/>
              </a:rPr>
              <a:t>Développement économique, commerce et promotion du secteur privé</a:t>
            </a:r>
            <a:endParaRPr b="0" lang="en-US" sz="21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Lato"/>
                <a:ea typeface="Lato"/>
              </a:rPr>
              <a:t>Intégration des dimensions Genre et Migration dans l’agenda sous régional</a:t>
            </a:r>
            <a:endParaRPr b="0" lang="en-US" sz="2100" spc="-1" strike="noStrike">
              <a:solidFill>
                <a:srgbClr val="000000"/>
              </a:solidFill>
              <a:latin typeface="Calibri"/>
            </a:endParaRPr>
          </a:p>
          <a:p>
            <a:pPr marL="3826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Lato"/>
                <a:ea typeface="Lato"/>
              </a:rPr>
              <a:t>Conclusion</a:t>
            </a:r>
            <a:endParaRPr b="0" lang="en-US" sz="21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2"/>
          <p:cNvSpPr/>
          <p:nvPr/>
        </p:nvSpPr>
        <p:spPr>
          <a:xfrm>
            <a:off x="0" y="6135840"/>
            <a:ext cx="6026040" cy="442800"/>
          </a:xfrm>
          <a:custGeom>
            <a:avLst/>
            <a:gdLst>
              <a:gd name="textAreaLeft" fmla="*/ 0 w 6026040"/>
              <a:gd name="textAreaRight" fmla="*/ 6026400 w 6026040"/>
              <a:gd name="textAreaTop" fmla="*/ 0 h 442800"/>
              <a:gd name="textAreaBottom" fmla="*/ 443160 h 442800"/>
            </a:gdLst>
            <a:ahLst/>
            <a:rect l="textAreaLeft" t="textAreaTop" r="textAreaRight" b="textAreaBottom"/>
            <a:pathLst>
              <a:path w="21600" h="21600">
                <a:moveTo>
                  <a:pt x="20929" y="0"/>
                </a:moveTo>
                <a:lnTo>
                  <a:pt x="0" y="0"/>
                </a:lnTo>
                <a:lnTo>
                  <a:pt x="0" y="21600"/>
                </a:lnTo>
                <a:lnTo>
                  <a:pt x="20929" y="21600"/>
                </a:lnTo>
                <a:lnTo>
                  <a:pt x="21107" y="21274"/>
                </a:lnTo>
                <a:lnTo>
                  <a:pt x="21268" y="20353"/>
                </a:lnTo>
                <a:lnTo>
                  <a:pt x="21404" y="18924"/>
                </a:lnTo>
                <a:lnTo>
                  <a:pt x="21508" y="17076"/>
                </a:lnTo>
                <a:lnTo>
                  <a:pt x="21576" y="14893"/>
                </a:lnTo>
                <a:lnTo>
                  <a:pt x="21600" y="12465"/>
                </a:lnTo>
                <a:lnTo>
                  <a:pt x="21600" y="9135"/>
                </a:lnTo>
                <a:lnTo>
                  <a:pt x="21576" y="6707"/>
                </a:lnTo>
                <a:lnTo>
                  <a:pt x="21508" y="4524"/>
                </a:lnTo>
                <a:lnTo>
                  <a:pt x="21404" y="2676"/>
                </a:lnTo>
                <a:lnTo>
                  <a:pt x="21268" y="1247"/>
                </a:lnTo>
                <a:lnTo>
                  <a:pt x="21107" y="326"/>
                </a:lnTo>
                <a:lnTo>
                  <a:pt x="20929" y="0"/>
                </a:lnTo>
                <a:close/>
              </a:path>
            </a:pathLst>
          </a:custGeom>
          <a:solidFill>
            <a:srgbClr val="44ae6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06" name="Rectangle 3"/>
          <p:cNvSpPr/>
          <p:nvPr/>
        </p:nvSpPr>
        <p:spPr>
          <a:xfrm>
            <a:off x="324000" y="6237360"/>
            <a:ext cx="5324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Lato"/>
                <a:ea typeface="Lato"/>
              </a:rPr>
              <a:t>Rapport d’activités UMA CEA 2014-2016 </a:t>
            </a:r>
            <a:endParaRPr b="0" lang="en-US" sz="1600" spc="-1" strike="noStrike">
              <a:solidFill>
                <a:srgbClr val="000000"/>
              </a:solidFill>
              <a:latin typeface="Calibri"/>
            </a:endParaRPr>
          </a:p>
        </p:txBody>
      </p:sp>
      <p:sp>
        <p:nvSpPr>
          <p:cNvPr id="107" name="AutoShape 4"/>
          <p:cNvSpPr/>
          <p:nvPr/>
        </p:nvSpPr>
        <p:spPr>
          <a:xfrm>
            <a:off x="0" y="0"/>
            <a:ext cx="9131400" cy="6845400"/>
          </a:xfrm>
          <a:custGeom>
            <a:avLst/>
            <a:gdLst>
              <a:gd name="textAreaLeft" fmla="*/ 0 w 9131400"/>
              <a:gd name="textAreaRight" fmla="*/ 9131760 w 9131400"/>
              <a:gd name="textAreaTop" fmla="*/ 0 h 6845400"/>
              <a:gd name="textAreaBottom" fmla="*/ 6845760 h 6845400"/>
            </a:gdLst>
            <a:ahLst/>
            <a:rect l="textAreaLeft" t="textAreaTop" r="textAreaRight" b="textAreaBottom"/>
            <a:pathLst>
              <a:path w="21600" h="21600">
                <a:moveTo>
                  <a:pt x="0" y="21600"/>
                </a:moveTo>
                <a:lnTo>
                  <a:pt x="0" y="0"/>
                </a:lnTo>
                <a:lnTo>
                  <a:pt x="21600" y="0"/>
                </a:lnTo>
              </a:path>
            </a:pathLst>
          </a:custGeom>
          <a:noFill/>
          <a:ln w="3240">
            <a:solidFill>
              <a:srgbClr val="7b7b7b"/>
            </a:solidFill>
            <a:round/>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08" name="AutoShape 5"/>
          <p:cNvSpPr/>
          <p:nvPr/>
        </p:nvSpPr>
        <p:spPr>
          <a:xfrm>
            <a:off x="0" y="0"/>
            <a:ext cx="9131400" cy="6845400"/>
          </a:xfrm>
          <a:custGeom>
            <a:avLst/>
            <a:gdLst>
              <a:gd name="textAreaLeft" fmla="*/ 0 w 9131400"/>
              <a:gd name="textAreaRight" fmla="*/ 9131760 w 9131400"/>
              <a:gd name="textAreaTop" fmla="*/ 0 h 6845400"/>
              <a:gd name="textAreaBottom" fmla="*/ 6845760 h 6845400"/>
            </a:gdLst>
            <a:ahLst/>
            <a:rect l="textAreaLeft" t="textAreaTop" r="textAreaRight" b="textAreaBottom"/>
            <a:pathLst>
              <a:path w="21600" h="21600">
                <a:moveTo>
                  <a:pt x="0" y="21600"/>
                </a:moveTo>
                <a:lnTo>
                  <a:pt x="0" y="0"/>
                </a:lnTo>
                <a:lnTo>
                  <a:pt x="21600" y="0"/>
                </a:lnTo>
              </a:path>
            </a:pathLst>
          </a:custGeom>
          <a:noFill/>
          <a:ln w="3240">
            <a:solidFill>
              <a:srgbClr val="7b7b7b"/>
            </a:solidFill>
            <a:round/>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09" name="AutoShape 6"/>
          <p:cNvSpPr/>
          <p:nvPr/>
        </p:nvSpPr>
        <p:spPr>
          <a:xfrm>
            <a:off x="0" y="290520"/>
            <a:ext cx="4475160" cy="441360"/>
          </a:xfrm>
          <a:custGeom>
            <a:avLst/>
            <a:gdLst>
              <a:gd name="textAreaLeft" fmla="*/ 0 w 4475160"/>
              <a:gd name="textAreaRight" fmla="*/ 4475520 w 4475160"/>
              <a:gd name="textAreaTop" fmla="*/ 0 h 441360"/>
              <a:gd name="textAreaBottom" fmla="*/ 441720 h 441360"/>
            </a:gdLst>
            <a:ahLst/>
            <a:rect l="textAreaLeft" t="textAreaTop" r="textAreaRight" b="textAreaBottom"/>
            <a:pathLst>
              <a:path w="21600" h="21600">
                <a:moveTo>
                  <a:pt x="20694" y="0"/>
                </a:moveTo>
                <a:lnTo>
                  <a:pt x="115" y="0"/>
                </a:lnTo>
                <a:lnTo>
                  <a:pt x="0" y="157"/>
                </a:lnTo>
                <a:lnTo>
                  <a:pt x="0" y="21443"/>
                </a:lnTo>
                <a:lnTo>
                  <a:pt x="115" y="21600"/>
                </a:lnTo>
                <a:lnTo>
                  <a:pt x="20694" y="21600"/>
                </a:lnTo>
                <a:lnTo>
                  <a:pt x="20935" y="21272"/>
                </a:lnTo>
                <a:lnTo>
                  <a:pt x="21151" y="20346"/>
                </a:lnTo>
                <a:lnTo>
                  <a:pt x="21335" y="18910"/>
                </a:lnTo>
                <a:lnTo>
                  <a:pt x="21476" y="17052"/>
                </a:lnTo>
                <a:lnTo>
                  <a:pt x="21568" y="14858"/>
                </a:lnTo>
                <a:lnTo>
                  <a:pt x="21600" y="12416"/>
                </a:lnTo>
                <a:lnTo>
                  <a:pt x="21600" y="9183"/>
                </a:lnTo>
                <a:lnTo>
                  <a:pt x="21568" y="6742"/>
                </a:lnTo>
                <a:lnTo>
                  <a:pt x="21476" y="4549"/>
                </a:lnTo>
                <a:lnTo>
                  <a:pt x="21335" y="2690"/>
                </a:lnTo>
                <a:lnTo>
                  <a:pt x="21151" y="1254"/>
                </a:lnTo>
                <a:lnTo>
                  <a:pt x="20935" y="328"/>
                </a:lnTo>
                <a:lnTo>
                  <a:pt x="20694" y="0"/>
                </a:lnTo>
                <a:close/>
              </a:path>
            </a:pathLst>
          </a:custGeom>
          <a:solidFill>
            <a:srgbClr val="44ae6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10" name="Rectangle 7"/>
          <p:cNvSpPr/>
          <p:nvPr/>
        </p:nvSpPr>
        <p:spPr>
          <a:xfrm>
            <a:off x="8123400" y="297000"/>
            <a:ext cx="75564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385c1"/>
                </a:solidFill>
                <a:latin typeface="Times New Roman"/>
                <a:ea typeface="Times New Roman"/>
              </a:rPr>
              <a:t>ECA</a:t>
            </a:r>
            <a:endParaRPr b="0" lang="en-US" sz="2700" spc="-1" strike="noStrike">
              <a:solidFill>
                <a:srgbClr val="000000"/>
              </a:solidFill>
              <a:latin typeface="Calibri"/>
            </a:endParaRPr>
          </a:p>
        </p:txBody>
      </p:sp>
      <p:sp>
        <p:nvSpPr>
          <p:cNvPr id="111" name="Rectangle 8"/>
          <p:cNvSpPr/>
          <p:nvPr/>
        </p:nvSpPr>
        <p:spPr>
          <a:xfrm>
            <a:off x="7508880" y="284040"/>
            <a:ext cx="573120" cy="478080"/>
          </a:xfrm>
          <a:prstGeom prst="rect">
            <a:avLst/>
          </a:prstGeom>
          <a:blipFill rotWithShape="0">
            <a:blip r:embed="rId1"/>
            <a:srcRect/>
            <a:stretch/>
          </a:blipFill>
          <a:ln w="0">
            <a:noFill/>
          </a:ln>
        </p:spPr>
        <p:style>
          <a:lnRef idx="0"/>
          <a:fillRef idx="0"/>
          <a:effectRef idx="0"/>
          <a:fontRef idx="minor"/>
        </p:style>
        <p: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AutoShape 9"/>
          <p:cNvSpPr/>
          <p:nvPr/>
        </p:nvSpPr>
        <p:spPr>
          <a:xfrm>
            <a:off x="6121440" y="6135840"/>
            <a:ext cx="1292040" cy="441000"/>
          </a:xfrm>
          <a:custGeom>
            <a:avLst/>
            <a:gdLst>
              <a:gd name="textAreaLeft" fmla="*/ 0 w 1292040"/>
              <a:gd name="textAreaRight" fmla="*/ 1292400 w 1292040"/>
              <a:gd name="textAreaTop" fmla="*/ 0 h 441000"/>
              <a:gd name="textAreaBottom" fmla="*/ 441360 h 441000"/>
            </a:gdLst>
            <a:ahLst/>
            <a:rect l="textAreaLeft" t="textAreaTop" r="textAreaRight" b="textAreaBottom"/>
            <a:pathLst>
              <a:path w="21600" h="21600">
                <a:moveTo>
                  <a:pt x="18463" y="0"/>
                </a:moveTo>
                <a:lnTo>
                  <a:pt x="3137" y="0"/>
                </a:lnTo>
                <a:lnTo>
                  <a:pt x="2303" y="328"/>
                </a:lnTo>
                <a:lnTo>
                  <a:pt x="1554" y="1254"/>
                </a:lnTo>
                <a:lnTo>
                  <a:pt x="919" y="2690"/>
                </a:lnTo>
                <a:lnTo>
                  <a:pt x="428" y="4549"/>
                </a:lnTo>
                <a:lnTo>
                  <a:pt x="112" y="6742"/>
                </a:lnTo>
                <a:lnTo>
                  <a:pt x="0" y="9183"/>
                </a:lnTo>
                <a:lnTo>
                  <a:pt x="0" y="12416"/>
                </a:lnTo>
                <a:lnTo>
                  <a:pt x="112" y="14858"/>
                </a:lnTo>
                <a:lnTo>
                  <a:pt x="428" y="17052"/>
                </a:lnTo>
                <a:lnTo>
                  <a:pt x="919" y="18910"/>
                </a:lnTo>
                <a:lnTo>
                  <a:pt x="1554" y="20346"/>
                </a:lnTo>
                <a:lnTo>
                  <a:pt x="2303" y="21272"/>
                </a:lnTo>
                <a:lnTo>
                  <a:pt x="3137" y="21600"/>
                </a:lnTo>
                <a:lnTo>
                  <a:pt x="18463" y="21600"/>
                </a:lnTo>
                <a:lnTo>
                  <a:pt x="19297" y="21272"/>
                </a:lnTo>
                <a:lnTo>
                  <a:pt x="20047" y="20346"/>
                </a:lnTo>
                <a:lnTo>
                  <a:pt x="20681" y="18910"/>
                </a:lnTo>
                <a:lnTo>
                  <a:pt x="21172" y="17052"/>
                </a:lnTo>
                <a:lnTo>
                  <a:pt x="21488" y="14858"/>
                </a:lnTo>
                <a:lnTo>
                  <a:pt x="21600" y="12416"/>
                </a:lnTo>
                <a:lnTo>
                  <a:pt x="21600" y="9183"/>
                </a:lnTo>
                <a:lnTo>
                  <a:pt x="21488" y="6742"/>
                </a:lnTo>
                <a:lnTo>
                  <a:pt x="21172" y="4549"/>
                </a:lnTo>
                <a:lnTo>
                  <a:pt x="20681" y="2690"/>
                </a:lnTo>
                <a:lnTo>
                  <a:pt x="20047" y="1254"/>
                </a:lnTo>
                <a:lnTo>
                  <a:pt x="19297" y="328"/>
                </a:lnTo>
                <a:lnTo>
                  <a:pt x="18463" y="0"/>
                </a:lnTo>
                <a:close/>
              </a:path>
            </a:pathLst>
          </a:custGeom>
          <a:solidFill>
            <a:srgbClr val="399d5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13" name="Rectangle 10"/>
          <p:cNvSpPr/>
          <p:nvPr/>
        </p:nvSpPr>
        <p:spPr>
          <a:xfrm>
            <a:off x="6313320" y="6256440"/>
            <a:ext cx="9082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ea typeface="Lato"/>
              </a:rPr>
              <a:t>UNECA.ORG</a:t>
            </a:r>
            <a:endParaRPr b="0" lang="en-US" sz="1200" spc="-1" strike="noStrike">
              <a:solidFill>
                <a:srgbClr val="000000"/>
              </a:solidFill>
              <a:latin typeface="Calibri"/>
            </a:endParaRPr>
          </a:p>
        </p:txBody>
      </p:sp>
      <p:sp>
        <p:nvSpPr>
          <p:cNvPr id="114" name="Rectangle 11"/>
          <p:cNvSpPr/>
          <p:nvPr/>
        </p:nvSpPr>
        <p:spPr>
          <a:xfrm>
            <a:off x="279360" y="360360"/>
            <a:ext cx="25527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Lato"/>
                <a:ea typeface="Lato"/>
              </a:rPr>
              <a:t>Contexte</a:t>
            </a:r>
            <a:r>
              <a:rPr b="1" lang="en-US" sz="1800" spc="-1" strike="noStrike">
                <a:solidFill>
                  <a:srgbClr val="ffffff"/>
                </a:solidFill>
                <a:latin typeface="Lato"/>
                <a:ea typeface="Lato"/>
              </a:rPr>
              <a:t> </a:t>
            </a:r>
            <a:endParaRPr b="0" lang="en-US" sz="1800" spc="-1" strike="noStrike">
              <a:solidFill>
                <a:srgbClr val="000000"/>
              </a:solidFill>
              <a:latin typeface="Calibri"/>
            </a:endParaRPr>
          </a:p>
        </p:txBody>
      </p:sp>
      <p:sp>
        <p:nvSpPr>
          <p:cNvPr id="115" name="Rectangle 12"/>
          <p:cNvSpPr/>
          <p:nvPr/>
        </p:nvSpPr>
        <p:spPr>
          <a:xfrm>
            <a:off x="4659480" y="414360"/>
            <a:ext cx="560160" cy="27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EB339-49F4-4E71-AE08-51AC31DC82F7}" type="slidenum">
              <a:rPr b="1" lang="en-US" sz="1600" spc="-1" strike="noStrike">
                <a:solidFill>
                  <a:srgbClr val="399d5c"/>
                </a:solidFill>
                <a:latin typeface="Lucida Sans"/>
                <a:ea typeface="Lucida Sans"/>
              </a:rPr>
              <a:t>&lt;number&gt;</a:t>
            </a:fld>
            <a:endParaRPr b="0" lang="en-US" sz="1600" spc="-1" strike="noStrike">
              <a:solidFill>
                <a:srgbClr val="000000"/>
              </a:solidFill>
              <a:latin typeface="Calibri"/>
            </a:endParaRPr>
          </a:p>
        </p:txBody>
      </p:sp>
      <p:sp>
        <p:nvSpPr>
          <p:cNvPr id="116" name="Line 13"/>
          <p:cNvSpPr/>
          <p:nvPr/>
        </p:nvSpPr>
        <p:spPr>
          <a:xfrm>
            <a:off x="0" y="6851520"/>
            <a:ext cx="9144000" cy="0"/>
          </a:xfrm>
          <a:prstGeom prst="line">
            <a:avLst/>
          </a:prstGeom>
          <a:ln w="12600">
            <a:solidFill>
              <a:srgbClr val="666666"/>
            </a:solidFill>
            <a:miter/>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17" name="Rectangle 1"/>
          <p:cNvSpPr/>
          <p:nvPr/>
        </p:nvSpPr>
        <p:spPr>
          <a:xfrm>
            <a:off x="611280" y="1341360"/>
            <a:ext cx="7632720" cy="4475880"/>
          </a:xfrm>
          <a:prstGeom prst="rect">
            <a:avLst/>
          </a:prstGeom>
          <a:noFill/>
          <a:ln w="0">
            <a:noFill/>
          </a:ln>
        </p:spPr>
        <p:style>
          <a:lnRef idx="0"/>
          <a:fillRef idx="0"/>
          <a:effectRef idx="0"/>
          <a:fontRef idx="minor"/>
        </p:style>
        <p:txBody>
          <a:bodyPr lIns="0" rIns="0" tIns="0" bIns="0" anchor="t">
            <a:spAutoFit/>
          </a:bodyPr>
          <a:p>
            <a:pPr marL="3254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a promotion de l’intégration régionale est un axe central du mandat de la CEA. Dans une continuité de l’appui de la Commission au projet africain d’intégration, inspiré du Plan d’action de Lagos, et structuré autour des objectifs du Traité d’Abuja, du Programme NEPAD et de la Vision 2063. </a:t>
            </a:r>
            <a:endParaRPr b="0" lang="en-US" sz="1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L’action des BSR AN est une composante à part entière de cette stratégie d’accompagnement</a:t>
            </a:r>
            <a:r>
              <a:rPr b="0" i="1" lang="fr-FR" sz="1400" spc="-1" strike="noStrike">
                <a:solidFill>
                  <a:srgbClr val="000000"/>
                </a:solidFill>
                <a:latin typeface="Calibri"/>
                <a:ea typeface="Calibri"/>
              </a:rPr>
              <a:t>. </a:t>
            </a:r>
            <a:endParaRPr b="0" lang="en-US" sz="1400" spc="-1" strike="noStrike">
              <a:solidFill>
                <a:srgbClr val="000000"/>
              </a:solidFill>
              <a:latin typeface="Calibri"/>
            </a:endParaRPr>
          </a:p>
          <a:p>
            <a:pPr marL="3254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 BSR-AN et l’UMA ont signé un mémorandum d’entente le 14 janvier 2008 pour la formalisation de leur coopération bilatérale. </a:t>
            </a:r>
            <a:endParaRPr b="0" lang="en-US" sz="1400" spc="-1" strike="noStrike">
              <a:solidFill>
                <a:srgbClr val="000000"/>
              </a:solidFill>
              <a:latin typeface="Calibri"/>
            </a:endParaRPr>
          </a:p>
          <a:p>
            <a:pPr marL="3254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s activités mises en œuvre 2014-2016 s’inscrivent dans une logique: </a:t>
            </a:r>
            <a:endParaRPr b="0" lang="en-US" sz="1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de prise en compte des nouveaux défis de la sous-région, dans le contexte des mutations politiques intervenues depuis 2011, </a:t>
            </a:r>
            <a:endParaRPr b="0" lang="en-US" sz="1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de recadrage de l’action de la CEA vers des recherches/analyses basées sur des données statistiques plus affinées, et </a:t>
            </a:r>
            <a:endParaRPr b="0" lang="en-US" sz="1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de capitalisation des acquis par la mise en œuvre des recommandations formulées lors des évaluations précédentes.</a:t>
            </a:r>
            <a:endParaRPr b="0" lang="en-US" sz="1400" spc="-1" strike="noStrike">
              <a:solidFill>
                <a:srgbClr val="000000"/>
              </a:solidFill>
              <a:latin typeface="Calibri"/>
            </a:endParaRPr>
          </a:p>
          <a:p>
            <a:pPr marL="3254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fis et enjeux du développement du Maghreb</a:t>
            </a:r>
            <a:endParaRPr b="0" lang="en-US" sz="1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Existence d’un diagnostic partagé entre les deux institutions sur les défis de la sous région (intégration régionale, migration, commerce…)</a:t>
            </a:r>
            <a:endParaRPr b="0" lang="en-US" sz="1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Au niveau continental: la construction de la Zone de libre-échange continentale pour laquelle l’UMA devrait jouer un rôle catalyseur au nom des pays maghrébins. </a:t>
            </a:r>
            <a:endParaRPr b="0" lang="en-US" sz="1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Au niveau global: le nouveau cadre de coopération pour le développement construit autour des Objectifs du Développement Durables 2030, mais intégrant également l’Agenda d’Action d’Addis Abeba (AAAA) et l’Agenda africain 2063.</a:t>
            </a:r>
            <a:endParaRPr b="0" lang="en-US" sz="1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p:cNvSpPr/>
          <p:nvPr/>
        </p:nvSpPr>
        <p:spPr>
          <a:xfrm>
            <a:off x="0" y="6135840"/>
            <a:ext cx="6026040" cy="442800"/>
          </a:xfrm>
          <a:custGeom>
            <a:avLst/>
            <a:gdLst>
              <a:gd name="textAreaLeft" fmla="*/ 0 w 6026040"/>
              <a:gd name="textAreaRight" fmla="*/ 6026400 w 6026040"/>
              <a:gd name="textAreaTop" fmla="*/ 0 h 442800"/>
              <a:gd name="textAreaBottom" fmla="*/ 443160 h 442800"/>
            </a:gdLst>
            <a:ahLst/>
            <a:rect l="textAreaLeft" t="textAreaTop" r="textAreaRight" b="textAreaBottom"/>
            <a:pathLst>
              <a:path w="21600" h="21600">
                <a:moveTo>
                  <a:pt x="20929" y="0"/>
                </a:moveTo>
                <a:lnTo>
                  <a:pt x="0" y="0"/>
                </a:lnTo>
                <a:lnTo>
                  <a:pt x="0" y="21600"/>
                </a:lnTo>
                <a:lnTo>
                  <a:pt x="20929" y="21600"/>
                </a:lnTo>
                <a:lnTo>
                  <a:pt x="21107" y="21274"/>
                </a:lnTo>
                <a:lnTo>
                  <a:pt x="21268" y="20353"/>
                </a:lnTo>
                <a:lnTo>
                  <a:pt x="21404" y="18924"/>
                </a:lnTo>
                <a:lnTo>
                  <a:pt x="21508" y="17076"/>
                </a:lnTo>
                <a:lnTo>
                  <a:pt x="21576" y="14893"/>
                </a:lnTo>
                <a:lnTo>
                  <a:pt x="21600" y="12465"/>
                </a:lnTo>
                <a:lnTo>
                  <a:pt x="21600" y="9135"/>
                </a:lnTo>
                <a:lnTo>
                  <a:pt x="21576" y="6707"/>
                </a:lnTo>
                <a:lnTo>
                  <a:pt x="21508" y="4524"/>
                </a:lnTo>
                <a:lnTo>
                  <a:pt x="21404" y="2676"/>
                </a:lnTo>
                <a:lnTo>
                  <a:pt x="21268" y="1247"/>
                </a:lnTo>
                <a:lnTo>
                  <a:pt x="21107" y="326"/>
                </a:lnTo>
                <a:lnTo>
                  <a:pt x="20929" y="0"/>
                </a:lnTo>
                <a:close/>
              </a:path>
            </a:pathLst>
          </a:custGeom>
          <a:solidFill>
            <a:srgbClr val="44ae6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19" name="Rectangle 3"/>
          <p:cNvSpPr/>
          <p:nvPr/>
        </p:nvSpPr>
        <p:spPr>
          <a:xfrm>
            <a:off x="324000" y="6237360"/>
            <a:ext cx="5324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Lato"/>
                <a:ea typeface="Lato"/>
              </a:rPr>
              <a:t>Rapport d’activités UMA CEA 2014-2016 </a:t>
            </a:r>
            <a:endParaRPr b="0" lang="en-US" sz="1600" spc="-1" strike="noStrike">
              <a:solidFill>
                <a:srgbClr val="000000"/>
              </a:solidFill>
              <a:latin typeface="Calibri"/>
            </a:endParaRPr>
          </a:p>
        </p:txBody>
      </p:sp>
      <p:sp>
        <p:nvSpPr>
          <p:cNvPr id="120" name="AutoShape 4"/>
          <p:cNvSpPr/>
          <p:nvPr/>
        </p:nvSpPr>
        <p:spPr>
          <a:xfrm>
            <a:off x="0" y="0"/>
            <a:ext cx="9131400" cy="6845400"/>
          </a:xfrm>
          <a:custGeom>
            <a:avLst/>
            <a:gdLst>
              <a:gd name="textAreaLeft" fmla="*/ 0 w 9131400"/>
              <a:gd name="textAreaRight" fmla="*/ 9131760 w 9131400"/>
              <a:gd name="textAreaTop" fmla="*/ 0 h 6845400"/>
              <a:gd name="textAreaBottom" fmla="*/ 6845760 h 6845400"/>
            </a:gdLst>
            <a:ahLst/>
            <a:rect l="textAreaLeft" t="textAreaTop" r="textAreaRight" b="textAreaBottom"/>
            <a:pathLst>
              <a:path w="21600" h="21600">
                <a:moveTo>
                  <a:pt x="0" y="21600"/>
                </a:moveTo>
                <a:lnTo>
                  <a:pt x="0" y="0"/>
                </a:lnTo>
                <a:lnTo>
                  <a:pt x="21600" y="0"/>
                </a:lnTo>
              </a:path>
            </a:pathLst>
          </a:custGeom>
          <a:noFill/>
          <a:ln w="3240">
            <a:solidFill>
              <a:srgbClr val="7b7b7b"/>
            </a:solidFill>
            <a:round/>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21" name="AutoShape 5"/>
          <p:cNvSpPr/>
          <p:nvPr/>
        </p:nvSpPr>
        <p:spPr>
          <a:xfrm>
            <a:off x="0" y="0"/>
            <a:ext cx="9131400" cy="6845400"/>
          </a:xfrm>
          <a:custGeom>
            <a:avLst/>
            <a:gdLst>
              <a:gd name="textAreaLeft" fmla="*/ 0 w 9131400"/>
              <a:gd name="textAreaRight" fmla="*/ 9131760 w 9131400"/>
              <a:gd name="textAreaTop" fmla="*/ 0 h 6845400"/>
              <a:gd name="textAreaBottom" fmla="*/ 6845760 h 6845400"/>
            </a:gdLst>
            <a:ahLst/>
            <a:rect l="textAreaLeft" t="textAreaTop" r="textAreaRight" b="textAreaBottom"/>
            <a:pathLst>
              <a:path w="21600" h="21600">
                <a:moveTo>
                  <a:pt x="0" y="21600"/>
                </a:moveTo>
                <a:lnTo>
                  <a:pt x="0" y="0"/>
                </a:lnTo>
                <a:lnTo>
                  <a:pt x="21600" y="0"/>
                </a:lnTo>
              </a:path>
            </a:pathLst>
          </a:custGeom>
          <a:noFill/>
          <a:ln w="3240">
            <a:solidFill>
              <a:srgbClr val="7b7b7b"/>
            </a:solidFill>
            <a:round/>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22" name="AutoShape 6"/>
          <p:cNvSpPr/>
          <p:nvPr/>
        </p:nvSpPr>
        <p:spPr>
          <a:xfrm>
            <a:off x="0" y="290520"/>
            <a:ext cx="4475160" cy="441360"/>
          </a:xfrm>
          <a:custGeom>
            <a:avLst/>
            <a:gdLst>
              <a:gd name="textAreaLeft" fmla="*/ 0 w 4475160"/>
              <a:gd name="textAreaRight" fmla="*/ 4475520 w 4475160"/>
              <a:gd name="textAreaTop" fmla="*/ 0 h 441360"/>
              <a:gd name="textAreaBottom" fmla="*/ 441720 h 441360"/>
            </a:gdLst>
            <a:ahLst/>
            <a:rect l="textAreaLeft" t="textAreaTop" r="textAreaRight" b="textAreaBottom"/>
            <a:pathLst>
              <a:path w="21600" h="21600">
                <a:moveTo>
                  <a:pt x="20694" y="0"/>
                </a:moveTo>
                <a:lnTo>
                  <a:pt x="115" y="0"/>
                </a:lnTo>
                <a:lnTo>
                  <a:pt x="0" y="157"/>
                </a:lnTo>
                <a:lnTo>
                  <a:pt x="0" y="21443"/>
                </a:lnTo>
                <a:lnTo>
                  <a:pt x="115" y="21600"/>
                </a:lnTo>
                <a:lnTo>
                  <a:pt x="20694" y="21600"/>
                </a:lnTo>
                <a:lnTo>
                  <a:pt x="20935" y="21272"/>
                </a:lnTo>
                <a:lnTo>
                  <a:pt x="21151" y="20346"/>
                </a:lnTo>
                <a:lnTo>
                  <a:pt x="21335" y="18910"/>
                </a:lnTo>
                <a:lnTo>
                  <a:pt x="21476" y="17052"/>
                </a:lnTo>
                <a:lnTo>
                  <a:pt x="21568" y="14858"/>
                </a:lnTo>
                <a:lnTo>
                  <a:pt x="21600" y="12416"/>
                </a:lnTo>
                <a:lnTo>
                  <a:pt x="21600" y="9183"/>
                </a:lnTo>
                <a:lnTo>
                  <a:pt x="21568" y="6742"/>
                </a:lnTo>
                <a:lnTo>
                  <a:pt x="21476" y="4549"/>
                </a:lnTo>
                <a:lnTo>
                  <a:pt x="21335" y="2690"/>
                </a:lnTo>
                <a:lnTo>
                  <a:pt x="21151" y="1254"/>
                </a:lnTo>
                <a:lnTo>
                  <a:pt x="20935" y="328"/>
                </a:lnTo>
                <a:lnTo>
                  <a:pt x="20694" y="0"/>
                </a:lnTo>
                <a:close/>
              </a:path>
            </a:pathLst>
          </a:custGeom>
          <a:solidFill>
            <a:srgbClr val="44ae6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23" name="Rectangle 7"/>
          <p:cNvSpPr/>
          <p:nvPr/>
        </p:nvSpPr>
        <p:spPr>
          <a:xfrm>
            <a:off x="8123400" y="297000"/>
            <a:ext cx="75564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385c1"/>
                </a:solidFill>
                <a:latin typeface="Times New Roman"/>
                <a:ea typeface="Times New Roman"/>
              </a:rPr>
              <a:t>ECA</a:t>
            </a:r>
            <a:endParaRPr b="0" lang="en-US" sz="2700" spc="-1" strike="noStrike">
              <a:solidFill>
                <a:srgbClr val="000000"/>
              </a:solidFill>
              <a:latin typeface="Calibri"/>
            </a:endParaRPr>
          </a:p>
        </p:txBody>
      </p:sp>
      <p:sp>
        <p:nvSpPr>
          <p:cNvPr id="124" name="Rectangle 8"/>
          <p:cNvSpPr/>
          <p:nvPr/>
        </p:nvSpPr>
        <p:spPr>
          <a:xfrm>
            <a:off x="7508880" y="284040"/>
            <a:ext cx="573120" cy="478080"/>
          </a:xfrm>
          <a:prstGeom prst="rect">
            <a:avLst/>
          </a:prstGeom>
          <a:blipFill rotWithShape="0">
            <a:blip r:embed="rId1"/>
            <a:srcRect/>
            <a:stretch/>
          </a:blipFill>
          <a:ln w="0">
            <a:noFill/>
          </a:ln>
        </p:spPr>
        <p:style>
          <a:lnRef idx="0"/>
          <a:fillRef idx="0"/>
          <a:effectRef idx="0"/>
          <a:fontRef idx="minor"/>
        </p:style>
        <p: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AutoShape 9"/>
          <p:cNvSpPr/>
          <p:nvPr/>
        </p:nvSpPr>
        <p:spPr>
          <a:xfrm>
            <a:off x="6121440" y="6135840"/>
            <a:ext cx="1292040" cy="441000"/>
          </a:xfrm>
          <a:custGeom>
            <a:avLst/>
            <a:gdLst>
              <a:gd name="textAreaLeft" fmla="*/ 0 w 1292040"/>
              <a:gd name="textAreaRight" fmla="*/ 1292400 w 1292040"/>
              <a:gd name="textAreaTop" fmla="*/ 0 h 441000"/>
              <a:gd name="textAreaBottom" fmla="*/ 441360 h 441000"/>
            </a:gdLst>
            <a:ahLst/>
            <a:rect l="textAreaLeft" t="textAreaTop" r="textAreaRight" b="textAreaBottom"/>
            <a:pathLst>
              <a:path w="21600" h="21600">
                <a:moveTo>
                  <a:pt x="18463" y="0"/>
                </a:moveTo>
                <a:lnTo>
                  <a:pt x="3137" y="0"/>
                </a:lnTo>
                <a:lnTo>
                  <a:pt x="2303" y="328"/>
                </a:lnTo>
                <a:lnTo>
                  <a:pt x="1554" y="1254"/>
                </a:lnTo>
                <a:lnTo>
                  <a:pt x="919" y="2690"/>
                </a:lnTo>
                <a:lnTo>
                  <a:pt x="428" y="4549"/>
                </a:lnTo>
                <a:lnTo>
                  <a:pt x="112" y="6742"/>
                </a:lnTo>
                <a:lnTo>
                  <a:pt x="0" y="9183"/>
                </a:lnTo>
                <a:lnTo>
                  <a:pt x="0" y="12416"/>
                </a:lnTo>
                <a:lnTo>
                  <a:pt x="112" y="14858"/>
                </a:lnTo>
                <a:lnTo>
                  <a:pt x="428" y="17052"/>
                </a:lnTo>
                <a:lnTo>
                  <a:pt x="919" y="18910"/>
                </a:lnTo>
                <a:lnTo>
                  <a:pt x="1554" y="20346"/>
                </a:lnTo>
                <a:lnTo>
                  <a:pt x="2303" y="21272"/>
                </a:lnTo>
                <a:lnTo>
                  <a:pt x="3137" y="21600"/>
                </a:lnTo>
                <a:lnTo>
                  <a:pt x="18463" y="21600"/>
                </a:lnTo>
                <a:lnTo>
                  <a:pt x="19297" y="21272"/>
                </a:lnTo>
                <a:lnTo>
                  <a:pt x="20047" y="20346"/>
                </a:lnTo>
                <a:lnTo>
                  <a:pt x="20681" y="18910"/>
                </a:lnTo>
                <a:lnTo>
                  <a:pt x="21172" y="17052"/>
                </a:lnTo>
                <a:lnTo>
                  <a:pt x="21488" y="14858"/>
                </a:lnTo>
                <a:lnTo>
                  <a:pt x="21600" y="12416"/>
                </a:lnTo>
                <a:lnTo>
                  <a:pt x="21600" y="9183"/>
                </a:lnTo>
                <a:lnTo>
                  <a:pt x="21488" y="6742"/>
                </a:lnTo>
                <a:lnTo>
                  <a:pt x="21172" y="4549"/>
                </a:lnTo>
                <a:lnTo>
                  <a:pt x="20681" y="2690"/>
                </a:lnTo>
                <a:lnTo>
                  <a:pt x="20047" y="1254"/>
                </a:lnTo>
                <a:lnTo>
                  <a:pt x="19297" y="328"/>
                </a:lnTo>
                <a:lnTo>
                  <a:pt x="18463" y="0"/>
                </a:lnTo>
                <a:close/>
              </a:path>
            </a:pathLst>
          </a:custGeom>
          <a:solidFill>
            <a:srgbClr val="399d5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26" name="Rectangle 10"/>
          <p:cNvSpPr/>
          <p:nvPr/>
        </p:nvSpPr>
        <p:spPr>
          <a:xfrm>
            <a:off x="6313320" y="6256440"/>
            <a:ext cx="9082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ea typeface="Lato"/>
              </a:rPr>
              <a:t>UNECA.ORG</a:t>
            </a:r>
            <a:endParaRPr b="0" lang="en-US" sz="1200" spc="-1" strike="noStrike">
              <a:solidFill>
                <a:srgbClr val="000000"/>
              </a:solidFill>
              <a:latin typeface="Calibri"/>
            </a:endParaRPr>
          </a:p>
        </p:txBody>
      </p:sp>
      <p:sp>
        <p:nvSpPr>
          <p:cNvPr id="127" name="Rectangle 11"/>
          <p:cNvSpPr/>
          <p:nvPr/>
        </p:nvSpPr>
        <p:spPr>
          <a:xfrm>
            <a:off x="279360" y="360360"/>
            <a:ext cx="25527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Lato"/>
                <a:ea typeface="Lato"/>
              </a:rPr>
              <a:t>Capitalisation des acquis</a:t>
            </a:r>
            <a:endParaRPr b="0" lang="en-US" sz="1800" spc="-1" strike="noStrike">
              <a:solidFill>
                <a:srgbClr val="000000"/>
              </a:solidFill>
              <a:latin typeface="Calibri"/>
            </a:endParaRPr>
          </a:p>
        </p:txBody>
      </p:sp>
      <p:sp>
        <p:nvSpPr>
          <p:cNvPr id="128" name="Rectangle 12"/>
          <p:cNvSpPr/>
          <p:nvPr/>
        </p:nvSpPr>
        <p:spPr>
          <a:xfrm>
            <a:off x="4659480" y="414360"/>
            <a:ext cx="560160" cy="27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4A51E-9DD2-401C-9A45-38E218BB398E}" type="slidenum">
              <a:rPr b="1" lang="en-US" sz="1600" spc="-1" strike="noStrike">
                <a:solidFill>
                  <a:srgbClr val="399d5c"/>
                </a:solidFill>
                <a:latin typeface="Lucida Sans"/>
                <a:ea typeface="Lucida Sans"/>
              </a:rPr>
              <a:t>&lt;number&gt;</a:t>
            </a:fld>
            <a:endParaRPr b="0" lang="en-US" sz="1600" spc="-1" strike="noStrike">
              <a:solidFill>
                <a:srgbClr val="000000"/>
              </a:solidFill>
              <a:latin typeface="Calibri"/>
            </a:endParaRPr>
          </a:p>
        </p:txBody>
      </p:sp>
      <p:sp>
        <p:nvSpPr>
          <p:cNvPr id="129" name="Line 13"/>
          <p:cNvSpPr/>
          <p:nvPr/>
        </p:nvSpPr>
        <p:spPr>
          <a:xfrm>
            <a:off x="0" y="6851520"/>
            <a:ext cx="9144000" cy="0"/>
          </a:xfrm>
          <a:prstGeom prst="line">
            <a:avLst/>
          </a:prstGeom>
          <a:ln w="12600">
            <a:solidFill>
              <a:srgbClr val="666666"/>
            </a:solidFill>
            <a:miter/>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30" name="Rectangle 1"/>
          <p:cNvSpPr/>
          <p:nvPr/>
        </p:nvSpPr>
        <p:spPr>
          <a:xfrm>
            <a:off x="900000" y="2349360"/>
            <a:ext cx="7344000" cy="2439720"/>
          </a:xfrm>
          <a:prstGeom prst="rect">
            <a:avLst/>
          </a:prstGeom>
          <a:noFill/>
          <a:ln w="0">
            <a:noFill/>
          </a:ln>
        </p:spPr>
        <p:style>
          <a:lnRef idx="0"/>
          <a:fillRef idx="0"/>
          <a:effectRef idx="0"/>
          <a:fontRef idx="minor"/>
        </p:style>
        <p:txBody>
          <a:bodyPr lIns="0" rIns="0" tIns="0" bIns="0" anchor="t">
            <a:spAutoFit/>
          </a:bodyPr>
          <a:p>
            <a:pPr marL="3254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s activités mises en œuvre intègrent également les principales recommandations des processus d’évaluation précédents</a:t>
            </a:r>
            <a:endParaRPr b="0" lang="en-US" sz="2000" spc="-1" strike="noStrike">
              <a:solidFill>
                <a:srgbClr val="000000"/>
              </a:solidFill>
              <a:latin typeface="Calibri"/>
            </a:endParaRPr>
          </a:p>
          <a:p>
            <a:pPr marL="3254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dernière réunion d’évaluation (mai 2015) </a:t>
            </a:r>
            <a:endParaRPr b="0" lang="en-US" sz="20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e choix des thématiques d’intervention et des activités </a:t>
            </a:r>
            <a:endParaRPr b="0" lang="en-US" sz="20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e diagnostic et l’analyse prospective partagés </a:t>
            </a:r>
            <a:endParaRPr b="0" lang="en-US" sz="20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Une plus grande ouverture du champ de partenariat vers les autres agences du système des Nations Unies et les institutions internationales ou régionales</a:t>
            </a:r>
            <a:endParaRPr b="0" lang="en-US" sz="20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AutoShape 2"/>
          <p:cNvSpPr/>
          <p:nvPr/>
        </p:nvSpPr>
        <p:spPr>
          <a:xfrm>
            <a:off x="0" y="6135840"/>
            <a:ext cx="6026040" cy="442800"/>
          </a:xfrm>
          <a:custGeom>
            <a:avLst/>
            <a:gdLst>
              <a:gd name="textAreaLeft" fmla="*/ 0 w 6026040"/>
              <a:gd name="textAreaRight" fmla="*/ 6026400 w 6026040"/>
              <a:gd name="textAreaTop" fmla="*/ 0 h 442800"/>
              <a:gd name="textAreaBottom" fmla="*/ 443160 h 442800"/>
            </a:gdLst>
            <a:ahLst/>
            <a:rect l="textAreaLeft" t="textAreaTop" r="textAreaRight" b="textAreaBottom"/>
            <a:pathLst>
              <a:path w="21600" h="21600">
                <a:moveTo>
                  <a:pt x="20929" y="0"/>
                </a:moveTo>
                <a:lnTo>
                  <a:pt x="0" y="0"/>
                </a:lnTo>
                <a:lnTo>
                  <a:pt x="0" y="21600"/>
                </a:lnTo>
                <a:lnTo>
                  <a:pt x="20929" y="21600"/>
                </a:lnTo>
                <a:lnTo>
                  <a:pt x="21107" y="21274"/>
                </a:lnTo>
                <a:lnTo>
                  <a:pt x="21268" y="20353"/>
                </a:lnTo>
                <a:lnTo>
                  <a:pt x="21404" y="18924"/>
                </a:lnTo>
                <a:lnTo>
                  <a:pt x="21508" y="17076"/>
                </a:lnTo>
                <a:lnTo>
                  <a:pt x="21576" y="14893"/>
                </a:lnTo>
                <a:lnTo>
                  <a:pt x="21600" y="12465"/>
                </a:lnTo>
                <a:lnTo>
                  <a:pt x="21600" y="9135"/>
                </a:lnTo>
                <a:lnTo>
                  <a:pt x="21576" y="6707"/>
                </a:lnTo>
                <a:lnTo>
                  <a:pt x="21508" y="4524"/>
                </a:lnTo>
                <a:lnTo>
                  <a:pt x="21404" y="2676"/>
                </a:lnTo>
                <a:lnTo>
                  <a:pt x="21268" y="1247"/>
                </a:lnTo>
                <a:lnTo>
                  <a:pt x="21107" y="326"/>
                </a:lnTo>
                <a:lnTo>
                  <a:pt x="20929" y="0"/>
                </a:lnTo>
                <a:close/>
              </a:path>
            </a:pathLst>
          </a:custGeom>
          <a:solidFill>
            <a:srgbClr val="44ae6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32" name="Rectangle 3"/>
          <p:cNvSpPr/>
          <p:nvPr/>
        </p:nvSpPr>
        <p:spPr>
          <a:xfrm>
            <a:off x="324000" y="6237360"/>
            <a:ext cx="5324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Lato"/>
                <a:ea typeface="Lato"/>
              </a:rPr>
              <a:t>Rapport d’activités UMA CEA 2014-2016 </a:t>
            </a:r>
            <a:endParaRPr b="0" lang="en-US" sz="1600" spc="-1" strike="noStrike">
              <a:solidFill>
                <a:srgbClr val="000000"/>
              </a:solidFill>
              <a:latin typeface="Calibri"/>
            </a:endParaRPr>
          </a:p>
        </p:txBody>
      </p:sp>
      <p:sp>
        <p:nvSpPr>
          <p:cNvPr id="133" name="AutoShape 4"/>
          <p:cNvSpPr/>
          <p:nvPr/>
        </p:nvSpPr>
        <p:spPr>
          <a:xfrm>
            <a:off x="0" y="0"/>
            <a:ext cx="9131400" cy="6845400"/>
          </a:xfrm>
          <a:custGeom>
            <a:avLst/>
            <a:gdLst>
              <a:gd name="textAreaLeft" fmla="*/ 0 w 9131400"/>
              <a:gd name="textAreaRight" fmla="*/ 9131760 w 9131400"/>
              <a:gd name="textAreaTop" fmla="*/ 0 h 6845400"/>
              <a:gd name="textAreaBottom" fmla="*/ 6845760 h 6845400"/>
            </a:gdLst>
            <a:ahLst/>
            <a:rect l="textAreaLeft" t="textAreaTop" r="textAreaRight" b="textAreaBottom"/>
            <a:pathLst>
              <a:path w="21600" h="21600">
                <a:moveTo>
                  <a:pt x="0" y="21600"/>
                </a:moveTo>
                <a:lnTo>
                  <a:pt x="0" y="0"/>
                </a:lnTo>
                <a:lnTo>
                  <a:pt x="21600" y="0"/>
                </a:lnTo>
              </a:path>
            </a:pathLst>
          </a:custGeom>
          <a:noFill/>
          <a:ln w="3240">
            <a:solidFill>
              <a:srgbClr val="7b7b7b"/>
            </a:solidFill>
            <a:round/>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34" name="AutoShape 5"/>
          <p:cNvSpPr/>
          <p:nvPr/>
        </p:nvSpPr>
        <p:spPr>
          <a:xfrm>
            <a:off x="0" y="0"/>
            <a:ext cx="9131400" cy="6845400"/>
          </a:xfrm>
          <a:custGeom>
            <a:avLst/>
            <a:gdLst>
              <a:gd name="textAreaLeft" fmla="*/ 0 w 9131400"/>
              <a:gd name="textAreaRight" fmla="*/ 9131760 w 9131400"/>
              <a:gd name="textAreaTop" fmla="*/ 0 h 6845400"/>
              <a:gd name="textAreaBottom" fmla="*/ 6845760 h 6845400"/>
            </a:gdLst>
            <a:ahLst/>
            <a:rect l="textAreaLeft" t="textAreaTop" r="textAreaRight" b="textAreaBottom"/>
            <a:pathLst>
              <a:path w="21600" h="21600">
                <a:moveTo>
                  <a:pt x="0" y="21600"/>
                </a:moveTo>
                <a:lnTo>
                  <a:pt x="0" y="0"/>
                </a:lnTo>
                <a:lnTo>
                  <a:pt x="21600" y="0"/>
                </a:lnTo>
              </a:path>
            </a:pathLst>
          </a:custGeom>
          <a:noFill/>
          <a:ln w="3240">
            <a:solidFill>
              <a:srgbClr val="7b7b7b"/>
            </a:solidFill>
            <a:round/>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35" name="AutoShape 6"/>
          <p:cNvSpPr/>
          <p:nvPr/>
        </p:nvSpPr>
        <p:spPr>
          <a:xfrm>
            <a:off x="0" y="290520"/>
            <a:ext cx="4475160" cy="441360"/>
          </a:xfrm>
          <a:custGeom>
            <a:avLst/>
            <a:gdLst>
              <a:gd name="textAreaLeft" fmla="*/ 0 w 4475160"/>
              <a:gd name="textAreaRight" fmla="*/ 4475520 w 4475160"/>
              <a:gd name="textAreaTop" fmla="*/ 0 h 441360"/>
              <a:gd name="textAreaBottom" fmla="*/ 441720 h 441360"/>
            </a:gdLst>
            <a:ahLst/>
            <a:rect l="textAreaLeft" t="textAreaTop" r="textAreaRight" b="textAreaBottom"/>
            <a:pathLst>
              <a:path w="21600" h="21600">
                <a:moveTo>
                  <a:pt x="20694" y="0"/>
                </a:moveTo>
                <a:lnTo>
                  <a:pt x="115" y="0"/>
                </a:lnTo>
                <a:lnTo>
                  <a:pt x="0" y="157"/>
                </a:lnTo>
                <a:lnTo>
                  <a:pt x="0" y="21443"/>
                </a:lnTo>
                <a:lnTo>
                  <a:pt x="115" y="21600"/>
                </a:lnTo>
                <a:lnTo>
                  <a:pt x="20694" y="21600"/>
                </a:lnTo>
                <a:lnTo>
                  <a:pt x="20935" y="21272"/>
                </a:lnTo>
                <a:lnTo>
                  <a:pt x="21151" y="20346"/>
                </a:lnTo>
                <a:lnTo>
                  <a:pt x="21335" y="18910"/>
                </a:lnTo>
                <a:lnTo>
                  <a:pt x="21476" y="17052"/>
                </a:lnTo>
                <a:lnTo>
                  <a:pt x="21568" y="14858"/>
                </a:lnTo>
                <a:lnTo>
                  <a:pt x="21600" y="12416"/>
                </a:lnTo>
                <a:lnTo>
                  <a:pt x="21600" y="9183"/>
                </a:lnTo>
                <a:lnTo>
                  <a:pt x="21568" y="6742"/>
                </a:lnTo>
                <a:lnTo>
                  <a:pt x="21476" y="4549"/>
                </a:lnTo>
                <a:lnTo>
                  <a:pt x="21335" y="2690"/>
                </a:lnTo>
                <a:lnTo>
                  <a:pt x="21151" y="1254"/>
                </a:lnTo>
                <a:lnTo>
                  <a:pt x="20935" y="328"/>
                </a:lnTo>
                <a:lnTo>
                  <a:pt x="20694" y="0"/>
                </a:lnTo>
                <a:close/>
              </a:path>
            </a:pathLst>
          </a:custGeom>
          <a:solidFill>
            <a:srgbClr val="44ae6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36" name="Rectangle 7"/>
          <p:cNvSpPr/>
          <p:nvPr/>
        </p:nvSpPr>
        <p:spPr>
          <a:xfrm>
            <a:off x="8123400" y="297000"/>
            <a:ext cx="75564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385c1"/>
                </a:solidFill>
                <a:latin typeface="Times New Roman"/>
                <a:ea typeface="Times New Roman"/>
              </a:rPr>
              <a:t>ECA</a:t>
            </a:r>
            <a:endParaRPr b="0" lang="en-US" sz="2700" spc="-1" strike="noStrike">
              <a:solidFill>
                <a:srgbClr val="000000"/>
              </a:solidFill>
              <a:latin typeface="Calibri"/>
            </a:endParaRPr>
          </a:p>
        </p:txBody>
      </p:sp>
      <p:sp>
        <p:nvSpPr>
          <p:cNvPr id="137" name="Rectangle 8"/>
          <p:cNvSpPr/>
          <p:nvPr/>
        </p:nvSpPr>
        <p:spPr>
          <a:xfrm>
            <a:off x="7508880" y="284040"/>
            <a:ext cx="573120" cy="478080"/>
          </a:xfrm>
          <a:prstGeom prst="rect">
            <a:avLst/>
          </a:prstGeom>
          <a:blipFill rotWithShape="0">
            <a:blip r:embed="rId1"/>
            <a:srcRect/>
            <a:stretch/>
          </a:blipFill>
          <a:ln w="0">
            <a:noFill/>
          </a:ln>
        </p:spPr>
        <p:style>
          <a:lnRef idx="0"/>
          <a:fillRef idx="0"/>
          <a:effectRef idx="0"/>
          <a:fontRef idx="minor"/>
        </p:style>
        <p: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AutoShape 9"/>
          <p:cNvSpPr/>
          <p:nvPr/>
        </p:nvSpPr>
        <p:spPr>
          <a:xfrm>
            <a:off x="6121440" y="6135840"/>
            <a:ext cx="1292040" cy="441000"/>
          </a:xfrm>
          <a:custGeom>
            <a:avLst/>
            <a:gdLst>
              <a:gd name="textAreaLeft" fmla="*/ 0 w 1292040"/>
              <a:gd name="textAreaRight" fmla="*/ 1292400 w 1292040"/>
              <a:gd name="textAreaTop" fmla="*/ 0 h 441000"/>
              <a:gd name="textAreaBottom" fmla="*/ 441360 h 441000"/>
            </a:gdLst>
            <a:ahLst/>
            <a:rect l="textAreaLeft" t="textAreaTop" r="textAreaRight" b="textAreaBottom"/>
            <a:pathLst>
              <a:path w="21600" h="21600">
                <a:moveTo>
                  <a:pt x="18463" y="0"/>
                </a:moveTo>
                <a:lnTo>
                  <a:pt x="3137" y="0"/>
                </a:lnTo>
                <a:lnTo>
                  <a:pt x="2303" y="328"/>
                </a:lnTo>
                <a:lnTo>
                  <a:pt x="1554" y="1254"/>
                </a:lnTo>
                <a:lnTo>
                  <a:pt x="919" y="2690"/>
                </a:lnTo>
                <a:lnTo>
                  <a:pt x="428" y="4549"/>
                </a:lnTo>
                <a:lnTo>
                  <a:pt x="112" y="6742"/>
                </a:lnTo>
                <a:lnTo>
                  <a:pt x="0" y="9183"/>
                </a:lnTo>
                <a:lnTo>
                  <a:pt x="0" y="12416"/>
                </a:lnTo>
                <a:lnTo>
                  <a:pt x="112" y="14858"/>
                </a:lnTo>
                <a:lnTo>
                  <a:pt x="428" y="17052"/>
                </a:lnTo>
                <a:lnTo>
                  <a:pt x="919" y="18910"/>
                </a:lnTo>
                <a:lnTo>
                  <a:pt x="1554" y="20346"/>
                </a:lnTo>
                <a:lnTo>
                  <a:pt x="2303" y="21272"/>
                </a:lnTo>
                <a:lnTo>
                  <a:pt x="3137" y="21600"/>
                </a:lnTo>
                <a:lnTo>
                  <a:pt x="18463" y="21600"/>
                </a:lnTo>
                <a:lnTo>
                  <a:pt x="19297" y="21272"/>
                </a:lnTo>
                <a:lnTo>
                  <a:pt x="20047" y="20346"/>
                </a:lnTo>
                <a:lnTo>
                  <a:pt x="20681" y="18910"/>
                </a:lnTo>
                <a:lnTo>
                  <a:pt x="21172" y="17052"/>
                </a:lnTo>
                <a:lnTo>
                  <a:pt x="21488" y="14858"/>
                </a:lnTo>
                <a:lnTo>
                  <a:pt x="21600" y="12416"/>
                </a:lnTo>
                <a:lnTo>
                  <a:pt x="21600" y="9183"/>
                </a:lnTo>
                <a:lnTo>
                  <a:pt x="21488" y="6742"/>
                </a:lnTo>
                <a:lnTo>
                  <a:pt x="21172" y="4549"/>
                </a:lnTo>
                <a:lnTo>
                  <a:pt x="20681" y="2690"/>
                </a:lnTo>
                <a:lnTo>
                  <a:pt x="20047" y="1254"/>
                </a:lnTo>
                <a:lnTo>
                  <a:pt x="19297" y="328"/>
                </a:lnTo>
                <a:lnTo>
                  <a:pt x="18463" y="0"/>
                </a:lnTo>
                <a:close/>
              </a:path>
            </a:pathLst>
          </a:custGeom>
          <a:solidFill>
            <a:srgbClr val="399d5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39" name="Rectangle 10"/>
          <p:cNvSpPr/>
          <p:nvPr/>
        </p:nvSpPr>
        <p:spPr>
          <a:xfrm>
            <a:off x="6313320" y="6256440"/>
            <a:ext cx="9082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ea typeface="Lato"/>
              </a:rPr>
              <a:t>UNECA.ORG</a:t>
            </a:r>
            <a:endParaRPr b="0" lang="en-US" sz="1200" spc="-1" strike="noStrike">
              <a:solidFill>
                <a:srgbClr val="000000"/>
              </a:solidFill>
              <a:latin typeface="Calibri"/>
            </a:endParaRPr>
          </a:p>
        </p:txBody>
      </p:sp>
      <p:sp>
        <p:nvSpPr>
          <p:cNvPr id="140" name="Rectangle 11"/>
          <p:cNvSpPr/>
          <p:nvPr/>
        </p:nvSpPr>
        <p:spPr>
          <a:xfrm>
            <a:off x="279360" y="360360"/>
            <a:ext cx="25527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Lato"/>
                <a:ea typeface="Lato"/>
              </a:rPr>
              <a:t>Domaines d’intervention</a:t>
            </a:r>
            <a:endParaRPr b="0" lang="en-US" sz="1800" spc="-1" strike="noStrike">
              <a:solidFill>
                <a:srgbClr val="000000"/>
              </a:solidFill>
              <a:latin typeface="Calibri"/>
            </a:endParaRPr>
          </a:p>
        </p:txBody>
      </p:sp>
      <p:sp>
        <p:nvSpPr>
          <p:cNvPr id="141" name="Rectangle 12"/>
          <p:cNvSpPr/>
          <p:nvPr/>
        </p:nvSpPr>
        <p:spPr>
          <a:xfrm>
            <a:off x="4659480" y="414360"/>
            <a:ext cx="560160" cy="27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3CD94-AC62-48F7-8B77-CFFABB361AF5}" type="slidenum">
              <a:rPr b="1" lang="en-US" sz="1600" spc="-1" strike="noStrike">
                <a:solidFill>
                  <a:srgbClr val="399d5c"/>
                </a:solidFill>
                <a:latin typeface="Lucida Sans"/>
                <a:ea typeface="Lucida Sans"/>
              </a:rPr>
              <a:t>&lt;number&gt;</a:t>
            </a:fld>
            <a:endParaRPr b="0" lang="en-US" sz="1600" spc="-1" strike="noStrike">
              <a:solidFill>
                <a:srgbClr val="000000"/>
              </a:solidFill>
              <a:latin typeface="Calibri"/>
            </a:endParaRPr>
          </a:p>
        </p:txBody>
      </p:sp>
      <p:sp>
        <p:nvSpPr>
          <p:cNvPr id="142" name="Line 13"/>
          <p:cNvSpPr/>
          <p:nvPr/>
        </p:nvSpPr>
        <p:spPr>
          <a:xfrm>
            <a:off x="0" y="6851520"/>
            <a:ext cx="9144000" cy="0"/>
          </a:xfrm>
          <a:prstGeom prst="line">
            <a:avLst/>
          </a:prstGeom>
          <a:ln w="12600">
            <a:solidFill>
              <a:srgbClr val="666666"/>
            </a:solidFill>
            <a:miter/>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43" name="Rectangle 1"/>
          <p:cNvSpPr/>
          <p:nvPr/>
        </p:nvSpPr>
        <p:spPr>
          <a:xfrm>
            <a:off x="900000" y="2492280"/>
            <a:ext cx="7344000" cy="2194920"/>
          </a:xfrm>
          <a:prstGeom prst="rect">
            <a:avLst/>
          </a:prstGeom>
          <a:noFill/>
          <a:ln w="0">
            <a:noFill/>
          </a:ln>
        </p:spPr>
        <p:style>
          <a:lnRef idx="0"/>
          <a:fillRef idx="0"/>
          <a:effectRef idx="0"/>
          <a:fontRef idx="minor"/>
        </p:style>
        <p:txBody>
          <a:bodyPr lIns="0" rIns="0" tIns="0" bIns="0" anchor="t">
            <a:spAutoFit/>
          </a:bodyPr>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Accélération de l’intégration régionale dans ses dimensions développement économique, facilitation du commerce et promotion du secteur privé</a:t>
            </a:r>
            <a:endParaRPr b="0" lang="en-US" sz="2400" spc="-1" strike="noStrike">
              <a:solidFill>
                <a:srgbClr val="000000"/>
              </a:solidFill>
              <a:latin typeface="Calibri"/>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Intégration des politiques ‘Genre’ et ‘Migration’ dans l’agenda sous régional </a:t>
            </a:r>
            <a:endParaRPr b="0" lang="en-US" sz="2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p:cNvSpPr/>
          <p:nvPr/>
        </p:nvSpPr>
        <p:spPr>
          <a:xfrm>
            <a:off x="0" y="6135840"/>
            <a:ext cx="6026040" cy="442800"/>
          </a:xfrm>
          <a:custGeom>
            <a:avLst/>
            <a:gdLst>
              <a:gd name="textAreaLeft" fmla="*/ 0 w 6026040"/>
              <a:gd name="textAreaRight" fmla="*/ 6026400 w 6026040"/>
              <a:gd name="textAreaTop" fmla="*/ 0 h 442800"/>
              <a:gd name="textAreaBottom" fmla="*/ 443160 h 442800"/>
            </a:gdLst>
            <a:ahLst/>
            <a:rect l="textAreaLeft" t="textAreaTop" r="textAreaRight" b="textAreaBottom"/>
            <a:pathLst>
              <a:path w="21600" h="21600">
                <a:moveTo>
                  <a:pt x="20929" y="0"/>
                </a:moveTo>
                <a:lnTo>
                  <a:pt x="0" y="0"/>
                </a:lnTo>
                <a:lnTo>
                  <a:pt x="0" y="21600"/>
                </a:lnTo>
                <a:lnTo>
                  <a:pt x="20929" y="21600"/>
                </a:lnTo>
                <a:lnTo>
                  <a:pt x="21107" y="21274"/>
                </a:lnTo>
                <a:lnTo>
                  <a:pt x="21268" y="20353"/>
                </a:lnTo>
                <a:lnTo>
                  <a:pt x="21404" y="18924"/>
                </a:lnTo>
                <a:lnTo>
                  <a:pt x="21508" y="17076"/>
                </a:lnTo>
                <a:lnTo>
                  <a:pt x="21576" y="14893"/>
                </a:lnTo>
                <a:lnTo>
                  <a:pt x="21600" y="12465"/>
                </a:lnTo>
                <a:lnTo>
                  <a:pt x="21600" y="9135"/>
                </a:lnTo>
                <a:lnTo>
                  <a:pt x="21576" y="6707"/>
                </a:lnTo>
                <a:lnTo>
                  <a:pt x="21508" y="4524"/>
                </a:lnTo>
                <a:lnTo>
                  <a:pt x="21404" y="2676"/>
                </a:lnTo>
                <a:lnTo>
                  <a:pt x="21268" y="1247"/>
                </a:lnTo>
                <a:lnTo>
                  <a:pt x="21107" y="326"/>
                </a:lnTo>
                <a:lnTo>
                  <a:pt x="20929" y="0"/>
                </a:lnTo>
                <a:close/>
              </a:path>
            </a:pathLst>
          </a:custGeom>
          <a:solidFill>
            <a:srgbClr val="44ae6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45" name="Rectangle 3"/>
          <p:cNvSpPr/>
          <p:nvPr/>
        </p:nvSpPr>
        <p:spPr>
          <a:xfrm>
            <a:off x="324000" y="6237360"/>
            <a:ext cx="5324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Lato"/>
                <a:ea typeface="Lato"/>
              </a:rPr>
              <a:t>Rapport d’activités UMA CEA 2014-2016 </a:t>
            </a:r>
            <a:endParaRPr b="0" lang="en-US" sz="1600" spc="-1" strike="noStrike">
              <a:solidFill>
                <a:srgbClr val="000000"/>
              </a:solidFill>
              <a:latin typeface="Calibri"/>
            </a:endParaRPr>
          </a:p>
        </p:txBody>
      </p:sp>
      <p:sp>
        <p:nvSpPr>
          <p:cNvPr id="146" name="AutoShape 4"/>
          <p:cNvSpPr/>
          <p:nvPr/>
        </p:nvSpPr>
        <p:spPr>
          <a:xfrm>
            <a:off x="0" y="0"/>
            <a:ext cx="9131400" cy="6845400"/>
          </a:xfrm>
          <a:custGeom>
            <a:avLst/>
            <a:gdLst>
              <a:gd name="textAreaLeft" fmla="*/ 0 w 9131400"/>
              <a:gd name="textAreaRight" fmla="*/ 9131760 w 9131400"/>
              <a:gd name="textAreaTop" fmla="*/ 0 h 6845400"/>
              <a:gd name="textAreaBottom" fmla="*/ 6845760 h 6845400"/>
            </a:gdLst>
            <a:ahLst/>
            <a:rect l="textAreaLeft" t="textAreaTop" r="textAreaRight" b="textAreaBottom"/>
            <a:pathLst>
              <a:path w="21600" h="21600">
                <a:moveTo>
                  <a:pt x="0" y="21600"/>
                </a:moveTo>
                <a:lnTo>
                  <a:pt x="0" y="0"/>
                </a:lnTo>
                <a:lnTo>
                  <a:pt x="21600" y="0"/>
                </a:lnTo>
              </a:path>
            </a:pathLst>
          </a:custGeom>
          <a:noFill/>
          <a:ln w="3240">
            <a:solidFill>
              <a:srgbClr val="7b7b7b"/>
            </a:solidFill>
            <a:round/>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47" name="AutoShape 5"/>
          <p:cNvSpPr/>
          <p:nvPr/>
        </p:nvSpPr>
        <p:spPr>
          <a:xfrm>
            <a:off x="0" y="0"/>
            <a:ext cx="9131400" cy="6845400"/>
          </a:xfrm>
          <a:custGeom>
            <a:avLst/>
            <a:gdLst>
              <a:gd name="textAreaLeft" fmla="*/ 0 w 9131400"/>
              <a:gd name="textAreaRight" fmla="*/ 9131760 w 9131400"/>
              <a:gd name="textAreaTop" fmla="*/ 0 h 6845400"/>
              <a:gd name="textAreaBottom" fmla="*/ 6845760 h 6845400"/>
            </a:gdLst>
            <a:ahLst/>
            <a:rect l="textAreaLeft" t="textAreaTop" r="textAreaRight" b="textAreaBottom"/>
            <a:pathLst>
              <a:path w="21600" h="21600">
                <a:moveTo>
                  <a:pt x="0" y="21600"/>
                </a:moveTo>
                <a:lnTo>
                  <a:pt x="0" y="0"/>
                </a:lnTo>
                <a:lnTo>
                  <a:pt x="21600" y="0"/>
                </a:lnTo>
              </a:path>
            </a:pathLst>
          </a:custGeom>
          <a:noFill/>
          <a:ln w="3240">
            <a:solidFill>
              <a:srgbClr val="7b7b7b"/>
            </a:solidFill>
            <a:round/>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48" name="AutoShape 6"/>
          <p:cNvSpPr/>
          <p:nvPr/>
        </p:nvSpPr>
        <p:spPr>
          <a:xfrm>
            <a:off x="0" y="290520"/>
            <a:ext cx="4475160" cy="441360"/>
          </a:xfrm>
          <a:custGeom>
            <a:avLst/>
            <a:gdLst>
              <a:gd name="textAreaLeft" fmla="*/ 0 w 4475160"/>
              <a:gd name="textAreaRight" fmla="*/ 4475520 w 4475160"/>
              <a:gd name="textAreaTop" fmla="*/ 0 h 441360"/>
              <a:gd name="textAreaBottom" fmla="*/ 441720 h 441360"/>
            </a:gdLst>
            <a:ahLst/>
            <a:rect l="textAreaLeft" t="textAreaTop" r="textAreaRight" b="textAreaBottom"/>
            <a:pathLst>
              <a:path w="21600" h="21600">
                <a:moveTo>
                  <a:pt x="20694" y="0"/>
                </a:moveTo>
                <a:lnTo>
                  <a:pt x="115" y="0"/>
                </a:lnTo>
                <a:lnTo>
                  <a:pt x="0" y="157"/>
                </a:lnTo>
                <a:lnTo>
                  <a:pt x="0" y="21443"/>
                </a:lnTo>
                <a:lnTo>
                  <a:pt x="115" y="21600"/>
                </a:lnTo>
                <a:lnTo>
                  <a:pt x="20694" y="21600"/>
                </a:lnTo>
                <a:lnTo>
                  <a:pt x="20935" y="21272"/>
                </a:lnTo>
                <a:lnTo>
                  <a:pt x="21151" y="20346"/>
                </a:lnTo>
                <a:lnTo>
                  <a:pt x="21335" y="18910"/>
                </a:lnTo>
                <a:lnTo>
                  <a:pt x="21476" y="17052"/>
                </a:lnTo>
                <a:lnTo>
                  <a:pt x="21568" y="14858"/>
                </a:lnTo>
                <a:lnTo>
                  <a:pt x="21600" y="12416"/>
                </a:lnTo>
                <a:lnTo>
                  <a:pt x="21600" y="9183"/>
                </a:lnTo>
                <a:lnTo>
                  <a:pt x="21568" y="6742"/>
                </a:lnTo>
                <a:lnTo>
                  <a:pt x="21476" y="4549"/>
                </a:lnTo>
                <a:lnTo>
                  <a:pt x="21335" y="2690"/>
                </a:lnTo>
                <a:lnTo>
                  <a:pt x="21151" y="1254"/>
                </a:lnTo>
                <a:lnTo>
                  <a:pt x="20935" y="328"/>
                </a:lnTo>
                <a:lnTo>
                  <a:pt x="20694" y="0"/>
                </a:lnTo>
                <a:close/>
              </a:path>
            </a:pathLst>
          </a:custGeom>
          <a:solidFill>
            <a:srgbClr val="44ae6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49" name="Rectangle 7"/>
          <p:cNvSpPr/>
          <p:nvPr/>
        </p:nvSpPr>
        <p:spPr>
          <a:xfrm>
            <a:off x="8123400" y="297000"/>
            <a:ext cx="75564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385c1"/>
                </a:solidFill>
                <a:latin typeface="Times New Roman"/>
                <a:ea typeface="Times New Roman"/>
              </a:rPr>
              <a:t>ECA</a:t>
            </a:r>
            <a:endParaRPr b="0" lang="en-US" sz="2700" spc="-1" strike="noStrike">
              <a:solidFill>
                <a:srgbClr val="000000"/>
              </a:solidFill>
              <a:latin typeface="Calibri"/>
            </a:endParaRPr>
          </a:p>
        </p:txBody>
      </p:sp>
      <p:sp>
        <p:nvSpPr>
          <p:cNvPr id="150" name="Rectangle 8"/>
          <p:cNvSpPr/>
          <p:nvPr/>
        </p:nvSpPr>
        <p:spPr>
          <a:xfrm>
            <a:off x="7508880" y="284040"/>
            <a:ext cx="573120" cy="478080"/>
          </a:xfrm>
          <a:prstGeom prst="rect">
            <a:avLst/>
          </a:prstGeom>
          <a:blipFill rotWithShape="0">
            <a:blip r:embed="rId1"/>
            <a:srcRect/>
            <a:stretch/>
          </a:blipFill>
          <a:ln w="0">
            <a:noFill/>
          </a:ln>
        </p:spPr>
        <p:style>
          <a:lnRef idx="0"/>
          <a:fillRef idx="0"/>
          <a:effectRef idx="0"/>
          <a:fontRef idx="minor"/>
        </p:style>
        <p: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AutoShape 9"/>
          <p:cNvSpPr/>
          <p:nvPr/>
        </p:nvSpPr>
        <p:spPr>
          <a:xfrm>
            <a:off x="6121440" y="6135840"/>
            <a:ext cx="1292040" cy="441000"/>
          </a:xfrm>
          <a:custGeom>
            <a:avLst/>
            <a:gdLst>
              <a:gd name="textAreaLeft" fmla="*/ 0 w 1292040"/>
              <a:gd name="textAreaRight" fmla="*/ 1292400 w 1292040"/>
              <a:gd name="textAreaTop" fmla="*/ 0 h 441000"/>
              <a:gd name="textAreaBottom" fmla="*/ 441360 h 441000"/>
            </a:gdLst>
            <a:ahLst/>
            <a:rect l="textAreaLeft" t="textAreaTop" r="textAreaRight" b="textAreaBottom"/>
            <a:pathLst>
              <a:path w="21600" h="21600">
                <a:moveTo>
                  <a:pt x="18463" y="0"/>
                </a:moveTo>
                <a:lnTo>
                  <a:pt x="3137" y="0"/>
                </a:lnTo>
                <a:lnTo>
                  <a:pt x="2303" y="328"/>
                </a:lnTo>
                <a:lnTo>
                  <a:pt x="1554" y="1254"/>
                </a:lnTo>
                <a:lnTo>
                  <a:pt x="919" y="2690"/>
                </a:lnTo>
                <a:lnTo>
                  <a:pt x="428" y="4549"/>
                </a:lnTo>
                <a:lnTo>
                  <a:pt x="112" y="6742"/>
                </a:lnTo>
                <a:lnTo>
                  <a:pt x="0" y="9183"/>
                </a:lnTo>
                <a:lnTo>
                  <a:pt x="0" y="12416"/>
                </a:lnTo>
                <a:lnTo>
                  <a:pt x="112" y="14858"/>
                </a:lnTo>
                <a:lnTo>
                  <a:pt x="428" y="17052"/>
                </a:lnTo>
                <a:lnTo>
                  <a:pt x="919" y="18910"/>
                </a:lnTo>
                <a:lnTo>
                  <a:pt x="1554" y="20346"/>
                </a:lnTo>
                <a:lnTo>
                  <a:pt x="2303" y="21272"/>
                </a:lnTo>
                <a:lnTo>
                  <a:pt x="3137" y="21600"/>
                </a:lnTo>
                <a:lnTo>
                  <a:pt x="18463" y="21600"/>
                </a:lnTo>
                <a:lnTo>
                  <a:pt x="19297" y="21272"/>
                </a:lnTo>
                <a:lnTo>
                  <a:pt x="20047" y="20346"/>
                </a:lnTo>
                <a:lnTo>
                  <a:pt x="20681" y="18910"/>
                </a:lnTo>
                <a:lnTo>
                  <a:pt x="21172" y="17052"/>
                </a:lnTo>
                <a:lnTo>
                  <a:pt x="21488" y="14858"/>
                </a:lnTo>
                <a:lnTo>
                  <a:pt x="21600" y="12416"/>
                </a:lnTo>
                <a:lnTo>
                  <a:pt x="21600" y="9183"/>
                </a:lnTo>
                <a:lnTo>
                  <a:pt x="21488" y="6742"/>
                </a:lnTo>
                <a:lnTo>
                  <a:pt x="21172" y="4549"/>
                </a:lnTo>
                <a:lnTo>
                  <a:pt x="20681" y="2690"/>
                </a:lnTo>
                <a:lnTo>
                  <a:pt x="20047" y="1254"/>
                </a:lnTo>
                <a:lnTo>
                  <a:pt x="19297" y="328"/>
                </a:lnTo>
                <a:lnTo>
                  <a:pt x="18463" y="0"/>
                </a:lnTo>
                <a:close/>
              </a:path>
            </a:pathLst>
          </a:custGeom>
          <a:solidFill>
            <a:srgbClr val="399d5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52" name="Rectangle 10"/>
          <p:cNvSpPr/>
          <p:nvPr/>
        </p:nvSpPr>
        <p:spPr>
          <a:xfrm>
            <a:off x="6313320" y="6256440"/>
            <a:ext cx="9082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ea typeface="Lato"/>
              </a:rPr>
              <a:t>UNECA.ORG</a:t>
            </a:r>
            <a:endParaRPr b="0" lang="en-US" sz="1200" spc="-1" strike="noStrike">
              <a:solidFill>
                <a:srgbClr val="000000"/>
              </a:solidFill>
              <a:latin typeface="Calibri"/>
            </a:endParaRPr>
          </a:p>
        </p:txBody>
      </p:sp>
      <p:sp>
        <p:nvSpPr>
          <p:cNvPr id="153" name="Rectangle 11"/>
          <p:cNvSpPr/>
          <p:nvPr/>
        </p:nvSpPr>
        <p:spPr>
          <a:xfrm>
            <a:off x="279360" y="360360"/>
            <a:ext cx="35719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Lato"/>
                <a:ea typeface="Lato"/>
              </a:rPr>
              <a:t>Développement économique…</a:t>
            </a:r>
            <a:r>
              <a:rPr b="1" lang="en-US" sz="1800" spc="-1" strike="noStrike">
                <a:solidFill>
                  <a:srgbClr val="ffffff"/>
                </a:solidFill>
                <a:latin typeface="Lato"/>
                <a:ea typeface="Lato"/>
              </a:rPr>
              <a:t> </a:t>
            </a:r>
            <a:endParaRPr b="0" lang="en-US" sz="1800" spc="-1" strike="noStrike">
              <a:solidFill>
                <a:srgbClr val="000000"/>
              </a:solidFill>
              <a:latin typeface="Calibri"/>
            </a:endParaRPr>
          </a:p>
        </p:txBody>
      </p:sp>
      <p:sp>
        <p:nvSpPr>
          <p:cNvPr id="154" name="Rectangle 12"/>
          <p:cNvSpPr/>
          <p:nvPr/>
        </p:nvSpPr>
        <p:spPr>
          <a:xfrm>
            <a:off x="4659480" y="414360"/>
            <a:ext cx="560160" cy="27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24D4F-17FD-4AD4-9A0B-E69415CC164D}" type="slidenum">
              <a:rPr b="1" lang="en-US" sz="1600" spc="-1" strike="noStrike">
                <a:solidFill>
                  <a:srgbClr val="399d5c"/>
                </a:solidFill>
                <a:latin typeface="Lucida Sans"/>
                <a:ea typeface="Lucida Sans"/>
              </a:rPr>
              <a:t>&lt;number&gt;</a:t>
            </a:fld>
            <a:endParaRPr b="0" lang="en-US" sz="1600" spc="-1" strike="noStrike">
              <a:solidFill>
                <a:srgbClr val="000000"/>
              </a:solidFill>
              <a:latin typeface="Calibri"/>
            </a:endParaRPr>
          </a:p>
        </p:txBody>
      </p:sp>
      <p:sp>
        <p:nvSpPr>
          <p:cNvPr id="155" name="Line 13"/>
          <p:cNvSpPr/>
          <p:nvPr/>
        </p:nvSpPr>
        <p:spPr>
          <a:xfrm>
            <a:off x="0" y="6851520"/>
            <a:ext cx="9144000" cy="0"/>
          </a:xfrm>
          <a:prstGeom prst="line">
            <a:avLst/>
          </a:prstGeom>
          <a:ln w="12600">
            <a:solidFill>
              <a:srgbClr val="666666"/>
            </a:solidFill>
            <a:miter/>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56" name="Rectangle 1"/>
          <p:cNvSpPr/>
          <p:nvPr/>
        </p:nvSpPr>
        <p:spPr>
          <a:xfrm>
            <a:off x="539640" y="981000"/>
            <a:ext cx="8280360" cy="5115240"/>
          </a:xfrm>
          <a:prstGeom prst="rect">
            <a:avLst/>
          </a:prstGeom>
          <a:noFill/>
          <a:ln w="0">
            <a:noFill/>
          </a:ln>
        </p:spPr>
        <p:style>
          <a:lnRef idx="0"/>
          <a:fillRef idx="0"/>
          <a:effectRef idx="0"/>
          <a:fontRef idx="minor"/>
        </p:style>
        <p:txBody>
          <a:bodyPr lIns="0" rIns="0" tIns="0" bIns="0" anchor="t">
            <a:spAutoFit/>
          </a:bodyPr>
          <a:p>
            <a:pPr marL="3254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Intégration régionale et secteurs porteurs dans l’espace UMA : Le développement des chaines de valeurs régionales (CVR)</a:t>
            </a:r>
            <a:endParaRPr b="0" lang="en-US" sz="1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une table ronde des experts lors du XXIX° CIE + une étude technique sur les chaînes de valeurs régionales + une réunion d’experts + un colloque sur le thème : « Commerce, localisation des IDE et participation des pays méditerranéens aux chaînes de valeurs : Quelles retombées en termes de développement ? </a:t>
            </a:r>
            <a:endParaRPr b="0" lang="en-US" sz="1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Il est prévu, en termes de suivi, d’élaborer un projet pour le développement des CVR au niveau des secteurs ayant un fort potentiel dans la sous-région et un cadre stratégique de suivi évaluation</a:t>
            </a:r>
            <a:endParaRPr b="0" lang="en-US" sz="1400" spc="-1" strike="noStrike">
              <a:solidFill>
                <a:srgbClr val="000000"/>
              </a:solidFill>
              <a:latin typeface="Calibri"/>
            </a:endParaRPr>
          </a:p>
          <a:p>
            <a:pPr marL="3254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Appui technique et services-conseils à l’UME</a:t>
            </a:r>
            <a:endParaRPr b="0" lang="en-US" sz="1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une série de tables rondes nationales + une régionale pour soutenir la participation du secteur privé maghrébin aux actions climatiques, en particulier dans le cadre de la mise en œuvre des contributions nationales déterminées.</a:t>
            </a:r>
            <a:endParaRPr b="0" lang="en-US" sz="1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La table ronde régionale a abouti à l'adoption de la Déclaration de l'UME. Cette Déclaration présentée et officiellement signée à la COP 22</a:t>
            </a:r>
            <a:endParaRPr b="0" lang="en-US" sz="1400" spc="-1" strike="noStrike">
              <a:solidFill>
                <a:srgbClr val="000000"/>
              </a:solidFill>
              <a:latin typeface="Calibri"/>
            </a:endParaRPr>
          </a:p>
          <a:p>
            <a:pPr marL="3254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Appui à la mise en œuvre du Programme d’action sous régional de lutte contre la désertification au Maghreb PASR-LCD (2011-2020)</a:t>
            </a:r>
            <a:endParaRPr b="0" lang="en-US" sz="1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L’étude sur la rentabilité économique, sociale et environnementale des investissements stratégiques en matière de lutte contre la désertification finalisée. </a:t>
            </a:r>
            <a:endParaRPr b="0" lang="en-US" sz="1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Par ailleurs, le Bureau a fourni un appui substantif à la mission du </a:t>
            </a:r>
            <a:r>
              <a:rPr b="0" i="1" lang="fr-FR" sz="1400" spc="-1" strike="noStrike">
                <a:solidFill>
                  <a:srgbClr val="000000"/>
                </a:solidFill>
                <a:latin typeface="Calibri"/>
                <a:ea typeface="Calibri"/>
              </a:rPr>
              <a:t>Land Policy Initiative </a:t>
            </a:r>
            <a:r>
              <a:rPr b="0" lang="fr-FR" sz="1400" spc="-1" strike="noStrike">
                <a:solidFill>
                  <a:srgbClr val="000000"/>
                </a:solidFill>
                <a:latin typeface="Calibri"/>
                <a:ea typeface="Calibri"/>
              </a:rPr>
              <a:t>(LPI) auprès de l’UMA en contribuant à la définition des composantes du projet LPI-UMA pour une meilleure intégration des questions foncières au Maghreb.</a:t>
            </a:r>
            <a:endParaRPr b="0" lang="en-US" sz="1400" spc="-1" strike="noStrike">
              <a:solidFill>
                <a:srgbClr val="000000"/>
              </a:solidFill>
              <a:latin typeface="Calibri"/>
            </a:endParaRPr>
          </a:p>
          <a:p>
            <a:pPr marL="3254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Atelier de formation sur les règles d’origine </a:t>
            </a:r>
            <a:endParaRPr b="0" lang="en-US" sz="1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en faveur du Groupe de travail de l’UMA en charge de la préparation du protocole d’accord sur les règles d’origine</a:t>
            </a:r>
            <a:endParaRPr b="0" lang="en-US" sz="14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AutoShape 2"/>
          <p:cNvSpPr/>
          <p:nvPr/>
        </p:nvSpPr>
        <p:spPr>
          <a:xfrm>
            <a:off x="0" y="6135840"/>
            <a:ext cx="6026040" cy="442800"/>
          </a:xfrm>
          <a:custGeom>
            <a:avLst/>
            <a:gdLst>
              <a:gd name="textAreaLeft" fmla="*/ 0 w 6026040"/>
              <a:gd name="textAreaRight" fmla="*/ 6026400 w 6026040"/>
              <a:gd name="textAreaTop" fmla="*/ 0 h 442800"/>
              <a:gd name="textAreaBottom" fmla="*/ 443160 h 442800"/>
            </a:gdLst>
            <a:ahLst/>
            <a:rect l="textAreaLeft" t="textAreaTop" r="textAreaRight" b="textAreaBottom"/>
            <a:pathLst>
              <a:path w="21600" h="21600">
                <a:moveTo>
                  <a:pt x="20929" y="0"/>
                </a:moveTo>
                <a:lnTo>
                  <a:pt x="0" y="0"/>
                </a:lnTo>
                <a:lnTo>
                  <a:pt x="0" y="21600"/>
                </a:lnTo>
                <a:lnTo>
                  <a:pt x="20929" y="21600"/>
                </a:lnTo>
                <a:lnTo>
                  <a:pt x="21107" y="21274"/>
                </a:lnTo>
                <a:lnTo>
                  <a:pt x="21268" y="20353"/>
                </a:lnTo>
                <a:lnTo>
                  <a:pt x="21404" y="18924"/>
                </a:lnTo>
                <a:lnTo>
                  <a:pt x="21508" y="17076"/>
                </a:lnTo>
                <a:lnTo>
                  <a:pt x="21576" y="14893"/>
                </a:lnTo>
                <a:lnTo>
                  <a:pt x="21600" y="12465"/>
                </a:lnTo>
                <a:lnTo>
                  <a:pt x="21600" y="9135"/>
                </a:lnTo>
                <a:lnTo>
                  <a:pt x="21576" y="6707"/>
                </a:lnTo>
                <a:lnTo>
                  <a:pt x="21508" y="4524"/>
                </a:lnTo>
                <a:lnTo>
                  <a:pt x="21404" y="2676"/>
                </a:lnTo>
                <a:lnTo>
                  <a:pt x="21268" y="1247"/>
                </a:lnTo>
                <a:lnTo>
                  <a:pt x="21107" y="326"/>
                </a:lnTo>
                <a:lnTo>
                  <a:pt x="20929" y="0"/>
                </a:lnTo>
                <a:close/>
              </a:path>
            </a:pathLst>
          </a:custGeom>
          <a:solidFill>
            <a:srgbClr val="44ae6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58" name="Rectangle 3"/>
          <p:cNvSpPr/>
          <p:nvPr/>
        </p:nvSpPr>
        <p:spPr>
          <a:xfrm>
            <a:off x="324000" y="6237360"/>
            <a:ext cx="5324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Lato"/>
                <a:ea typeface="Lato"/>
              </a:rPr>
              <a:t>Rapport d’activités UMA CEA 2014-2016 </a:t>
            </a:r>
            <a:endParaRPr b="0" lang="en-US" sz="1600" spc="-1" strike="noStrike">
              <a:solidFill>
                <a:srgbClr val="000000"/>
              </a:solidFill>
              <a:latin typeface="Calibri"/>
            </a:endParaRPr>
          </a:p>
        </p:txBody>
      </p:sp>
      <p:sp>
        <p:nvSpPr>
          <p:cNvPr id="159" name="AutoShape 4"/>
          <p:cNvSpPr/>
          <p:nvPr/>
        </p:nvSpPr>
        <p:spPr>
          <a:xfrm>
            <a:off x="0" y="0"/>
            <a:ext cx="9131400" cy="6845400"/>
          </a:xfrm>
          <a:custGeom>
            <a:avLst/>
            <a:gdLst>
              <a:gd name="textAreaLeft" fmla="*/ 0 w 9131400"/>
              <a:gd name="textAreaRight" fmla="*/ 9131760 w 9131400"/>
              <a:gd name="textAreaTop" fmla="*/ 0 h 6845400"/>
              <a:gd name="textAreaBottom" fmla="*/ 6845760 h 6845400"/>
            </a:gdLst>
            <a:ahLst/>
            <a:rect l="textAreaLeft" t="textAreaTop" r="textAreaRight" b="textAreaBottom"/>
            <a:pathLst>
              <a:path w="21600" h="21600">
                <a:moveTo>
                  <a:pt x="0" y="21600"/>
                </a:moveTo>
                <a:lnTo>
                  <a:pt x="0" y="0"/>
                </a:lnTo>
                <a:lnTo>
                  <a:pt x="21600" y="0"/>
                </a:lnTo>
              </a:path>
            </a:pathLst>
          </a:custGeom>
          <a:noFill/>
          <a:ln w="3240">
            <a:solidFill>
              <a:srgbClr val="7b7b7b"/>
            </a:solidFill>
            <a:round/>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60" name="AutoShape 5"/>
          <p:cNvSpPr/>
          <p:nvPr/>
        </p:nvSpPr>
        <p:spPr>
          <a:xfrm>
            <a:off x="0" y="0"/>
            <a:ext cx="9131400" cy="6845400"/>
          </a:xfrm>
          <a:custGeom>
            <a:avLst/>
            <a:gdLst>
              <a:gd name="textAreaLeft" fmla="*/ 0 w 9131400"/>
              <a:gd name="textAreaRight" fmla="*/ 9131760 w 9131400"/>
              <a:gd name="textAreaTop" fmla="*/ 0 h 6845400"/>
              <a:gd name="textAreaBottom" fmla="*/ 6845760 h 6845400"/>
            </a:gdLst>
            <a:ahLst/>
            <a:rect l="textAreaLeft" t="textAreaTop" r="textAreaRight" b="textAreaBottom"/>
            <a:pathLst>
              <a:path w="21600" h="21600">
                <a:moveTo>
                  <a:pt x="0" y="21600"/>
                </a:moveTo>
                <a:lnTo>
                  <a:pt x="0" y="0"/>
                </a:lnTo>
                <a:lnTo>
                  <a:pt x="21600" y="0"/>
                </a:lnTo>
              </a:path>
            </a:pathLst>
          </a:custGeom>
          <a:noFill/>
          <a:ln w="3240">
            <a:solidFill>
              <a:srgbClr val="7b7b7b"/>
            </a:solidFill>
            <a:round/>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61" name="AutoShape 6"/>
          <p:cNvSpPr/>
          <p:nvPr/>
        </p:nvSpPr>
        <p:spPr>
          <a:xfrm>
            <a:off x="0" y="290520"/>
            <a:ext cx="4475160" cy="441360"/>
          </a:xfrm>
          <a:custGeom>
            <a:avLst/>
            <a:gdLst>
              <a:gd name="textAreaLeft" fmla="*/ 0 w 4475160"/>
              <a:gd name="textAreaRight" fmla="*/ 4475520 w 4475160"/>
              <a:gd name="textAreaTop" fmla="*/ 0 h 441360"/>
              <a:gd name="textAreaBottom" fmla="*/ 441720 h 441360"/>
            </a:gdLst>
            <a:ahLst/>
            <a:rect l="textAreaLeft" t="textAreaTop" r="textAreaRight" b="textAreaBottom"/>
            <a:pathLst>
              <a:path w="21600" h="21600">
                <a:moveTo>
                  <a:pt x="20694" y="0"/>
                </a:moveTo>
                <a:lnTo>
                  <a:pt x="115" y="0"/>
                </a:lnTo>
                <a:lnTo>
                  <a:pt x="0" y="157"/>
                </a:lnTo>
                <a:lnTo>
                  <a:pt x="0" y="21443"/>
                </a:lnTo>
                <a:lnTo>
                  <a:pt x="115" y="21600"/>
                </a:lnTo>
                <a:lnTo>
                  <a:pt x="20694" y="21600"/>
                </a:lnTo>
                <a:lnTo>
                  <a:pt x="20935" y="21272"/>
                </a:lnTo>
                <a:lnTo>
                  <a:pt x="21151" y="20346"/>
                </a:lnTo>
                <a:lnTo>
                  <a:pt x="21335" y="18910"/>
                </a:lnTo>
                <a:lnTo>
                  <a:pt x="21476" y="17052"/>
                </a:lnTo>
                <a:lnTo>
                  <a:pt x="21568" y="14858"/>
                </a:lnTo>
                <a:lnTo>
                  <a:pt x="21600" y="12416"/>
                </a:lnTo>
                <a:lnTo>
                  <a:pt x="21600" y="9183"/>
                </a:lnTo>
                <a:lnTo>
                  <a:pt x="21568" y="6742"/>
                </a:lnTo>
                <a:lnTo>
                  <a:pt x="21476" y="4549"/>
                </a:lnTo>
                <a:lnTo>
                  <a:pt x="21335" y="2690"/>
                </a:lnTo>
                <a:lnTo>
                  <a:pt x="21151" y="1254"/>
                </a:lnTo>
                <a:lnTo>
                  <a:pt x="20935" y="328"/>
                </a:lnTo>
                <a:lnTo>
                  <a:pt x="20694" y="0"/>
                </a:lnTo>
                <a:close/>
              </a:path>
            </a:pathLst>
          </a:custGeom>
          <a:solidFill>
            <a:srgbClr val="44ae6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62" name="Rectangle 7"/>
          <p:cNvSpPr/>
          <p:nvPr/>
        </p:nvSpPr>
        <p:spPr>
          <a:xfrm>
            <a:off x="8123400" y="297000"/>
            <a:ext cx="75564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385c1"/>
                </a:solidFill>
                <a:latin typeface="Times New Roman"/>
                <a:ea typeface="Times New Roman"/>
              </a:rPr>
              <a:t>ECA</a:t>
            </a:r>
            <a:endParaRPr b="0" lang="en-US" sz="2700" spc="-1" strike="noStrike">
              <a:solidFill>
                <a:srgbClr val="000000"/>
              </a:solidFill>
              <a:latin typeface="Calibri"/>
            </a:endParaRPr>
          </a:p>
        </p:txBody>
      </p:sp>
      <p:sp>
        <p:nvSpPr>
          <p:cNvPr id="163" name="Rectangle 8"/>
          <p:cNvSpPr/>
          <p:nvPr/>
        </p:nvSpPr>
        <p:spPr>
          <a:xfrm>
            <a:off x="7508880" y="284040"/>
            <a:ext cx="573120" cy="478080"/>
          </a:xfrm>
          <a:prstGeom prst="rect">
            <a:avLst/>
          </a:prstGeom>
          <a:blipFill rotWithShape="0">
            <a:blip r:embed="rId1"/>
            <a:srcRect/>
            <a:stretch/>
          </a:blipFill>
          <a:ln w="0">
            <a:noFill/>
          </a:ln>
        </p:spPr>
        <p:style>
          <a:lnRef idx="0"/>
          <a:fillRef idx="0"/>
          <a:effectRef idx="0"/>
          <a:fontRef idx="minor"/>
        </p:style>
        <p: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AutoShape 9"/>
          <p:cNvSpPr/>
          <p:nvPr/>
        </p:nvSpPr>
        <p:spPr>
          <a:xfrm>
            <a:off x="6121440" y="6135840"/>
            <a:ext cx="1292040" cy="441000"/>
          </a:xfrm>
          <a:custGeom>
            <a:avLst/>
            <a:gdLst>
              <a:gd name="textAreaLeft" fmla="*/ 0 w 1292040"/>
              <a:gd name="textAreaRight" fmla="*/ 1292400 w 1292040"/>
              <a:gd name="textAreaTop" fmla="*/ 0 h 441000"/>
              <a:gd name="textAreaBottom" fmla="*/ 441360 h 441000"/>
            </a:gdLst>
            <a:ahLst/>
            <a:rect l="textAreaLeft" t="textAreaTop" r="textAreaRight" b="textAreaBottom"/>
            <a:pathLst>
              <a:path w="21600" h="21600">
                <a:moveTo>
                  <a:pt x="18463" y="0"/>
                </a:moveTo>
                <a:lnTo>
                  <a:pt x="3137" y="0"/>
                </a:lnTo>
                <a:lnTo>
                  <a:pt x="2303" y="328"/>
                </a:lnTo>
                <a:lnTo>
                  <a:pt x="1554" y="1254"/>
                </a:lnTo>
                <a:lnTo>
                  <a:pt x="919" y="2690"/>
                </a:lnTo>
                <a:lnTo>
                  <a:pt x="428" y="4549"/>
                </a:lnTo>
                <a:lnTo>
                  <a:pt x="112" y="6742"/>
                </a:lnTo>
                <a:lnTo>
                  <a:pt x="0" y="9183"/>
                </a:lnTo>
                <a:lnTo>
                  <a:pt x="0" y="12416"/>
                </a:lnTo>
                <a:lnTo>
                  <a:pt x="112" y="14858"/>
                </a:lnTo>
                <a:lnTo>
                  <a:pt x="428" y="17052"/>
                </a:lnTo>
                <a:lnTo>
                  <a:pt x="919" y="18910"/>
                </a:lnTo>
                <a:lnTo>
                  <a:pt x="1554" y="20346"/>
                </a:lnTo>
                <a:lnTo>
                  <a:pt x="2303" y="21272"/>
                </a:lnTo>
                <a:lnTo>
                  <a:pt x="3137" y="21600"/>
                </a:lnTo>
                <a:lnTo>
                  <a:pt x="18463" y="21600"/>
                </a:lnTo>
                <a:lnTo>
                  <a:pt x="19297" y="21272"/>
                </a:lnTo>
                <a:lnTo>
                  <a:pt x="20047" y="20346"/>
                </a:lnTo>
                <a:lnTo>
                  <a:pt x="20681" y="18910"/>
                </a:lnTo>
                <a:lnTo>
                  <a:pt x="21172" y="17052"/>
                </a:lnTo>
                <a:lnTo>
                  <a:pt x="21488" y="14858"/>
                </a:lnTo>
                <a:lnTo>
                  <a:pt x="21600" y="12416"/>
                </a:lnTo>
                <a:lnTo>
                  <a:pt x="21600" y="9183"/>
                </a:lnTo>
                <a:lnTo>
                  <a:pt x="21488" y="6742"/>
                </a:lnTo>
                <a:lnTo>
                  <a:pt x="21172" y="4549"/>
                </a:lnTo>
                <a:lnTo>
                  <a:pt x="20681" y="2690"/>
                </a:lnTo>
                <a:lnTo>
                  <a:pt x="20047" y="1254"/>
                </a:lnTo>
                <a:lnTo>
                  <a:pt x="19297" y="328"/>
                </a:lnTo>
                <a:lnTo>
                  <a:pt x="18463" y="0"/>
                </a:lnTo>
                <a:close/>
              </a:path>
            </a:pathLst>
          </a:custGeom>
          <a:solidFill>
            <a:srgbClr val="399d5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65" name="Rectangle 10"/>
          <p:cNvSpPr/>
          <p:nvPr/>
        </p:nvSpPr>
        <p:spPr>
          <a:xfrm>
            <a:off x="6313320" y="6256440"/>
            <a:ext cx="9082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ea typeface="Lato"/>
              </a:rPr>
              <a:t>UNECA.ORG</a:t>
            </a:r>
            <a:endParaRPr b="0" lang="en-US" sz="1200" spc="-1" strike="noStrike">
              <a:solidFill>
                <a:srgbClr val="000000"/>
              </a:solidFill>
              <a:latin typeface="Calibri"/>
            </a:endParaRPr>
          </a:p>
        </p:txBody>
      </p:sp>
      <p:sp>
        <p:nvSpPr>
          <p:cNvPr id="166" name="Rectangle 11"/>
          <p:cNvSpPr/>
          <p:nvPr/>
        </p:nvSpPr>
        <p:spPr>
          <a:xfrm>
            <a:off x="279360" y="360360"/>
            <a:ext cx="35719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Lato"/>
                <a:ea typeface="Lato"/>
              </a:rPr>
              <a:t>Développement économique…</a:t>
            </a:r>
            <a:r>
              <a:rPr b="1" lang="en-US" sz="1800" spc="-1" strike="noStrike">
                <a:solidFill>
                  <a:srgbClr val="ffffff"/>
                </a:solidFill>
                <a:latin typeface="Lato"/>
                <a:ea typeface="Lato"/>
              </a:rPr>
              <a:t> </a:t>
            </a:r>
            <a:endParaRPr b="0" lang="en-US" sz="1800" spc="-1" strike="noStrike">
              <a:solidFill>
                <a:srgbClr val="000000"/>
              </a:solidFill>
              <a:latin typeface="Calibri"/>
            </a:endParaRPr>
          </a:p>
        </p:txBody>
      </p:sp>
      <p:sp>
        <p:nvSpPr>
          <p:cNvPr id="167" name="Rectangle 12"/>
          <p:cNvSpPr/>
          <p:nvPr/>
        </p:nvSpPr>
        <p:spPr>
          <a:xfrm>
            <a:off x="4659480" y="414360"/>
            <a:ext cx="560160" cy="27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25E6A-7168-4FAC-9FBB-A1AFFCB2039E}" type="slidenum">
              <a:rPr b="1" lang="en-US" sz="1600" spc="-1" strike="noStrike">
                <a:solidFill>
                  <a:srgbClr val="399d5c"/>
                </a:solidFill>
                <a:latin typeface="Lucida Sans"/>
                <a:ea typeface="Lucida Sans"/>
              </a:rPr>
              <a:t>&lt;number&gt;</a:t>
            </a:fld>
            <a:endParaRPr b="0" lang="en-US" sz="1600" spc="-1" strike="noStrike">
              <a:solidFill>
                <a:srgbClr val="000000"/>
              </a:solidFill>
              <a:latin typeface="Calibri"/>
            </a:endParaRPr>
          </a:p>
        </p:txBody>
      </p:sp>
      <p:sp>
        <p:nvSpPr>
          <p:cNvPr id="168" name="Line 13"/>
          <p:cNvSpPr/>
          <p:nvPr/>
        </p:nvSpPr>
        <p:spPr>
          <a:xfrm>
            <a:off x="0" y="6851520"/>
            <a:ext cx="9144000" cy="0"/>
          </a:xfrm>
          <a:prstGeom prst="line">
            <a:avLst/>
          </a:prstGeom>
          <a:ln w="12600">
            <a:solidFill>
              <a:srgbClr val="666666"/>
            </a:solidFill>
            <a:miter/>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69" name="Rectangle 1"/>
          <p:cNvSpPr/>
          <p:nvPr/>
        </p:nvSpPr>
        <p:spPr>
          <a:xfrm>
            <a:off x="900000" y="1341360"/>
            <a:ext cx="7344000" cy="4475880"/>
          </a:xfrm>
          <a:prstGeom prst="rect">
            <a:avLst/>
          </a:prstGeom>
          <a:noFill/>
          <a:ln w="0">
            <a:noFill/>
          </a:ln>
        </p:spPr>
        <p:style>
          <a:lnRef idx="0"/>
          <a:fillRef idx="0"/>
          <a:effectRef idx="0"/>
          <a:fontRef idx="minor"/>
        </p:style>
        <p:txBody>
          <a:bodyPr lIns="0" rIns="0" tIns="0" bIns="0" anchor="t">
            <a:spAutoFit/>
          </a:bodyPr>
          <a:p>
            <a:pPr marL="3254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Atelier sur l’harmonisation des procédures douanières et l’échange de documents informatiques entre administrations douanières dans la région arabe.</a:t>
            </a:r>
            <a:endParaRPr b="0" lang="en-US" sz="1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L’atelier a offert l’occasion aux douanes de la région de bénéficier de l’expérience d’autres régions en matière d’harmonisation douanière et d’échanges de documents informatiques entre douane</a:t>
            </a:r>
            <a:endParaRPr b="0" lang="en-US" sz="1400" spc="-1" strike="noStrike">
              <a:solidFill>
                <a:srgbClr val="000000"/>
              </a:solidFill>
              <a:latin typeface="Calibri"/>
            </a:endParaRPr>
          </a:p>
          <a:p>
            <a:pPr marL="3254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Appui technique et services-conseils pour la mise en place d’un mécanisme de financement autonome de l’intégration au Maghreb</a:t>
            </a:r>
            <a:endParaRPr b="0" lang="en-US" sz="1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Une étude a proposé un nouveau système permettant une couverture optimale des besoins financiers actuels et futurs de l’UMA</a:t>
            </a:r>
            <a:endParaRPr b="0" lang="en-US" sz="1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L’étude validée par les experts de l’UMA et des Etats membres</a:t>
            </a:r>
            <a:endParaRPr b="0" lang="en-US" sz="1400" spc="-1" strike="noStrike">
              <a:solidFill>
                <a:srgbClr val="000000"/>
              </a:solidFill>
              <a:latin typeface="Calibri"/>
            </a:endParaRPr>
          </a:p>
          <a:p>
            <a:pPr marL="3254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tude et réunion d’experts sur le transport international et la facilitation du commerce</a:t>
            </a:r>
            <a:endParaRPr b="0" lang="en-US" sz="1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Un plan d’action visant la simplification et l’harmonisation des formalités douanières et de transport-transit inter-états et la réduction des coûts directs et indirects des transactions commerciales</a:t>
            </a:r>
            <a:r>
              <a:rPr b="1" lang="fr-FR" sz="1400" spc="-1" strike="noStrike">
                <a:solidFill>
                  <a:srgbClr val="000000"/>
                </a:solidFill>
                <a:latin typeface="Calibri"/>
                <a:ea typeface="Calibri"/>
              </a:rPr>
              <a:t> </a:t>
            </a:r>
            <a:endParaRPr b="0" lang="en-US" sz="1400" spc="-1" strike="noStrike">
              <a:solidFill>
                <a:srgbClr val="000000"/>
              </a:solidFill>
              <a:latin typeface="Calibri"/>
            </a:endParaRPr>
          </a:p>
          <a:p>
            <a:pPr marL="3254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Appui à l’UMA et aux Etats membres pour la mise en œuvre de l’Initiative BIAT/CFTA</a:t>
            </a:r>
            <a:endParaRPr b="0" lang="en-US" sz="1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Organisation et animation de deux ateliers régionaux pour la préparation du Plan d'action sous-régional BIAT. </a:t>
            </a:r>
            <a:endParaRPr b="0" lang="en-US" sz="1400" spc="-1" strike="noStrike">
              <a:solidFill>
                <a:srgbClr val="000000"/>
              </a:solidFill>
              <a:latin typeface="Calibri"/>
            </a:endParaRPr>
          </a:p>
          <a:p>
            <a:pPr marL="3254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tude et réunion d’experts sur l’industrialisation par le commerce en Afrique du Nord dans le contexte de la Zone de Libre Echange Continentale et les Méga accords commerciaux</a:t>
            </a:r>
            <a:endParaRPr b="0" lang="en-US" sz="1400" spc="-1" strike="noStrike">
              <a:solidFill>
                <a:srgbClr val="000000"/>
              </a:solidFill>
              <a:latin typeface="Calibri"/>
            </a:endParaRPr>
          </a:p>
          <a:p>
            <a:pPr marL="3254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unions du Mécanisme  de coordination sous régionale MSRC-Afrique du Nord (2014, 2015 et 2016)</a:t>
            </a:r>
            <a:endParaRPr b="0" lang="en-US" sz="14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p:cNvSpPr/>
          <p:nvPr/>
        </p:nvSpPr>
        <p:spPr>
          <a:xfrm>
            <a:off x="0" y="6135840"/>
            <a:ext cx="6026040" cy="442800"/>
          </a:xfrm>
          <a:custGeom>
            <a:avLst/>
            <a:gdLst>
              <a:gd name="textAreaLeft" fmla="*/ 0 w 6026040"/>
              <a:gd name="textAreaRight" fmla="*/ 6026400 w 6026040"/>
              <a:gd name="textAreaTop" fmla="*/ 0 h 442800"/>
              <a:gd name="textAreaBottom" fmla="*/ 443160 h 442800"/>
            </a:gdLst>
            <a:ahLst/>
            <a:rect l="textAreaLeft" t="textAreaTop" r="textAreaRight" b="textAreaBottom"/>
            <a:pathLst>
              <a:path w="21600" h="21600">
                <a:moveTo>
                  <a:pt x="20929" y="0"/>
                </a:moveTo>
                <a:lnTo>
                  <a:pt x="0" y="0"/>
                </a:lnTo>
                <a:lnTo>
                  <a:pt x="0" y="21600"/>
                </a:lnTo>
                <a:lnTo>
                  <a:pt x="20929" y="21600"/>
                </a:lnTo>
                <a:lnTo>
                  <a:pt x="21107" y="21274"/>
                </a:lnTo>
                <a:lnTo>
                  <a:pt x="21268" y="20353"/>
                </a:lnTo>
                <a:lnTo>
                  <a:pt x="21404" y="18924"/>
                </a:lnTo>
                <a:lnTo>
                  <a:pt x="21508" y="17076"/>
                </a:lnTo>
                <a:lnTo>
                  <a:pt x="21576" y="14893"/>
                </a:lnTo>
                <a:lnTo>
                  <a:pt x="21600" y="12465"/>
                </a:lnTo>
                <a:lnTo>
                  <a:pt x="21600" y="9135"/>
                </a:lnTo>
                <a:lnTo>
                  <a:pt x="21576" y="6707"/>
                </a:lnTo>
                <a:lnTo>
                  <a:pt x="21508" y="4524"/>
                </a:lnTo>
                <a:lnTo>
                  <a:pt x="21404" y="2676"/>
                </a:lnTo>
                <a:lnTo>
                  <a:pt x="21268" y="1247"/>
                </a:lnTo>
                <a:lnTo>
                  <a:pt x="21107" y="326"/>
                </a:lnTo>
                <a:lnTo>
                  <a:pt x="20929" y="0"/>
                </a:lnTo>
                <a:close/>
              </a:path>
            </a:pathLst>
          </a:custGeom>
          <a:solidFill>
            <a:srgbClr val="44ae6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71" name="Rectangle 3"/>
          <p:cNvSpPr/>
          <p:nvPr/>
        </p:nvSpPr>
        <p:spPr>
          <a:xfrm>
            <a:off x="324000" y="6237360"/>
            <a:ext cx="5324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Lato"/>
                <a:ea typeface="Lato"/>
              </a:rPr>
              <a:t>Rapport d’activités UMA CEA 2014-2016 </a:t>
            </a:r>
            <a:endParaRPr b="0" lang="en-US" sz="1600" spc="-1" strike="noStrike">
              <a:solidFill>
                <a:srgbClr val="000000"/>
              </a:solidFill>
              <a:latin typeface="Calibri"/>
            </a:endParaRPr>
          </a:p>
        </p:txBody>
      </p:sp>
      <p:sp>
        <p:nvSpPr>
          <p:cNvPr id="172" name="AutoShape 4"/>
          <p:cNvSpPr/>
          <p:nvPr/>
        </p:nvSpPr>
        <p:spPr>
          <a:xfrm>
            <a:off x="0" y="0"/>
            <a:ext cx="9131400" cy="6845400"/>
          </a:xfrm>
          <a:custGeom>
            <a:avLst/>
            <a:gdLst>
              <a:gd name="textAreaLeft" fmla="*/ 0 w 9131400"/>
              <a:gd name="textAreaRight" fmla="*/ 9131760 w 9131400"/>
              <a:gd name="textAreaTop" fmla="*/ 0 h 6845400"/>
              <a:gd name="textAreaBottom" fmla="*/ 6845760 h 6845400"/>
            </a:gdLst>
            <a:ahLst/>
            <a:rect l="textAreaLeft" t="textAreaTop" r="textAreaRight" b="textAreaBottom"/>
            <a:pathLst>
              <a:path w="21600" h="21600">
                <a:moveTo>
                  <a:pt x="0" y="21600"/>
                </a:moveTo>
                <a:lnTo>
                  <a:pt x="0" y="0"/>
                </a:lnTo>
                <a:lnTo>
                  <a:pt x="21600" y="0"/>
                </a:lnTo>
              </a:path>
            </a:pathLst>
          </a:custGeom>
          <a:noFill/>
          <a:ln w="3240">
            <a:solidFill>
              <a:srgbClr val="7b7b7b"/>
            </a:solidFill>
            <a:round/>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73" name="AutoShape 5"/>
          <p:cNvSpPr/>
          <p:nvPr/>
        </p:nvSpPr>
        <p:spPr>
          <a:xfrm>
            <a:off x="0" y="0"/>
            <a:ext cx="9131400" cy="6845400"/>
          </a:xfrm>
          <a:custGeom>
            <a:avLst/>
            <a:gdLst>
              <a:gd name="textAreaLeft" fmla="*/ 0 w 9131400"/>
              <a:gd name="textAreaRight" fmla="*/ 9131760 w 9131400"/>
              <a:gd name="textAreaTop" fmla="*/ 0 h 6845400"/>
              <a:gd name="textAreaBottom" fmla="*/ 6845760 h 6845400"/>
            </a:gdLst>
            <a:ahLst/>
            <a:rect l="textAreaLeft" t="textAreaTop" r="textAreaRight" b="textAreaBottom"/>
            <a:pathLst>
              <a:path w="21600" h="21600">
                <a:moveTo>
                  <a:pt x="0" y="21600"/>
                </a:moveTo>
                <a:lnTo>
                  <a:pt x="0" y="0"/>
                </a:lnTo>
                <a:lnTo>
                  <a:pt x="21600" y="0"/>
                </a:lnTo>
              </a:path>
            </a:pathLst>
          </a:custGeom>
          <a:noFill/>
          <a:ln w="3240">
            <a:solidFill>
              <a:srgbClr val="7b7b7b"/>
            </a:solidFill>
            <a:round/>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74" name="AutoShape 6"/>
          <p:cNvSpPr/>
          <p:nvPr/>
        </p:nvSpPr>
        <p:spPr>
          <a:xfrm>
            <a:off x="0" y="290520"/>
            <a:ext cx="4475160" cy="441360"/>
          </a:xfrm>
          <a:custGeom>
            <a:avLst/>
            <a:gdLst>
              <a:gd name="textAreaLeft" fmla="*/ 0 w 4475160"/>
              <a:gd name="textAreaRight" fmla="*/ 4475520 w 4475160"/>
              <a:gd name="textAreaTop" fmla="*/ 0 h 441360"/>
              <a:gd name="textAreaBottom" fmla="*/ 441720 h 441360"/>
            </a:gdLst>
            <a:ahLst/>
            <a:rect l="textAreaLeft" t="textAreaTop" r="textAreaRight" b="textAreaBottom"/>
            <a:pathLst>
              <a:path w="21600" h="21600">
                <a:moveTo>
                  <a:pt x="20694" y="0"/>
                </a:moveTo>
                <a:lnTo>
                  <a:pt x="115" y="0"/>
                </a:lnTo>
                <a:lnTo>
                  <a:pt x="0" y="157"/>
                </a:lnTo>
                <a:lnTo>
                  <a:pt x="0" y="21443"/>
                </a:lnTo>
                <a:lnTo>
                  <a:pt x="115" y="21600"/>
                </a:lnTo>
                <a:lnTo>
                  <a:pt x="20694" y="21600"/>
                </a:lnTo>
                <a:lnTo>
                  <a:pt x="20935" y="21272"/>
                </a:lnTo>
                <a:lnTo>
                  <a:pt x="21151" y="20346"/>
                </a:lnTo>
                <a:lnTo>
                  <a:pt x="21335" y="18910"/>
                </a:lnTo>
                <a:lnTo>
                  <a:pt x="21476" y="17052"/>
                </a:lnTo>
                <a:lnTo>
                  <a:pt x="21568" y="14858"/>
                </a:lnTo>
                <a:lnTo>
                  <a:pt x="21600" y="12416"/>
                </a:lnTo>
                <a:lnTo>
                  <a:pt x="21600" y="9183"/>
                </a:lnTo>
                <a:lnTo>
                  <a:pt x="21568" y="6742"/>
                </a:lnTo>
                <a:lnTo>
                  <a:pt x="21476" y="4549"/>
                </a:lnTo>
                <a:lnTo>
                  <a:pt x="21335" y="2690"/>
                </a:lnTo>
                <a:lnTo>
                  <a:pt x="21151" y="1254"/>
                </a:lnTo>
                <a:lnTo>
                  <a:pt x="20935" y="328"/>
                </a:lnTo>
                <a:lnTo>
                  <a:pt x="20694" y="0"/>
                </a:lnTo>
                <a:close/>
              </a:path>
            </a:pathLst>
          </a:custGeom>
          <a:solidFill>
            <a:srgbClr val="44ae6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75" name="Rectangle 7"/>
          <p:cNvSpPr/>
          <p:nvPr/>
        </p:nvSpPr>
        <p:spPr>
          <a:xfrm>
            <a:off x="8123400" y="297000"/>
            <a:ext cx="75564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385c1"/>
                </a:solidFill>
                <a:latin typeface="Times New Roman"/>
                <a:ea typeface="Times New Roman"/>
              </a:rPr>
              <a:t>ECA</a:t>
            </a:r>
            <a:endParaRPr b="0" lang="en-US" sz="2700" spc="-1" strike="noStrike">
              <a:solidFill>
                <a:srgbClr val="000000"/>
              </a:solidFill>
              <a:latin typeface="Calibri"/>
            </a:endParaRPr>
          </a:p>
        </p:txBody>
      </p:sp>
      <p:sp>
        <p:nvSpPr>
          <p:cNvPr id="176" name="Rectangle 8"/>
          <p:cNvSpPr/>
          <p:nvPr/>
        </p:nvSpPr>
        <p:spPr>
          <a:xfrm>
            <a:off x="7508880" y="284040"/>
            <a:ext cx="573120" cy="478080"/>
          </a:xfrm>
          <a:prstGeom prst="rect">
            <a:avLst/>
          </a:prstGeom>
          <a:blipFill rotWithShape="0">
            <a:blip r:embed="rId1"/>
            <a:srcRect/>
            <a:stretch/>
          </a:blipFill>
          <a:ln w="0">
            <a:noFill/>
          </a:ln>
        </p:spPr>
        <p:style>
          <a:lnRef idx="0"/>
          <a:fillRef idx="0"/>
          <a:effectRef idx="0"/>
          <a:fontRef idx="minor"/>
        </p:style>
        <p: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AutoShape 9"/>
          <p:cNvSpPr/>
          <p:nvPr/>
        </p:nvSpPr>
        <p:spPr>
          <a:xfrm>
            <a:off x="6121440" y="6135840"/>
            <a:ext cx="1292040" cy="441000"/>
          </a:xfrm>
          <a:custGeom>
            <a:avLst/>
            <a:gdLst>
              <a:gd name="textAreaLeft" fmla="*/ 0 w 1292040"/>
              <a:gd name="textAreaRight" fmla="*/ 1292400 w 1292040"/>
              <a:gd name="textAreaTop" fmla="*/ 0 h 441000"/>
              <a:gd name="textAreaBottom" fmla="*/ 441360 h 441000"/>
            </a:gdLst>
            <a:ahLst/>
            <a:rect l="textAreaLeft" t="textAreaTop" r="textAreaRight" b="textAreaBottom"/>
            <a:pathLst>
              <a:path w="21600" h="21600">
                <a:moveTo>
                  <a:pt x="18463" y="0"/>
                </a:moveTo>
                <a:lnTo>
                  <a:pt x="3137" y="0"/>
                </a:lnTo>
                <a:lnTo>
                  <a:pt x="2303" y="328"/>
                </a:lnTo>
                <a:lnTo>
                  <a:pt x="1554" y="1254"/>
                </a:lnTo>
                <a:lnTo>
                  <a:pt x="919" y="2690"/>
                </a:lnTo>
                <a:lnTo>
                  <a:pt x="428" y="4549"/>
                </a:lnTo>
                <a:lnTo>
                  <a:pt x="112" y="6742"/>
                </a:lnTo>
                <a:lnTo>
                  <a:pt x="0" y="9183"/>
                </a:lnTo>
                <a:lnTo>
                  <a:pt x="0" y="12416"/>
                </a:lnTo>
                <a:lnTo>
                  <a:pt x="112" y="14858"/>
                </a:lnTo>
                <a:lnTo>
                  <a:pt x="428" y="17052"/>
                </a:lnTo>
                <a:lnTo>
                  <a:pt x="919" y="18910"/>
                </a:lnTo>
                <a:lnTo>
                  <a:pt x="1554" y="20346"/>
                </a:lnTo>
                <a:lnTo>
                  <a:pt x="2303" y="21272"/>
                </a:lnTo>
                <a:lnTo>
                  <a:pt x="3137" y="21600"/>
                </a:lnTo>
                <a:lnTo>
                  <a:pt x="18463" y="21600"/>
                </a:lnTo>
                <a:lnTo>
                  <a:pt x="19297" y="21272"/>
                </a:lnTo>
                <a:lnTo>
                  <a:pt x="20047" y="20346"/>
                </a:lnTo>
                <a:lnTo>
                  <a:pt x="20681" y="18910"/>
                </a:lnTo>
                <a:lnTo>
                  <a:pt x="21172" y="17052"/>
                </a:lnTo>
                <a:lnTo>
                  <a:pt x="21488" y="14858"/>
                </a:lnTo>
                <a:lnTo>
                  <a:pt x="21600" y="12416"/>
                </a:lnTo>
                <a:lnTo>
                  <a:pt x="21600" y="9183"/>
                </a:lnTo>
                <a:lnTo>
                  <a:pt x="21488" y="6742"/>
                </a:lnTo>
                <a:lnTo>
                  <a:pt x="21172" y="4549"/>
                </a:lnTo>
                <a:lnTo>
                  <a:pt x="20681" y="2690"/>
                </a:lnTo>
                <a:lnTo>
                  <a:pt x="20047" y="1254"/>
                </a:lnTo>
                <a:lnTo>
                  <a:pt x="19297" y="328"/>
                </a:lnTo>
                <a:lnTo>
                  <a:pt x="18463" y="0"/>
                </a:lnTo>
                <a:close/>
              </a:path>
            </a:pathLst>
          </a:custGeom>
          <a:solidFill>
            <a:srgbClr val="399d5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78" name="Rectangle 10"/>
          <p:cNvSpPr/>
          <p:nvPr/>
        </p:nvSpPr>
        <p:spPr>
          <a:xfrm>
            <a:off x="6313320" y="6256440"/>
            <a:ext cx="9082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ea typeface="Lato"/>
              </a:rPr>
              <a:t>UNECA.ORG</a:t>
            </a:r>
            <a:endParaRPr b="0" lang="en-US" sz="1200" spc="-1" strike="noStrike">
              <a:solidFill>
                <a:srgbClr val="000000"/>
              </a:solidFill>
              <a:latin typeface="Calibri"/>
            </a:endParaRPr>
          </a:p>
        </p:txBody>
      </p:sp>
      <p:sp>
        <p:nvSpPr>
          <p:cNvPr id="179" name="Rectangle 11"/>
          <p:cNvSpPr/>
          <p:nvPr/>
        </p:nvSpPr>
        <p:spPr>
          <a:xfrm>
            <a:off x="279360" y="360360"/>
            <a:ext cx="25527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Lato"/>
                <a:ea typeface="Lato"/>
              </a:rPr>
              <a:t>Dimensions sociales…</a:t>
            </a:r>
            <a:r>
              <a:rPr b="1" lang="en-US" sz="1800" spc="-1" strike="noStrike">
                <a:solidFill>
                  <a:srgbClr val="ffffff"/>
                </a:solidFill>
                <a:latin typeface="Lato"/>
                <a:ea typeface="Lato"/>
              </a:rPr>
              <a:t> </a:t>
            </a:r>
            <a:endParaRPr b="0" lang="en-US" sz="1800" spc="-1" strike="noStrike">
              <a:solidFill>
                <a:srgbClr val="000000"/>
              </a:solidFill>
              <a:latin typeface="Calibri"/>
            </a:endParaRPr>
          </a:p>
        </p:txBody>
      </p:sp>
      <p:sp>
        <p:nvSpPr>
          <p:cNvPr id="180" name="Rectangle 12"/>
          <p:cNvSpPr/>
          <p:nvPr/>
        </p:nvSpPr>
        <p:spPr>
          <a:xfrm>
            <a:off x="4659480" y="414360"/>
            <a:ext cx="560160" cy="27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297E9-56AF-4065-8B2C-C868378D1C1F}" type="slidenum">
              <a:rPr b="1" lang="en-US" sz="1600" spc="-1" strike="noStrike">
                <a:solidFill>
                  <a:srgbClr val="399d5c"/>
                </a:solidFill>
                <a:latin typeface="Lucida Sans"/>
                <a:ea typeface="Lucida Sans"/>
              </a:rPr>
              <a:t>&lt;number&gt;</a:t>
            </a:fld>
            <a:endParaRPr b="0" lang="en-US" sz="1600" spc="-1" strike="noStrike">
              <a:solidFill>
                <a:srgbClr val="000000"/>
              </a:solidFill>
              <a:latin typeface="Calibri"/>
            </a:endParaRPr>
          </a:p>
        </p:txBody>
      </p:sp>
      <p:sp>
        <p:nvSpPr>
          <p:cNvPr id="181" name="Line 13"/>
          <p:cNvSpPr/>
          <p:nvPr/>
        </p:nvSpPr>
        <p:spPr>
          <a:xfrm>
            <a:off x="0" y="6851520"/>
            <a:ext cx="9144000" cy="0"/>
          </a:xfrm>
          <a:prstGeom prst="line">
            <a:avLst/>
          </a:prstGeom>
          <a:ln w="12600">
            <a:solidFill>
              <a:srgbClr val="666666"/>
            </a:solidFill>
            <a:miter/>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82" name="Rectangle 1"/>
          <p:cNvSpPr/>
          <p:nvPr/>
        </p:nvSpPr>
        <p:spPr>
          <a:xfrm>
            <a:off x="900000" y="2276640"/>
            <a:ext cx="7344000" cy="2008080"/>
          </a:xfrm>
          <a:prstGeom prst="rect">
            <a:avLst/>
          </a:prstGeom>
          <a:noFill/>
          <a:ln w="0">
            <a:noFill/>
          </a:ln>
        </p:spPr>
        <p:style>
          <a:lnRef idx="0"/>
          <a:fillRef idx="0"/>
          <a:effectRef idx="0"/>
          <a:fontRef idx="minor"/>
        </p:style>
        <p:txBody>
          <a:bodyPr lIns="0" rIns="0" tIns="0" bIns="0" anchor="t">
            <a:spAutoFit/>
          </a:bodyPr>
          <a:p>
            <a:pPr marL="3254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tude et réunion d’experts pour l’intégration de la migration dans les processus de développement</a:t>
            </a:r>
            <a:endParaRPr b="0" lang="en-US" sz="16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Calibri"/>
              </a:rPr>
              <a:t>Réponse à l’une des recommandations majeures du 2ème Dialogue de haut niveau des Nations Unies sur les migrations, à savoir l’amélioration de l'impact des transferts de fonds sur le développement des pays membres.</a:t>
            </a:r>
            <a:endParaRPr b="0" lang="en-US" sz="12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Calibri"/>
              </a:rPr>
              <a:t>Deux études nationales (Maroc et Tunisie) + deux ateliers régionaux</a:t>
            </a:r>
            <a:endParaRPr b="0" lang="en-US" sz="1200" spc="-1" strike="noStrike">
              <a:solidFill>
                <a:srgbClr val="000000"/>
              </a:solidFill>
              <a:latin typeface="Calibri"/>
            </a:endParaRPr>
          </a:p>
          <a:p>
            <a:pPr marL="3254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Appui à l’élaboration d’une stratégie Genre pour l’UMA</a:t>
            </a:r>
            <a:endParaRPr b="0" lang="en-US" sz="16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Calibri"/>
              </a:rPr>
              <a:t>Prise en compte effective de l’approche genre tant dans son programme de travail que dans son fonctionnement interne</a:t>
            </a:r>
            <a:endParaRPr b="0" lang="en-US" sz="1200" spc="-1" strike="noStrike">
              <a:solidFill>
                <a:srgbClr val="000000"/>
              </a:solidFill>
              <a:latin typeface="Calibri"/>
            </a:endParaRPr>
          </a:p>
          <a:p>
            <a:pPr marL="3254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AutoShape 2"/>
          <p:cNvSpPr/>
          <p:nvPr/>
        </p:nvSpPr>
        <p:spPr>
          <a:xfrm>
            <a:off x="0" y="6135840"/>
            <a:ext cx="6026040" cy="442800"/>
          </a:xfrm>
          <a:custGeom>
            <a:avLst/>
            <a:gdLst>
              <a:gd name="textAreaLeft" fmla="*/ 0 w 6026040"/>
              <a:gd name="textAreaRight" fmla="*/ 6026400 w 6026040"/>
              <a:gd name="textAreaTop" fmla="*/ 0 h 442800"/>
              <a:gd name="textAreaBottom" fmla="*/ 443160 h 442800"/>
            </a:gdLst>
            <a:ahLst/>
            <a:rect l="textAreaLeft" t="textAreaTop" r="textAreaRight" b="textAreaBottom"/>
            <a:pathLst>
              <a:path w="21600" h="21600">
                <a:moveTo>
                  <a:pt x="20929" y="0"/>
                </a:moveTo>
                <a:lnTo>
                  <a:pt x="0" y="0"/>
                </a:lnTo>
                <a:lnTo>
                  <a:pt x="0" y="21600"/>
                </a:lnTo>
                <a:lnTo>
                  <a:pt x="20929" y="21600"/>
                </a:lnTo>
                <a:lnTo>
                  <a:pt x="21107" y="21274"/>
                </a:lnTo>
                <a:lnTo>
                  <a:pt x="21268" y="20353"/>
                </a:lnTo>
                <a:lnTo>
                  <a:pt x="21404" y="18924"/>
                </a:lnTo>
                <a:lnTo>
                  <a:pt x="21508" y="17076"/>
                </a:lnTo>
                <a:lnTo>
                  <a:pt x="21576" y="14893"/>
                </a:lnTo>
                <a:lnTo>
                  <a:pt x="21600" y="12465"/>
                </a:lnTo>
                <a:lnTo>
                  <a:pt x="21600" y="9135"/>
                </a:lnTo>
                <a:lnTo>
                  <a:pt x="21576" y="6707"/>
                </a:lnTo>
                <a:lnTo>
                  <a:pt x="21508" y="4524"/>
                </a:lnTo>
                <a:lnTo>
                  <a:pt x="21404" y="2676"/>
                </a:lnTo>
                <a:lnTo>
                  <a:pt x="21268" y="1247"/>
                </a:lnTo>
                <a:lnTo>
                  <a:pt x="21107" y="326"/>
                </a:lnTo>
                <a:lnTo>
                  <a:pt x="20929" y="0"/>
                </a:lnTo>
                <a:close/>
              </a:path>
            </a:pathLst>
          </a:custGeom>
          <a:solidFill>
            <a:srgbClr val="44ae6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84" name="Rectangle 3"/>
          <p:cNvSpPr/>
          <p:nvPr/>
        </p:nvSpPr>
        <p:spPr>
          <a:xfrm>
            <a:off x="324000" y="6237360"/>
            <a:ext cx="5324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Lato"/>
                <a:ea typeface="Lato"/>
              </a:rPr>
              <a:t>Rapport d’activités UMA CEA 2014-2016 </a:t>
            </a:r>
            <a:endParaRPr b="0" lang="en-US" sz="1600" spc="-1" strike="noStrike">
              <a:solidFill>
                <a:srgbClr val="000000"/>
              </a:solidFill>
              <a:latin typeface="Calibri"/>
            </a:endParaRPr>
          </a:p>
        </p:txBody>
      </p:sp>
      <p:sp>
        <p:nvSpPr>
          <p:cNvPr id="185" name="AutoShape 4"/>
          <p:cNvSpPr/>
          <p:nvPr/>
        </p:nvSpPr>
        <p:spPr>
          <a:xfrm>
            <a:off x="0" y="0"/>
            <a:ext cx="9131400" cy="6845400"/>
          </a:xfrm>
          <a:custGeom>
            <a:avLst/>
            <a:gdLst>
              <a:gd name="textAreaLeft" fmla="*/ 0 w 9131400"/>
              <a:gd name="textAreaRight" fmla="*/ 9131760 w 9131400"/>
              <a:gd name="textAreaTop" fmla="*/ 0 h 6845400"/>
              <a:gd name="textAreaBottom" fmla="*/ 6845760 h 6845400"/>
            </a:gdLst>
            <a:ahLst/>
            <a:rect l="textAreaLeft" t="textAreaTop" r="textAreaRight" b="textAreaBottom"/>
            <a:pathLst>
              <a:path w="21600" h="21600">
                <a:moveTo>
                  <a:pt x="0" y="21600"/>
                </a:moveTo>
                <a:lnTo>
                  <a:pt x="0" y="0"/>
                </a:lnTo>
                <a:lnTo>
                  <a:pt x="21600" y="0"/>
                </a:lnTo>
              </a:path>
            </a:pathLst>
          </a:custGeom>
          <a:noFill/>
          <a:ln w="3240">
            <a:solidFill>
              <a:srgbClr val="7b7b7b"/>
            </a:solidFill>
            <a:round/>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86" name="AutoShape 5"/>
          <p:cNvSpPr/>
          <p:nvPr/>
        </p:nvSpPr>
        <p:spPr>
          <a:xfrm>
            <a:off x="0" y="0"/>
            <a:ext cx="9131400" cy="6845400"/>
          </a:xfrm>
          <a:custGeom>
            <a:avLst/>
            <a:gdLst>
              <a:gd name="textAreaLeft" fmla="*/ 0 w 9131400"/>
              <a:gd name="textAreaRight" fmla="*/ 9131760 w 9131400"/>
              <a:gd name="textAreaTop" fmla="*/ 0 h 6845400"/>
              <a:gd name="textAreaBottom" fmla="*/ 6845760 h 6845400"/>
            </a:gdLst>
            <a:ahLst/>
            <a:rect l="textAreaLeft" t="textAreaTop" r="textAreaRight" b="textAreaBottom"/>
            <a:pathLst>
              <a:path w="21600" h="21600">
                <a:moveTo>
                  <a:pt x="0" y="21600"/>
                </a:moveTo>
                <a:lnTo>
                  <a:pt x="0" y="0"/>
                </a:lnTo>
                <a:lnTo>
                  <a:pt x="21600" y="0"/>
                </a:lnTo>
              </a:path>
            </a:pathLst>
          </a:custGeom>
          <a:noFill/>
          <a:ln w="3240">
            <a:solidFill>
              <a:srgbClr val="7b7b7b"/>
            </a:solidFill>
            <a:round/>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87" name="AutoShape 6"/>
          <p:cNvSpPr/>
          <p:nvPr/>
        </p:nvSpPr>
        <p:spPr>
          <a:xfrm>
            <a:off x="0" y="290520"/>
            <a:ext cx="4475160" cy="441360"/>
          </a:xfrm>
          <a:custGeom>
            <a:avLst/>
            <a:gdLst>
              <a:gd name="textAreaLeft" fmla="*/ 0 w 4475160"/>
              <a:gd name="textAreaRight" fmla="*/ 4475520 w 4475160"/>
              <a:gd name="textAreaTop" fmla="*/ 0 h 441360"/>
              <a:gd name="textAreaBottom" fmla="*/ 441720 h 441360"/>
            </a:gdLst>
            <a:ahLst/>
            <a:rect l="textAreaLeft" t="textAreaTop" r="textAreaRight" b="textAreaBottom"/>
            <a:pathLst>
              <a:path w="21600" h="21600">
                <a:moveTo>
                  <a:pt x="20694" y="0"/>
                </a:moveTo>
                <a:lnTo>
                  <a:pt x="115" y="0"/>
                </a:lnTo>
                <a:lnTo>
                  <a:pt x="0" y="157"/>
                </a:lnTo>
                <a:lnTo>
                  <a:pt x="0" y="21443"/>
                </a:lnTo>
                <a:lnTo>
                  <a:pt x="115" y="21600"/>
                </a:lnTo>
                <a:lnTo>
                  <a:pt x="20694" y="21600"/>
                </a:lnTo>
                <a:lnTo>
                  <a:pt x="20935" y="21272"/>
                </a:lnTo>
                <a:lnTo>
                  <a:pt x="21151" y="20346"/>
                </a:lnTo>
                <a:lnTo>
                  <a:pt x="21335" y="18910"/>
                </a:lnTo>
                <a:lnTo>
                  <a:pt x="21476" y="17052"/>
                </a:lnTo>
                <a:lnTo>
                  <a:pt x="21568" y="14858"/>
                </a:lnTo>
                <a:lnTo>
                  <a:pt x="21600" y="12416"/>
                </a:lnTo>
                <a:lnTo>
                  <a:pt x="21600" y="9183"/>
                </a:lnTo>
                <a:lnTo>
                  <a:pt x="21568" y="6742"/>
                </a:lnTo>
                <a:lnTo>
                  <a:pt x="21476" y="4549"/>
                </a:lnTo>
                <a:lnTo>
                  <a:pt x="21335" y="2690"/>
                </a:lnTo>
                <a:lnTo>
                  <a:pt x="21151" y="1254"/>
                </a:lnTo>
                <a:lnTo>
                  <a:pt x="20935" y="328"/>
                </a:lnTo>
                <a:lnTo>
                  <a:pt x="20694" y="0"/>
                </a:lnTo>
                <a:close/>
              </a:path>
            </a:pathLst>
          </a:custGeom>
          <a:solidFill>
            <a:srgbClr val="44ae6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88" name="Rectangle 7"/>
          <p:cNvSpPr/>
          <p:nvPr/>
        </p:nvSpPr>
        <p:spPr>
          <a:xfrm>
            <a:off x="8123400" y="297000"/>
            <a:ext cx="75564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385c1"/>
                </a:solidFill>
                <a:latin typeface="Times New Roman"/>
                <a:ea typeface="Times New Roman"/>
              </a:rPr>
              <a:t>ECA</a:t>
            </a:r>
            <a:endParaRPr b="0" lang="en-US" sz="2700" spc="-1" strike="noStrike">
              <a:solidFill>
                <a:srgbClr val="000000"/>
              </a:solidFill>
              <a:latin typeface="Calibri"/>
            </a:endParaRPr>
          </a:p>
        </p:txBody>
      </p:sp>
      <p:sp>
        <p:nvSpPr>
          <p:cNvPr id="189" name="Rectangle 8"/>
          <p:cNvSpPr/>
          <p:nvPr/>
        </p:nvSpPr>
        <p:spPr>
          <a:xfrm>
            <a:off x="7508880" y="284040"/>
            <a:ext cx="573120" cy="478080"/>
          </a:xfrm>
          <a:prstGeom prst="rect">
            <a:avLst/>
          </a:prstGeom>
          <a:blipFill rotWithShape="0">
            <a:blip r:embed="rId1"/>
            <a:srcRect/>
            <a:stretch/>
          </a:blipFill>
          <a:ln w="0">
            <a:noFill/>
          </a:ln>
        </p:spPr>
        <p:style>
          <a:lnRef idx="0"/>
          <a:fillRef idx="0"/>
          <a:effectRef idx="0"/>
          <a:fontRef idx="minor"/>
        </p:style>
        <p: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AutoShape 9"/>
          <p:cNvSpPr/>
          <p:nvPr/>
        </p:nvSpPr>
        <p:spPr>
          <a:xfrm>
            <a:off x="6121440" y="6135840"/>
            <a:ext cx="1292040" cy="441000"/>
          </a:xfrm>
          <a:custGeom>
            <a:avLst/>
            <a:gdLst>
              <a:gd name="textAreaLeft" fmla="*/ 0 w 1292040"/>
              <a:gd name="textAreaRight" fmla="*/ 1292400 w 1292040"/>
              <a:gd name="textAreaTop" fmla="*/ 0 h 441000"/>
              <a:gd name="textAreaBottom" fmla="*/ 441360 h 441000"/>
            </a:gdLst>
            <a:ahLst/>
            <a:rect l="textAreaLeft" t="textAreaTop" r="textAreaRight" b="textAreaBottom"/>
            <a:pathLst>
              <a:path w="21600" h="21600">
                <a:moveTo>
                  <a:pt x="18463" y="0"/>
                </a:moveTo>
                <a:lnTo>
                  <a:pt x="3137" y="0"/>
                </a:lnTo>
                <a:lnTo>
                  <a:pt x="2303" y="328"/>
                </a:lnTo>
                <a:lnTo>
                  <a:pt x="1554" y="1254"/>
                </a:lnTo>
                <a:lnTo>
                  <a:pt x="919" y="2690"/>
                </a:lnTo>
                <a:lnTo>
                  <a:pt x="428" y="4549"/>
                </a:lnTo>
                <a:lnTo>
                  <a:pt x="112" y="6742"/>
                </a:lnTo>
                <a:lnTo>
                  <a:pt x="0" y="9183"/>
                </a:lnTo>
                <a:lnTo>
                  <a:pt x="0" y="12416"/>
                </a:lnTo>
                <a:lnTo>
                  <a:pt x="112" y="14858"/>
                </a:lnTo>
                <a:lnTo>
                  <a:pt x="428" y="17052"/>
                </a:lnTo>
                <a:lnTo>
                  <a:pt x="919" y="18910"/>
                </a:lnTo>
                <a:lnTo>
                  <a:pt x="1554" y="20346"/>
                </a:lnTo>
                <a:lnTo>
                  <a:pt x="2303" y="21272"/>
                </a:lnTo>
                <a:lnTo>
                  <a:pt x="3137" y="21600"/>
                </a:lnTo>
                <a:lnTo>
                  <a:pt x="18463" y="21600"/>
                </a:lnTo>
                <a:lnTo>
                  <a:pt x="19297" y="21272"/>
                </a:lnTo>
                <a:lnTo>
                  <a:pt x="20047" y="20346"/>
                </a:lnTo>
                <a:lnTo>
                  <a:pt x="20681" y="18910"/>
                </a:lnTo>
                <a:lnTo>
                  <a:pt x="21172" y="17052"/>
                </a:lnTo>
                <a:lnTo>
                  <a:pt x="21488" y="14858"/>
                </a:lnTo>
                <a:lnTo>
                  <a:pt x="21600" y="12416"/>
                </a:lnTo>
                <a:lnTo>
                  <a:pt x="21600" y="9183"/>
                </a:lnTo>
                <a:lnTo>
                  <a:pt x="21488" y="6742"/>
                </a:lnTo>
                <a:lnTo>
                  <a:pt x="21172" y="4549"/>
                </a:lnTo>
                <a:lnTo>
                  <a:pt x="20681" y="2690"/>
                </a:lnTo>
                <a:lnTo>
                  <a:pt x="20047" y="1254"/>
                </a:lnTo>
                <a:lnTo>
                  <a:pt x="19297" y="328"/>
                </a:lnTo>
                <a:lnTo>
                  <a:pt x="18463" y="0"/>
                </a:lnTo>
                <a:close/>
              </a:path>
            </a:pathLst>
          </a:custGeom>
          <a:solidFill>
            <a:srgbClr val="399d5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91" name="Rectangle 10"/>
          <p:cNvSpPr/>
          <p:nvPr/>
        </p:nvSpPr>
        <p:spPr>
          <a:xfrm>
            <a:off x="6313320" y="6256440"/>
            <a:ext cx="9082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ea typeface="Lato"/>
              </a:rPr>
              <a:t>UNECA.ORG</a:t>
            </a:r>
            <a:endParaRPr b="0" lang="en-US" sz="1200" spc="-1" strike="noStrike">
              <a:solidFill>
                <a:srgbClr val="000000"/>
              </a:solidFill>
              <a:latin typeface="Calibri"/>
            </a:endParaRPr>
          </a:p>
        </p:txBody>
      </p:sp>
      <p:sp>
        <p:nvSpPr>
          <p:cNvPr id="192" name="Rectangle 11"/>
          <p:cNvSpPr/>
          <p:nvPr/>
        </p:nvSpPr>
        <p:spPr>
          <a:xfrm>
            <a:off x="279360" y="360360"/>
            <a:ext cx="25527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Lato"/>
                <a:ea typeface="Lato"/>
              </a:rPr>
              <a:t>Conclusion</a:t>
            </a:r>
            <a:endParaRPr b="0" lang="en-US" sz="1800" spc="-1" strike="noStrike">
              <a:solidFill>
                <a:srgbClr val="000000"/>
              </a:solidFill>
              <a:latin typeface="Calibri"/>
            </a:endParaRPr>
          </a:p>
        </p:txBody>
      </p:sp>
      <p:sp>
        <p:nvSpPr>
          <p:cNvPr id="193" name="Rectangle 12"/>
          <p:cNvSpPr/>
          <p:nvPr/>
        </p:nvSpPr>
        <p:spPr>
          <a:xfrm>
            <a:off x="4659480" y="414360"/>
            <a:ext cx="560160" cy="27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E8FAC-64F2-4260-B60D-F4A76F0A4D74}" type="slidenum">
              <a:rPr b="1" lang="en-US" sz="1600" spc="-1" strike="noStrike">
                <a:solidFill>
                  <a:srgbClr val="399d5c"/>
                </a:solidFill>
                <a:latin typeface="Lucida Sans"/>
                <a:ea typeface="Lucida Sans"/>
              </a:rPr>
              <a:t>&lt;number&gt;</a:t>
            </a:fld>
            <a:endParaRPr b="0" lang="en-US" sz="1600" spc="-1" strike="noStrike">
              <a:solidFill>
                <a:srgbClr val="000000"/>
              </a:solidFill>
              <a:latin typeface="Calibri"/>
            </a:endParaRPr>
          </a:p>
        </p:txBody>
      </p:sp>
      <p:sp>
        <p:nvSpPr>
          <p:cNvPr id="194" name="Line 13"/>
          <p:cNvSpPr/>
          <p:nvPr/>
        </p:nvSpPr>
        <p:spPr>
          <a:xfrm>
            <a:off x="0" y="6851520"/>
            <a:ext cx="9144000" cy="0"/>
          </a:xfrm>
          <a:prstGeom prst="line">
            <a:avLst/>
          </a:prstGeom>
          <a:ln w="12600">
            <a:solidFill>
              <a:srgbClr val="666666"/>
            </a:solidFill>
            <a:miter/>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95" name="Rectangle 1"/>
          <p:cNvSpPr/>
          <p:nvPr/>
        </p:nvSpPr>
        <p:spPr>
          <a:xfrm>
            <a:off x="971640" y="2349360"/>
            <a:ext cx="7345440" cy="2744640"/>
          </a:xfrm>
          <a:prstGeom prst="rect">
            <a:avLst/>
          </a:prstGeom>
          <a:noFill/>
          <a:ln w="0">
            <a:noFill/>
          </a:ln>
        </p:spPr>
        <p:style>
          <a:lnRef idx="0"/>
          <a:fillRef idx="0"/>
          <a:effectRef idx="0"/>
          <a:fontRef idx="minor"/>
        </p:style>
        <p:txBody>
          <a:bodyPr lIns="0" rIns="0" tIns="0" bIns="0" anchor="t">
            <a:spAutoFit/>
          </a:bodyPr>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Nombre important d’activités</a:t>
            </a:r>
            <a:endParaRPr b="0" lang="en-US" sz="2000" spc="-1" strike="noStrike">
              <a:solidFill>
                <a:srgbClr val="000000"/>
              </a:solidFill>
              <a:latin typeface="Calibri"/>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ctivités conjointes et d’intérêt commun aux deux institutions et au profit des pays membres et du processus d’intégration maghrébine.</a:t>
            </a:r>
            <a:endParaRPr b="0" lang="en-US" sz="2000" spc="-1" strike="noStrike">
              <a:solidFill>
                <a:srgbClr val="000000"/>
              </a:solidFill>
              <a:latin typeface="Calibri"/>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s axes de collaboration appelés à être examinés, confirmés ou revus dans la perspective d’un partenariat dynamique et adapté aux défis et opportunités de développement de la sous-région. </a:t>
            </a:r>
            <a:endParaRPr b="0" lang="en-US" sz="2000" spc="-1" strike="noStrike">
              <a:solidFill>
                <a:srgbClr val="000000"/>
              </a:solidFill>
              <a:latin typeface="Calibri"/>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 dialogue constant entre les deux institutions permettra de définir ces axes et d’en déduire les activités futures.</a:t>
            </a:r>
            <a:endParaRPr b="0" lang="en-US" sz="20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ziz Jaid</dc:creator>
  <dc:description/>
  <dc:language>en-US</dc:language>
  <cp:lastModifiedBy>Aziz Jaid</cp:lastModifiedBy>
  <dcterms:modified xsi:type="dcterms:W3CDTF">2016-12-01T08:22:35Z</dcterms:modified>
  <cp:revision>9</cp:revision>
  <dc:subject/>
  <dc:title>TITLE OF THE  PRESENTATION</dc:title>
</cp:coreProperties>
</file>