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588-408C-4F94-95F1-90C485AD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AB3-F8B7-4C47-8C3D-73B9B13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85E-999B-43E6-9443-BB49A391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FF-E560-4EE3-88DE-94BE49BE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213-FB46-4761-AAAE-08AD4C2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88C-262A-4E4D-B8BC-8351329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F85-5BE4-408F-81AC-8A6ABF6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280-BEE6-4722-89C4-1469847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81D-1013-47A4-B493-71F73D73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75F-CB99-43C9-A867-8A1CCE8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348-FFE1-468A-9CBA-DCA6C18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3BC-CDC5-440C-86F4-E103A31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B8F-4DDD-4BDC-9AA8-313BFFBC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55:15Z</dcterms:created>
  <dc:creator>SRO</dc:creator>
  <dc:description/>
  <dc:language>en-US</dc:language>
  <cp:lastModifiedBy>SRO</cp:lastModifiedBy>
  <dcterms:modified xsi:type="dcterms:W3CDTF">2008-10-16T15:58:54Z</dcterms:modified>
  <cp:revision>2</cp:revision>
  <dc:subject/>
  <dc:title>Slide 1</dc:title>
</cp:coreProperties>
</file>