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201-EE7C-444D-A0BF-3814A379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6F0-0849-4B70-A6B5-56D007DB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E4C-9478-454B-AB49-9A9FE3CF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D8B-BA66-48EB-BCE0-C6E6764F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FDD-D496-45B1-9B00-F2FF26D2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9BC-2E43-4DFA-BA86-B65C6219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5BA-0C9C-44E5-A6F7-D5EF2FC3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D6A9-2BD3-43C1-90A0-D890F5E7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3E2-F0A9-48DA-B950-CDE3B232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A5A-7B0D-4412-BFD6-E0D495E6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CAA-0B62-4AF5-BBB2-33ED5842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3C92-22FE-465F-AD2C-495EF767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6357-9BB2-4420-83E0-4AE367B05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5:55:15Z</dcterms:created>
  <dc:creator>SRO</dc:creator>
  <dc:description/>
  <dc:language>en-US</dc:language>
  <cp:lastModifiedBy>SRO</cp:lastModifiedBy>
  <dcterms:modified xsi:type="dcterms:W3CDTF">2008-10-16T15:58:54Z</dcterms:modified>
  <cp:revision>2</cp:revision>
  <dc:subject/>
  <dc:title>Slide 1</dc:title>
</cp:coreProperties>
</file>