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10FD-EA5A-42EF-9FE8-0B34E1B9D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24920"/>
            <a:ext cx="822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C7E7-33A3-4741-AB2D-0272E4A84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83D7-6D6F-41D2-B7E3-CFF57191F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2492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2492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2492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1D7C-FA4B-4ABE-AEBD-795B7BB3D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BE3F-868B-4A5A-B67B-CDDC14B2A3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D1D6-52CC-4679-AB96-6CFDFF951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9161-9FF1-43BC-8853-14F78B3D2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9A88-A6E9-40BF-9815-A17C6CDEC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0200" y="341280"/>
            <a:ext cx="828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C8F6-E13F-46C5-B5C5-17AA1C633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19E4-F1D9-4C30-8A4E-36AC542C4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6674-4B12-483A-9489-821B56115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822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BEA1-A1B1-4593-BC18-742985B3B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1824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888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EFA2-F1C8-48AB-9883-DB0F68B633CC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45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E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46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AutoShape 2"/>
          <p:cNvSpPr/>
          <p:nvPr/>
        </p:nvSpPr>
        <p:spPr>
          <a:xfrm>
            <a:off x="0" y="333360"/>
            <a:ext cx="6026040" cy="442800"/>
          </a:xfrm>
          <a:custGeom>
            <a:avLst/>
            <a:gdLst>
              <a:gd name="textAreaLeft" fmla="*/ 0 w 6026040"/>
              <a:gd name="textAreaRight" fmla="*/ 6026400 w 60260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3"/>
          <p:cNvSpPr/>
          <p:nvPr/>
        </p:nvSpPr>
        <p:spPr>
          <a:xfrm>
            <a:off x="108000" y="506520"/>
            <a:ext cx="597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CONOMIC REPORT ON AFRICA 2017  |  URBANIZATION AND INDUSTRIALIZATION FOR AFRICA’S TRANSFORM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ouremail@uneca.org?subject=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-63360"/>
            <a:ext cx="9144000" cy="6858000"/>
          </a:xfrm>
          <a:prstGeom prst="rect">
            <a:avLst/>
          </a:prstGeom>
          <a:solidFill>
            <a:srgbClr val="0b5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2887560" y="5956200"/>
            <a:ext cx="6148440" cy="420840"/>
          </a:xfrm>
          <a:custGeom>
            <a:avLst/>
            <a:gdLst>
              <a:gd name="textAreaLeft" fmla="*/ 0 w 6148440"/>
              <a:gd name="textAreaRight" fmla="*/ 6148800 w 61484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1600" h="21600">
                <a:moveTo>
                  <a:pt x="19572" y="0"/>
                </a:moveTo>
                <a:lnTo>
                  <a:pt x="2028" y="0"/>
                </a:lnTo>
                <a:lnTo>
                  <a:pt x="1664" y="172"/>
                </a:lnTo>
                <a:lnTo>
                  <a:pt x="1321" y="669"/>
                </a:lnTo>
                <a:lnTo>
                  <a:pt x="1005" y="1460"/>
                </a:lnTo>
                <a:lnTo>
                  <a:pt x="722" y="2514"/>
                </a:lnTo>
                <a:lnTo>
                  <a:pt x="477" y="3803"/>
                </a:lnTo>
                <a:lnTo>
                  <a:pt x="277" y="5295"/>
                </a:lnTo>
                <a:lnTo>
                  <a:pt x="127" y="6961"/>
                </a:lnTo>
                <a:lnTo>
                  <a:pt x="33" y="8770"/>
                </a:lnTo>
                <a:lnTo>
                  <a:pt x="0" y="10692"/>
                </a:lnTo>
                <a:lnTo>
                  <a:pt x="0" y="10908"/>
                </a:lnTo>
                <a:lnTo>
                  <a:pt x="33" y="12830"/>
                </a:lnTo>
                <a:lnTo>
                  <a:pt x="127" y="14639"/>
                </a:lnTo>
                <a:lnTo>
                  <a:pt x="277" y="16304"/>
                </a:lnTo>
                <a:lnTo>
                  <a:pt x="477" y="17797"/>
                </a:lnTo>
                <a:lnTo>
                  <a:pt x="722" y="19085"/>
                </a:lnTo>
                <a:lnTo>
                  <a:pt x="1005" y="20140"/>
                </a:lnTo>
                <a:lnTo>
                  <a:pt x="1321" y="20931"/>
                </a:lnTo>
                <a:lnTo>
                  <a:pt x="1664" y="21428"/>
                </a:lnTo>
                <a:lnTo>
                  <a:pt x="2028" y="21600"/>
                </a:lnTo>
                <a:lnTo>
                  <a:pt x="19572" y="21600"/>
                </a:lnTo>
                <a:lnTo>
                  <a:pt x="19936" y="21428"/>
                </a:lnTo>
                <a:lnTo>
                  <a:pt x="20279" y="20931"/>
                </a:lnTo>
                <a:lnTo>
                  <a:pt x="20595" y="20140"/>
                </a:lnTo>
                <a:lnTo>
                  <a:pt x="20878" y="19085"/>
                </a:lnTo>
                <a:lnTo>
                  <a:pt x="21123" y="17797"/>
                </a:lnTo>
                <a:lnTo>
                  <a:pt x="21323" y="16304"/>
                </a:lnTo>
                <a:lnTo>
                  <a:pt x="21473" y="14639"/>
                </a:lnTo>
                <a:lnTo>
                  <a:pt x="21567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67" y="8770"/>
                </a:lnTo>
                <a:lnTo>
                  <a:pt x="21473" y="6961"/>
                </a:lnTo>
                <a:lnTo>
                  <a:pt x="21323" y="5295"/>
                </a:lnTo>
                <a:lnTo>
                  <a:pt x="21123" y="3803"/>
                </a:lnTo>
                <a:lnTo>
                  <a:pt x="20878" y="2514"/>
                </a:lnTo>
                <a:lnTo>
                  <a:pt x="20595" y="1460"/>
                </a:lnTo>
                <a:lnTo>
                  <a:pt x="20279" y="669"/>
                </a:lnTo>
                <a:lnTo>
                  <a:pt x="19936" y="172"/>
                </a:lnTo>
                <a:lnTo>
                  <a:pt x="1957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507440" y="284040"/>
            <a:ext cx="57276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0" y="3365640"/>
            <a:ext cx="4114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Lato"/>
              </a:rPr>
              <a:t>Isidore Kahou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Lato"/>
              </a:rPr>
              <a:t>Economist, Office of North Afri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706920" y="5116680"/>
            <a:ext cx="311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362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Lato"/>
              </a:rPr>
              <a:t>3-6 October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87200" indent="362160"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ato"/>
              </a:rPr>
              <a:t>Rabat, Morocc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663480" y="3273480"/>
            <a:ext cx="3730680" cy="511200"/>
          </a:xfrm>
          <a:custGeom>
            <a:avLst/>
            <a:gdLst>
              <a:gd name="textAreaLeft" fmla="*/ 0 w 3730680"/>
              <a:gd name="textAreaRight" fmla="*/ 3731040 w 37306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20155" y="0"/>
                </a:moveTo>
                <a:lnTo>
                  <a:pt x="1445" y="0"/>
                </a:lnTo>
                <a:lnTo>
                  <a:pt x="1185" y="172"/>
                </a:lnTo>
                <a:lnTo>
                  <a:pt x="941" y="669"/>
                </a:lnTo>
                <a:lnTo>
                  <a:pt x="716" y="1460"/>
                </a:lnTo>
                <a:lnTo>
                  <a:pt x="514" y="2514"/>
                </a:lnTo>
                <a:lnTo>
                  <a:pt x="340" y="3803"/>
                </a:lnTo>
                <a:lnTo>
                  <a:pt x="197" y="5295"/>
                </a:lnTo>
                <a:lnTo>
                  <a:pt x="90" y="6961"/>
                </a:lnTo>
                <a:lnTo>
                  <a:pt x="23" y="8770"/>
                </a:lnTo>
                <a:lnTo>
                  <a:pt x="0" y="10692"/>
                </a:lnTo>
                <a:lnTo>
                  <a:pt x="0" y="10908"/>
                </a:lnTo>
                <a:lnTo>
                  <a:pt x="23" y="12830"/>
                </a:lnTo>
                <a:lnTo>
                  <a:pt x="90" y="14639"/>
                </a:lnTo>
                <a:lnTo>
                  <a:pt x="197" y="16304"/>
                </a:lnTo>
                <a:lnTo>
                  <a:pt x="340" y="17797"/>
                </a:lnTo>
                <a:lnTo>
                  <a:pt x="514" y="19085"/>
                </a:lnTo>
                <a:lnTo>
                  <a:pt x="716" y="20140"/>
                </a:lnTo>
                <a:lnTo>
                  <a:pt x="941" y="20931"/>
                </a:lnTo>
                <a:lnTo>
                  <a:pt x="1185" y="21428"/>
                </a:lnTo>
                <a:lnTo>
                  <a:pt x="1445" y="21600"/>
                </a:lnTo>
                <a:lnTo>
                  <a:pt x="20155" y="21600"/>
                </a:lnTo>
                <a:lnTo>
                  <a:pt x="20415" y="21428"/>
                </a:lnTo>
                <a:lnTo>
                  <a:pt x="20659" y="20931"/>
                </a:lnTo>
                <a:lnTo>
                  <a:pt x="20884" y="20140"/>
                </a:lnTo>
                <a:lnTo>
                  <a:pt x="21086" y="19085"/>
                </a:lnTo>
                <a:lnTo>
                  <a:pt x="21260" y="17797"/>
                </a:lnTo>
                <a:lnTo>
                  <a:pt x="21403" y="16304"/>
                </a:lnTo>
                <a:lnTo>
                  <a:pt x="21510" y="14639"/>
                </a:lnTo>
                <a:lnTo>
                  <a:pt x="21577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7" y="8770"/>
                </a:lnTo>
                <a:lnTo>
                  <a:pt x="21510" y="6961"/>
                </a:lnTo>
                <a:lnTo>
                  <a:pt x="21403" y="5295"/>
                </a:lnTo>
                <a:lnTo>
                  <a:pt x="21260" y="3803"/>
                </a:lnTo>
                <a:lnTo>
                  <a:pt x="21086" y="2514"/>
                </a:lnTo>
                <a:lnTo>
                  <a:pt x="20884" y="1460"/>
                </a:lnTo>
                <a:lnTo>
                  <a:pt x="20659" y="669"/>
                </a:lnTo>
                <a:lnTo>
                  <a:pt x="20415" y="172"/>
                </a:lnTo>
                <a:lnTo>
                  <a:pt x="20155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1004760" y="3889440"/>
            <a:ext cx="2692440" cy="51120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19597" y="0"/>
                </a:moveTo>
                <a:lnTo>
                  <a:pt x="2003" y="0"/>
                </a:lnTo>
                <a:lnTo>
                  <a:pt x="1643" y="172"/>
                </a:lnTo>
                <a:lnTo>
                  <a:pt x="1304" y="669"/>
                </a:lnTo>
                <a:lnTo>
                  <a:pt x="992" y="1460"/>
                </a:lnTo>
                <a:lnTo>
                  <a:pt x="713" y="2514"/>
                </a:lnTo>
                <a:lnTo>
                  <a:pt x="471" y="3803"/>
                </a:lnTo>
                <a:lnTo>
                  <a:pt x="274" y="5295"/>
                </a:lnTo>
                <a:lnTo>
                  <a:pt x="125" y="6961"/>
                </a:lnTo>
                <a:lnTo>
                  <a:pt x="32" y="8770"/>
                </a:lnTo>
                <a:lnTo>
                  <a:pt x="0" y="10692"/>
                </a:lnTo>
                <a:lnTo>
                  <a:pt x="0" y="10908"/>
                </a:lnTo>
                <a:lnTo>
                  <a:pt x="32" y="12830"/>
                </a:lnTo>
                <a:lnTo>
                  <a:pt x="125" y="14639"/>
                </a:lnTo>
                <a:lnTo>
                  <a:pt x="274" y="16304"/>
                </a:lnTo>
                <a:lnTo>
                  <a:pt x="471" y="17797"/>
                </a:lnTo>
                <a:lnTo>
                  <a:pt x="713" y="19085"/>
                </a:lnTo>
                <a:lnTo>
                  <a:pt x="992" y="20140"/>
                </a:lnTo>
                <a:lnTo>
                  <a:pt x="1304" y="20931"/>
                </a:lnTo>
                <a:lnTo>
                  <a:pt x="1643" y="21428"/>
                </a:lnTo>
                <a:lnTo>
                  <a:pt x="2003" y="21600"/>
                </a:lnTo>
                <a:lnTo>
                  <a:pt x="19597" y="21600"/>
                </a:lnTo>
                <a:lnTo>
                  <a:pt x="19957" y="21428"/>
                </a:lnTo>
                <a:lnTo>
                  <a:pt x="20296" y="20931"/>
                </a:lnTo>
                <a:lnTo>
                  <a:pt x="20608" y="20140"/>
                </a:lnTo>
                <a:lnTo>
                  <a:pt x="20887" y="19085"/>
                </a:lnTo>
                <a:lnTo>
                  <a:pt x="21129" y="17797"/>
                </a:lnTo>
                <a:lnTo>
                  <a:pt x="21327" y="16304"/>
                </a:lnTo>
                <a:lnTo>
                  <a:pt x="21475" y="14639"/>
                </a:lnTo>
                <a:lnTo>
                  <a:pt x="21568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68" y="8770"/>
                </a:lnTo>
                <a:lnTo>
                  <a:pt x="21475" y="6961"/>
                </a:lnTo>
                <a:lnTo>
                  <a:pt x="21327" y="5295"/>
                </a:lnTo>
                <a:lnTo>
                  <a:pt x="21129" y="3803"/>
                </a:lnTo>
                <a:lnTo>
                  <a:pt x="20887" y="2514"/>
                </a:lnTo>
                <a:lnTo>
                  <a:pt x="20608" y="1460"/>
                </a:lnTo>
                <a:lnTo>
                  <a:pt x="20296" y="669"/>
                </a:lnTo>
                <a:lnTo>
                  <a:pt x="19957" y="172"/>
                </a:lnTo>
                <a:lnTo>
                  <a:pt x="19597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166760" y="4567320"/>
            <a:ext cx="2808360" cy="5094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681" y="0"/>
                </a:moveTo>
                <a:lnTo>
                  <a:pt x="1919" y="0"/>
                </a:lnTo>
                <a:lnTo>
                  <a:pt x="1574" y="172"/>
                </a:lnTo>
                <a:lnTo>
                  <a:pt x="1250" y="669"/>
                </a:lnTo>
                <a:lnTo>
                  <a:pt x="951" y="1460"/>
                </a:lnTo>
                <a:lnTo>
                  <a:pt x="683" y="2514"/>
                </a:lnTo>
                <a:lnTo>
                  <a:pt x="451" y="3803"/>
                </a:lnTo>
                <a:lnTo>
                  <a:pt x="262" y="5295"/>
                </a:lnTo>
                <a:lnTo>
                  <a:pt x="120" y="6961"/>
                </a:lnTo>
                <a:lnTo>
                  <a:pt x="31" y="8770"/>
                </a:lnTo>
                <a:lnTo>
                  <a:pt x="0" y="10692"/>
                </a:lnTo>
                <a:lnTo>
                  <a:pt x="0" y="10908"/>
                </a:lnTo>
                <a:lnTo>
                  <a:pt x="31" y="12830"/>
                </a:lnTo>
                <a:lnTo>
                  <a:pt x="120" y="14639"/>
                </a:lnTo>
                <a:lnTo>
                  <a:pt x="262" y="16304"/>
                </a:lnTo>
                <a:lnTo>
                  <a:pt x="451" y="17797"/>
                </a:lnTo>
                <a:lnTo>
                  <a:pt x="683" y="19085"/>
                </a:lnTo>
                <a:lnTo>
                  <a:pt x="951" y="20140"/>
                </a:lnTo>
                <a:lnTo>
                  <a:pt x="1250" y="20931"/>
                </a:lnTo>
                <a:lnTo>
                  <a:pt x="1574" y="21428"/>
                </a:lnTo>
                <a:lnTo>
                  <a:pt x="1919" y="21600"/>
                </a:lnTo>
                <a:lnTo>
                  <a:pt x="19681" y="21600"/>
                </a:lnTo>
                <a:lnTo>
                  <a:pt x="20026" y="21420"/>
                </a:lnTo>
                <a:lnTo>
                  <a:pt x="20350" y="20904"/>
                </a:lnTo>
                <a:lnTo>
                  <a:pt x="20649" y="20084"/>
                </a:lnTo>
                <a:lnTo>
                  <a:pt x="20917" y="18995"/>
                </a:lnTo>
                <a:lnTo>
                  <a:pt x="21149" y="17671"/>
                </a:lnTo>
                <a:lnTo>
                  <a:pt x="21338" y="16144"/>
                </a:lnTo>
                <a:lnTo>
                  <a:pt x="21480" y="14450"/>
                </a:lnTo>
                <a:lnTo>
                  <a:pt x="21569" y="12621"/>
                </a:lnTo>
                <a:lnTo>
                  <a:pt x="21600" y="10692"/>
                </a:lnTo>
                <a:lnTo>
                  <a:pt x="21569" y="8770"/>
                </a:lnTo>
                <a:lnTo>
                  <a:pt x="21480" y="6961"/>
                </a:lnTo>
                <a:lnTo>
                  <a:pt x="21338" y="5295"/>
                </a:lnTo>
                <a:lnTo>
                  <a:pt x="21149" y="3803"/>
                </a:lnTo>
                <a:lnTo>
                  <a:pt x="20917" y="2514"/>
                </a:lnTo>
                <a:lnTo>
                  <a:pt x="20649" y="1460"/>
                </a:lnTo>
                <a:lnTo>
                  <a:pt x="20350" y="669"/>
                </a:lnTo>
                <a:lnTo>
                  <a:pt x="20026" y="172"/>
                </a:lnTo>
                <a:lnTo>
                  <a:pt x="19681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1166760" y="5253120"/>
            <a:ext cx="2141640" cy="50940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083" y="0"/>
                </a:moveTo>
                <a:lnTo>
                  <a:pt x="2517" y="0"/>
                </a:lnTo>
                <a:lnTo>
                  <a:pt x="2065" y="172"/>
                </a:lnTo>
                <a:lnTo>
                  <a:pt x="1639" y="669"/>
                </a:lnTo>
                <a:lnTo>
                  <a:pt x="1247" y="1460"/>
                </a:lnTo>
                <a:lnTo>
                  <a:pt x="895" y="2514"/>
                </a:lnTo>
                <a:lnTo>
                  <a:pt x="592" y="3803"/>
                </a:lnTo>
                <a:lnTo>
                  <a:pt x="344" y="5295"/>
                </a:lnTo>
                <a:lnTo>
                  <a:pt x="157" y="6961"/>
                </a:lnTo>
                <a:lnTo>
                  <a:pt x="41" y="8770"/>
                </a:lnTo>
                <a:lnTo>
                  <a:pt x="0" y="10692"/>
                </a:lnTo>
                <a:lnTo>
                  <a:pt x="0" y="10908"/>
                </a:lnTo>
                <a:lnTo>
                  <a:pt x="41" y="12830"/>
                </a:lnTo>
                <a:lnTo>
                  <a:pt x="157" y="14639"/>
                </a:lnTo>
                <a:lnTo>
                  <a:pt x="344" y="16304"/>
                </a:lnTo>
                <a:lnTo>
                  <a:pt x="592" y="17797"/>
                </a:lnTo>
                <a:lnTo>
                  <a:pt x="895" y="19085"/>
                </a:lnTo>
                <a:lnTo>
                  <a:pt x="1247" y="20140"/>
                </a:lnTo>
                <a:lnTo>
                  <a:pt x="1639" y="20931"/>
                </a:lnTo>
                <a:lnTo>
                  <a:pt x="2065" y="21428"/>
                </a:lnTo>
                <a:lnTo>
                  <a:pt x="2517" y="21600"/>
                </a:lnTo>
                <a:lnTo>
                  <a:pt x="19083" y="21600"/>
                </a:lnTo>
                <a:lnTo>
                  <a:pt x="19535" y="21428"/>
                </a:lnTo>
                <a:lnTo>
                  <a:pt x="19961" y="20931"/>
                </a:lnTo>
                <a:lnTo>
                  <a:pt x="20353" y="20140"/>
                </a:lnTo>
                <a:lnTo>
                  <a:pt x="20705" y="19085"/>
                </a:lnTo>
                <a:lnTo>
                  <a:pt x="21008" y="17797"/>
                </a:lnTo>
                <a:lnTo>
                  <a:pt x="21256" y="16304"/>
                </a:lnTo>
                <a:lnTo>
                  <a:pt x="21443" y="14639"/>
                </a:lnTo>
                <a:lnTo>
                  <a:pt x="21559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59" y="8770"/>
                </a:lnTo>
                <a:lnTo>
                  <a:pt x="21443" y="6961"/>
                </a:lnTo>
                <a:lnTo>
                  <a:pt x="21256" y="5295"/>
                </a:lnTo>
                <a:lnTo>
                  <a:pt x="21008" y="3803"/>
                </a:lnTo>
                <a:lnTo>
                  <a:pt x="20705" y="2514"/>
                </a:lnTo>
                <a:lnTo>
                  <a:pt x="20353" y="1460"/>
                </a:lnTo>
                <a:lnTo>
                  <a:pt x="19961" y="669"/>
                </a:lnTo>
                <a:lnTo>
                  <a:pt x="19535" y="172"/>
                </a:lnTo>
                <a:lnTo>
                  <a:pt x="1908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411200" y="5923080"/>
            <a:ext cx="1476360" cy="51120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17948" y="0"/>
                </a:moveTo>
                <a:lnTo>
                  <a:pt x="3652" y="0"/>
                </a:lnTo>
                <a:lnTo>
                  <a:pt x="2996" y="172"/>
                </a:lnTo>
                <a:lnTo>
                  <a:pt x="2378" y="669"/>
                </a:lnTo>
                <a:lnTo>
                  <a:pt x="1809" y="1460"/>
                </a:lnTo>
                <a:lnTo>
                  <a:pt x="1299" y="2514"/>
                </a:lnTo>
                <a:lnTo>
                  <a:pt x="859" y="3803"/>
                </a:lnTo>
                <a:lnTo>
                  <a:pt x="499" y="5295"/>
                </a:lnTo>
                <a:lnTo>
                  <a:pt x="228" y="6961"/>
                </a:lnTo>
                <a:lnTo>
                  <a:pt x="59" y="8770"/>
                </a:lnTo>
                <a:lnTo>
                  <a:pt x="0" y="10692"/>
                </a:lnTo>
                <a:lnTo>
                  <a:pt x="0" y="10908"/>
                </a:lnTo>
                <a:lnTo>
                  <a:pt x="59" y="12830"/>
                </a:lnTo>
                <a:lnTo>
                  <a:pt x="228" y="14639"/>
                </a:lnTo>
                <a:lnTo>
                  <a:pt x="499" y="16304"/>
                </a:lnTo>
                <a:lnTo>
                  <a:pt x="859" y="17797"/>
                </a:lnTo>
                <a:lnTo>
                  <a:pt x="1299" y="19085"/>
                </a:lnTo>
                <a:lnTo>
                  <a:pt x="1809" y="20140"/>
                </a:lnTo>
                <a:lnTo>
                  <a:pt x="2378" y="20931"/>
                </a:lnTo>
                <a:lnTo>
                  <a:pt x="2996" y="21428"/>
                </a:lnTo>
                <a:lnTo>
                  <a:pt x="3652" y="21600"/>
                </a:lnTo>
                <a:lnTo>
                  <a:pt x="17948" y="21600"/>
                </a:lnTo>
                <a:lnTo>
                  <a:pt x="18605" y="21428"/>
                </a:lnTo>
                <a:lnTo>
                  <a:pt x="19222" y="20931"/>
                </a:lnTo>
                <a:lnTo>
                  <a:pt x="19791" y="20140"/>
                </a:lnTo>
                <a:lnTo>
                  <a:pt x="20301" y="19085"/>
                </a:lnTo>
                <a:lnTo>
                  <a:pt x="20741" y="17797"/>
                </a:lnTo>
                <a:lnTo>
                  <a:pt x="21101" y="16304"/>
                </a:lnTo>
                <a:lnTo>
                  <a:pt x="21372" y="14639"/>
                </a:lnTo>
                <a:lnTo>
                  <a:pt x="21541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41" y="8770"/>
                </a:lnTo>
                <a:lnTo>
                  <a:pt x="21372" y="6961"/>
                </a:lnTo>
                <a:lnTo>
                  <a:pt x="21101" y="5295"/>
                </a:lnTo>
                <a:lnTo>
                  <a:pt x="20741" y="3803"/>
                </a:lnTo>
                <a:lnTo>
                  <a:pt x="20301" y="2514"/>
                </a:lnTo>
                <a:lnTo>
                  <a:pt x="19791" y="1460"/>
                </a:lnTo>
                <a:lnTo>
                  <a:pt x="19222" y="669"/>
                </a:lnTo>
                <a:lnTo>
                  <a:pt x="18605" y="172"/>
                </a:lnTo>
                <a:lnTo>
                  <a:pt x="17948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1004760" cy="49680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17873" y="0"/>
                </a:moveTo>
                <a:lnTo>
                  <a:pt x="0" y="0"/>
                </a:lnTo>
                <a:lnTo>
                  <a:pt x="0" y="21600"/>
                </a:lnTo>
                <a:lnTo>
                  <a:pt x="16243" y="21600"/>
                </a:lnTo>
                <a:lnTo>
                  <a:pt x="17206" y="21423"/>
                </a:lnTo>
                <a:lnTo>
                  <a:pt x="18112" y="20914"/>
                </a:lnTo>
                <a:lnTo>
                  <a:pt x="18947" y="20103"/>
                </a:lnTo>
                <a:lnTo>
                  <a:pt x="19694" y="19021"/>
                </a:lnTo>
                <a:lnTo>
                  <a:pt x="20340" y="17700"/>
                </a:lnTo>
                <a:lnTo>
                  <a:pt x="20869" y="16169"/>
                </a:lnTo>
                <a:lnTo>
                  <a:pt x="21265" y="14461"/>
                </a:lnTo>
                <a:lnTo>
                  <a:pt x="21514" y="12606"/>
                </a:lnTo>
                <a:lnTo>
                  <a:pt x="21600" y="10635"/>
                </a:lnTo>
                <a:lnTo>
                  <a:pt x="21600" y="10413"/>
                </a:lnTo>
                <a:lnTo>
                  <a:pt x="21514" y="8442"/>
                </a:lnTo>
                <a:lnTo>
                  <a:pt x="21265" y="6587"/>
                </a:lnTo>
                <a:lnTo>
                  <a:pt x="20869" y="4879"/>
                </a:lnTo>
                <a:lnTo>
                  <a:pt x="20340" y="3349"/>
                </a:lnTo>
                <a:lnTo>
                  <a:pt x="19694" y="2027"/>
                </a:lnTo>
                <a:lnTo>
                  <a:pt x="18947" y="945"/>
                </a:lnTo>
                <a:lnTo>
                  <a:pt x="18112" y="134"/>
                </a:lnTo>
                <a:lnTo>
                  <a:pt x="1787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1519200" y="6546960"/>
            <a:ext cx="790560" cy="309600"/>
          </a:xfrm>
          <a:custGeom>
            <a:avLst/>
            <a:gdLst>
              <a:gd name="textAreaLeft" fmla="*/ 0 w 790560"/>
              <a:gd name="textAreaRight" fmla="*/ 790920 w 7905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1600" h="21600">
                <a:moveTo>
                  <a:pt x="14782" y="0"/>
                </a:moveTo>
                <a:lnTo>
                  <a:pt x="6817" y="0"/>
                </a:lnTo>
                <a:lnTo>
                  <a:pt x="5592" y="283"/>
                </a:lnTo>
                <a:lnTo>
                  <a:pt x="4439" y="1100"/>
                </a:lnTo>
                <a:lnTo>
                  <a:pt x="3377" y="2401"/>
                </a:lnTo>
                <a:lnTo>
                  <a:pt x="2425" y="4137"/>
                </a:lnTo>
                <a:lnTo>
                  <a:pt x="1603" y="6257"/>
                </a:lnTo>
                <a:lnTo>
                  <a:pt x="931" y="8712"/>
                </a:lnTo>
                <a:lnTo>
                  <a:pt x="426" y="11452"/>
                </a:lnTo>
                <a:lnTo>
                  <a:pt x="110" y="14428"/>
                </a:lnTo>
                <a:lnTo>
                  <a:pt x="0" y="17590"/>
                </a:lnTo>
                <a:lnTo>
                  <a:pt x="0" y="17946"/>
                </a:lnTo>
                <a:lnTo>
                  <a:pt x="110" y="21108"/>
                </a:lnTo>
                <a:lnTo>
                  <a:pt x="162" y="21600"/>
                </a:lnTo>
                <a:lnTo>
                  <a:pt x="21438" y="21600"/>
                </a:lnTo>
                <a:lnTo>
                  <a:pt x="21490" y="21108"/>
                </a:lnTo>
                <a:lnTo>
                  <a:pt x="21600" y="17946"/>
                </a:lnTo>
                <a:lnTo>
                  <a:pt x="21600" y="17590"/>
                </a:lnTo>
                <a:lnTo>
                  <a:pt x="21490" y="14428"/>
                </a:lnTo>
                <a:lnTo>
                  <a:pt x="21173" y="11452"/>
                </a:lnTo>
                <a:lnTo>
                  <a:pt x="20669" y="8712"/>
                </a:lnTo>
                <a:lnTo>
                  <a:pt x="19997" y="6257"/>
                </a:lnTo>
                <a:lnTo>
                  <a:pt x="19175" y="4137"/>
                </a:lnTo>
                <a:lnTo>
                  <a:pt x="18223" y="2401"/>
                </a:lnTo>
                <a:lnTo>
                  <a:pt x="17161" y="1100"/>
                </a:lnTo>
                <a:lnTo>
                  <a:pt x="16008" y="283"/>
                </a:lnTo>
                <a:lnTo>
                  <a:pt x="1478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573120"/>
            <a:ext cx="1536840" cy="50940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8093" y="0"/>
                </a:moveTo>
                <a:lnTo>
                  <a:pt x="0" y="0"/>
                </a:lnTo>
                <a:lnTo>
                  <a:pt x="0" y="21600"/>
                </a:lnTo>
                <a:lnTo>
                  <a:pt x="18093" y="21600"/>
                </a:lnTo>
                <a:lnTo>
                  <a:pt x="18724" y="21428"/>
                </a:lnTo>
                <a:lnTo>
                  <a:pt x="19317" y="20931"/>
                </a:lnTo>
                <a:lnTo>
                  <a:pt x="19863" y="20140"/>
                </a:lnTo>
                <a:lnTo>
                  <a:pt x="20353" y="19085"/>
                </a:lnTo>
                <a:lnTo>
                  <a:pt x="20775" y="17797"/>
                </a:lnTo>
                <a:lnTo>
                  <a:pt x="21121" y="16304"/>
                </a:lnTo>
                <a:lnTo>
                  <a:pt x="21381" y="14639"/>
                </a:lnTo>
                <a:lnTo>
                  <a:pt x="21544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44" y="8770"/>
                </a:lnTo>
                <a:lnTo>
                  <a:pt x="21381" y="6961"/>
                </a:lnTo>
                <a:lnTo>
                  <a:pt x="21121" y="5295"/>
                </a:lnTo>
                <a:lnTo>
                  <a:pt x="20775" y="3803"/>
                </a:lnTo>
                <a:lnTo>
                  <a:pt x="20353" y="2514"/>
                </a:lnTo>
                <a:lnTo>
                  <a:pt x="19863" y="1460"/>
                </a:lnTo>
                <a:lnTo>
                  <a:pt x="19317" y="669"/>
                </a:lnTo>
                <a:lnTo>
                  <a:pt x="18724" y="172"/>
                </a:lnTo>
                <a:lnTo>
                  <a:pt x="1809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1238400"/>
            <a:ext cx="3067200" cy="509400"/>
          </a:xfrm>
          <a:custGeom>
            <a:avLst/>
            <a:gdLst>
              <a:gd name="textAreaLeft" fmla="*/ 0 w 3067200"/>
              <a:gd name="textAreaRight" fmla="*/ 3067560 w 306720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842" y="0"/>
                </a:moveTo>
                <a:lnTo>
                  <a:pt x="0" y="0"/>
                </a:lnTo>
                <a:lnTo>
                  <a:pt x="0" y="21600"/>
                </a:lnTo>
                <a:lnTo>
                  <a:pt x="19842" y="21600"/>
                </a:lnTo>
                <a:lnTo>
                  <a:pt x="20158" y="21428"/>
                </a:lnTo>
                <a:lnTo>
                  <a:pt x="20456" y="20931"/>
                </a:lnTo>
                <a:lnTo>
                  <a:pt x="20729" y="20140"/>
                </a:lnTo>
                <a:lnTo>
                  <a:pt x="20975" y="19085"/>
                </a:lnTo>
                <a:lnTo>
                  <a:pt x="21187" y="17797"/>
                </a:lnTo>
                <a:lnTo>
                  <a:pt x="21360" y="16304"/>
                </a:lnTo>
                <a:lnTo>
                  <a:pt x="21490" y="14639"/>
                </a:lnTo>
                <a:lnTo>
                  <a:pt x="21572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2" y="8770"/>
                </a:lnTo>
                <a:lnTo>
                  <a:pt x="21490" y="6961"/>
                </a:lnTo>
                <a:lnTo>
                  <a:pt x="21360" y="5295"/>
                </a:lnTo>
                <a:lnTo>
                  <a:pt x="21187" y="3803"/>
                </a:lnTo>
                <a:lnTo>
                  <a:pt x="20975" y="2514"/>
                </a:lnTo>
                <a:lnTo>
                  <a:pt x="20729" y="1460"/>
                </a:lnTo>
                <a:lnTo>
                  <a:pt x="20456" y="669"/>
                </a:lnTo>
                <a:lnTo>
                  <a:pt x="20158" y="172"/>
                </a:lnTo>
                <a:lnTo>
                  <a:pt x="1984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1916280"/>
            <a:ext cx="3432240" cy="509400"/>
          </a:xfrm>
          <a:custGeom>
            <a:avLst/>
            <a:gdLst>
              <a:gd name="textAreaLeft" fmla="*/ 0 w 3432240"/>
              <a:gd name="textAreaRight" fmla="*/ 3432600 w 34322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20030" y="0"/>
                </a:moveTo>
                <a:lnTo>
                  <a:pt x="0" y="0"/>
                </a:lnTo>
                <a:lnTo>
                  <a:pt x="0" y="21600"/>
                </a:lnTo>
                <a:lnTo>
                  <a:pt x="20030" y="21600"/>
                </a:lnTo>
                <a:lnTo>
                  <a:pt x="20312" y="21428"/>
                </a:lnTo>
                <a:lnTo>
                  <a:pt x="20578" y="20931"/>
                </a:lnTo>
                <a:lnTo>
                  <a:pt x="20822" y="20140"/>
                </a:lnTo>
                <a:lnTo>
                  <a:pt x="21041" y="19085"/>
                </a:lnTo>
                <a:lnTo>
                  <a:pt x="21231" y="17797"/>
                </a:lnTo>
                <a:lnTo>
                  <a:pt x="21386" y="16304"/>
                </a:lnTo>
                <a:lnTo>
                  <a:pt x="21502" y="14639"/>
                </a:lnTo>
                <a:lnTo>
                  <a:pt x="21575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5" y="8770"/>
                </a:lnTo>
                <a:lnTo>
                  <a:pt x="21502" y="6961"/>
                </a:lnTo>
                <a:lnTo>
                  <a:pt x="21386" y="5295"/>
                </a:lnTo>
                <a:lnTo>
                  <a:pt x="21231" y="3803"/>
                </a:lnTo>
                <a:lnTo>
                  <a:pt x="21041" y="2514"/>
                </a:lnTo>
                <a:lnTo>
                  <a:pt x="20822" y="1460"/>
                </a:lnTo>
                <a:lnTo>
                  <a:pt x="20578" y="669"/>
                </a:lnTo>
                <a:lnTo>
                  <a:pt x="20312" y="172"/>
                </a:lnTo>
                <a:lnTo>
                  <a:pt x="20030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2600280"/>
            <a:ext cx="4619520" cy="511200"/>
          </a:xfrm>
          <a:custGeom>
            <a:avLst/>
            <a:gdLst>
              <a:gd name="textAreaLeft" fmla="*/ 0 w 4619520"/>
              <a:gd name="textAreaRight" fmla="*/ 4619880 w 4619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20598" y="0"/>
                </a:moveTo>
                <a:lnTo>
                  <a:pt x="0" y="0"/>
                </a:lnTo>
                <a:lnTo>
                  <a:pt x="0" y="21600"/>
                </a:lnTo>
                <a:lnTo>
                  <a:pt x="20433" y="21600"/>
                </a:lnTo>
                <a:lnTo>
                  <a:pt x="20643" y="21428"/>
                </a:lnTo>
                <a:lnTo>
                  <a:pt x="20840" y="20931"/>
                </a:lnTo>
                <a:lnTo>
                  <a:pt x="21022" y="20140"/>
                </a:lnTo>
                <a:lnTo>
                  <a:pt x="21185" y="19085"/>
                </a:lnTo>
                <a:lnTo>
                  <a:pt x="21326" y="17797"/>
                </a:lnTo>
                <a:lnTo>
                  <a:pt x="21441" y="16304"/>
                </a:lnTo>
                <a:lnTo>
                  <a:pt x="21527" y="14639"/>
                </a:lnTo>
                <a:lnTo>
                  <a:pt x="21581" y="12830"/>
                </a:lnTo>
                <a:lnTo>
                  <a:pt x="21600" y="10908"/>
                </a:lnTo>
                <a:lnTo>
                  <a:pt x="21600" y="9184"/>
                </a:lnTo>
                <a:lnTo>
                  <a:pt x="21574" y="7078"/>
                </a:lnTo>
                <a:lnTo>
                  <a:pt x="21498" y="5145"/>
                </a:lnTo>
                <a:lnTo>
                  <a:pt x="21380" y="3440"/>
                </a:lnTo>
                <a:lnTo>
                  <a:pt x="21225" y="2018"/>
                </a:lnTo>
                <a:lnTo>
                  <a:pt x="21039" y="933"/>
                </a:lnTo>
                <a:lnTo>
                  <a:pt x="20828" y="243"/>
                </a:lnTo>
                <a:lnTo>
                  <a:pt x="20598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887560" y="5956200"/>
            <a:ext cx="61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2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Meeting of the Intergovernmental Committee of Expert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Marcador de Posição do Número do Diapositivo 20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4DB1-A20C-4D66-8004-D9E21F421050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40000" y="1015920"/>
            <a:ext cx="489564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ato"/>
              </a:rPr>
              <a:t>PRPOSED WORK PROGRAMM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ato"/>
              </a:rPr>
              <a:t>2018-2019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15840" y="6213600"/>
            <a:ext cx="7016760" cy="4428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0520" y="6308640"/>
            <a:ext cx="722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)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0" y="239760"/>
            <a:ext cx="579600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7066080" y="6199200"/>
            <a:ext cx="1508040" cy="441360"/>
          </a:xfrm>
          <a:custGeom>
            <a:avLst/>
            <a:gdLst>
              <a:gd name="textAreaLeft" fmla="*/ 0 w 1508040"/>
              <a:gd name="textAreaRight" fmla="*/ 1508400 w 15080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291440" y="635148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79280" y="338040"/>
            <a:ext cx="54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925560" y="1341360"/>
            <a:ext cx="67406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xt/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c Fram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Work Programme 2018-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42E2-8323-4F52-91C7-F6DA124494C7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5840" y="6213600"/>
            <a:ext cx="7016760" cy="4428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0520" y="6308640"/>
            <a:ext cx="722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)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0" y="239760"/>
            <a:ext cx="579600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7066080" y="6199200"/>
            <a:ext cx="1508040" cy="441360"/>
          </a:xfrm>
          <a:custGeom>
            <a:avLst/>
            <a:gdLst>
              <a:gd name="textAreaLeft" fmla="*/ 0 w 1508040"/>
              <a:gd name="textAreaRight" fmla="*/ 1508400 w 15080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7342200" y="631656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179280" y="338040"/>
            <a:ext cx="54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Context/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15840" y="808200"/>
            <a:ext cx="880416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verall purpose of the biennial programme plan is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mote inclusive and sustainable economic and social development in support of accelerating the structural transformation of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psed WP focus on internationally and regionally agreed development goals, such a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iorities and vision articulated in the Agenda 2063: The Africa We W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w Partnership for Africa’s Development (NEPAD) programme of the African Un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F6F7-C037-45CC-8276-44888DE31A5A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840" y="6213600"/>
            <a:ext cx="7016760" cy="4428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0520" y="6308640"/>
            <a:ext cx="722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)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239760"/>
            <a:ext cx="579600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7164360" y="6199200"/>
            <a:ext cx="1409760" cy="44136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378560" y="6338880"/>
            <a:ext cx="90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338040"/>
            <a:ext cx="54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Context/Objectives (Continued</a:t>
            </a: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50920" y="1484280"/>
            <a:ext cx="87138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2030 Agenda for Sustainable Develop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ddis Ababa Action Agenda of the Third International Conference on Financing for Develop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utcomes of other major United Nations conferences and international agreement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ncluded since 199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25E7-481B-4A74-9A4D-B1C1252F7F20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5840" y="6213600"/>
            <a:ext cx="6921360" cy="442800"/>
          </a:xfrm>
          <a:custGeom>
            <a:avLst/>
            <a:gdLst>
              <a:gd name="textAreaLeft" fmla="*/ 0 w 6921360"/>
              <a:gd name="textAreaRight" fmla="*/ 6921720 w 69213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0520" y="6308640"/>
            <a:ext cx="702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)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0" y="239760"/>
            <a:ext cx="579600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7080120" y="6199200"/>
            <a:ext cx="1494000" cy="44136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7296120" y="633888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79280" y="338040"/>
            <a:ext cx="547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Lato"/>
              </a:rPr>
              <a:t>Strategic Fram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179280" y="884160"/>
            <a:ext cx="748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rategic framework developed is to support Agenda 2063 and its first 10 years implementation plan, the 2030 Agend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verall goals of the sub regional proposed WP will be boosting intra-African cooperation and tr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epening regional integration in North Afr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engthening capacity of Member States  to ensure coherence, consistency and coordination across the development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engthening the statis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D12-C19A-40A1-8BFD-6BDC5C679038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15840" y="6143760"/>
            <a:ext cx="7007400" cy="442800"/>
          </a:xfrm>
          <a:custGeom>
            <a:avLst/>
            <a:gdLst>
              <a:gd name="textAreaLeft" fmla="*/ 0 w 7007400"/>
              <a:gd name="textAreaRight" fmla="*/ 7007760 w 70074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9840" y="6318360"/>
            <a:ext cx="696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3960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0" y="290520"/>
            <a:ext cx="5867280" cy="546120"/>
          </a:xfrm>
          <a:custGeom>
            <a:avLst/>
            <a:gdLst>
              <a:gd name="textAreaLeft" fmla="*/ 0 w 5867280"/>
              <a:gd name="textAreaRight" fmla="*/ 5867640 w 586728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093080" y="6122880"/>
            <a:ext cx="1407960" cy="441360"/>
          </a:xfrm>
          <a:custGeom>
            <a:avLst/>
            <a:gdLst>
              <a:gd name="textAreaLeft" fmla="*/ 0 w 1407960"/>
              <a:gd name="textAreaRight" fmla="*/ 1408320 w 14079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51840" y="6272280"/>
            <a:ext cx="119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79360" y="338040"/>
            <a:ext cx="544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Proposed Work Programme 2018-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611280" y="884160"/>
            <a:ext cx="79596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Intergovernmental Committee of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d-hoc Expert Group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ata revolution in North Africa: putting data in support of structural trans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Institutional quality and structural trans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epening regional integration in North Africa through electronic exchange of custom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limate risk management: status and best practices in North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North African Development Foru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sultative meetings in support to RCM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6F23-81B8-400D-A1C4-F53F9CFD9DCC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6135840"/>
            <a:ext cx="7005600" cy="442800"/>
          </a:xfrm>
          <a:custGeom>
            <a:avLst/>
            <a:gdLst>
              <a:gd name="textAreaLeft" fmla="*/ 0 w 7005600"/>
              <a:gd name="textAreaRight" fmla="*/ 7005960 w 70056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08000" y="6308640"/>
            <a:ext cx="701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0" y="3960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0" y="290520"/>
            <a:ext cx="5867280" cy="5461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90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ato"/>
              </a:rPr>
              <a:t>Proposed Work Programme 2018-2019 (Continu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174080" y="6135840"/>
            <a:ext cx="1292040" cy="441000"/>
          </a:xfrm>
          <a:custGeom>
            <a:avLst/>
            <a:gdLst>
              <a:gd name="textAreaLeft" fmla="*/ 0 w 1292040"/>
              <a:gd name="textAreaRight" fmla="*/ 1292400 w 12920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7299360" y="628164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925560" y="1341360"/>
            <a:ext cx="74628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ations and other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ntry profiles/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ional and international agendas and other special initiatives in the sub-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ual report on the work of ECA in NA, including the status of implementation of the multi-year program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GM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898E-474B-40F5-B8A6-6AE45D9C5AFF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6135840"/>
            <a:ext cx="7107120" cy="442800"/>
          </a:xfrm>
          <a:custGeom>
            <a:avLst/>
            <a:gdLst>
              <a:gd name="textAreaLeft" fmla="*/ 0 w 7107120"/>
              <a:gd name="textAreaRight" fmla="*/ 7107480 w 71071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8000" y="6308640"/>
            <a:ext cx="695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0" y="3960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0" y="290520"/>
            <a:ext cx="5867280" cy="5461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Implement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221600" y="6135840"/>
            <a:ext cx="1311120" cy="441000"/>
          </a:xfrm>
          <a:custGeom>
            <a:avLst/>
            <a:gdLst>
              <a:gd name="textAreaLeft" fmla="*/ 0 w 1311120"/>
              <a:gd name="textAreaRight" fmla="*/ 1311120 w 131112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7342200" y="626112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539640" y="934920"/>
            <a:ext cx="7848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 closely wi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S and NOS to collect, compile and use quality, comparable and harmonized statistics pertaining to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POQD for additional resources mobilization and high monitoring and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UN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Private sector, universities and civil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 adequate support to MS in the subregion in their efforts to improve their statistical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assistance to UMA to implement the roadmap for a more integrated Maghr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087C-9417-4909-B1CE-BECDAF386BC2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6360" y="-222120"/>
            <a:ext cx="9144000" cy="6845040"/>
          </a:xfrm>
          <a:prstGeom prst="rect">
            <a:avLst/>
          </a:prstGeom>
          <a:solidFill>
            <a:srgbClr val="065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360520" y="4294080"/>
            <a:ext cx="442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Lato"/>
              </a:rPr>
              <a:t>MERCI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231040" y="18432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616880" y="171360"/>
            <a:ext cx="573120" cy="479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3924360" y="6135840"/>
            <a:ext cx="1511280" cy="441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d7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217600" y="5477040"/>
            <a:ext cx="5450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ato"/>
              </a:rPr>
              <a:t>Plus d’info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Lato"/>
              </a:rPr>
              <a:t>ikahoui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Lato"/>
                <a:hlinkClick r:id="rId2"/>
              </a:rPr>
              <a:t>@uneca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140360" y="6261120"/>
            <a:ext cx="107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8" descr="pasted-image.pdf"/>
          <p:cNvPicPr/>
          <p:nvPr/>
        </p:nvPicPr>
        <p:blipFill>
          <a:blip r:embed="rId3"/>
          <a:stretch/>
        </p:blipFill>
        <p:spPr>
          <a:xfrm>
            <a:off x="3289320" y="1171440"/>
            <a:ext cx="2563920" cy="2664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pasted-image.pdf"/>
          <p:cNvPicPr/>
          <p:nvPr/>
        </p:nvPicPr>
        <p:blipFill>
          <a:blip r:embed="rId4"/>
          <a:stretch/>
        </p:blipFill>
        <p:spPr>
          <a:xfrm>
            <a:off x="3517920" y="2174760"/>
            <a:ext cx="2106720" cy="91152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85CB-C29D-4125-8C1F-5F6641DC8F79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pestone Chavula</dc:creator>
  <dc:description/>
  <dc:language>en-US</dc:language>
  <cp:lastModifiedBy>Isidore Kahoui</cp:lastModifiedBy>
  <dcterms:modified xsi:type="dcterms:W3CDTF">2017-09-29T15:16:34Z</dcterms:modified>
  <cp:revision>139</cp:revision>
  <dc:subject/>
  <dc:title>TITLE OF THE  PRESENTATION</dc:title>
</cp:coreProperties>
</file>