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FB855-1888-4BAC-9A4D-2D6F2F39DE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30200" y="341280"/>
            <a:ext cx="82821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724920"/>
            <a:ext cx="822960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2D5A5-CB05-4FE5-9E98-C052126FF3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30200" y="341280"/>
            <a:ext cx="82821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24920"/>
            <a:ext cx="401580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724920"/>
            <a:ext cx="401580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4DDDE-7895-479B-9257-28FD0C0CEC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30200" y="341280"/>
            <a:ext cx="82821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724920"/>
            <a:ext cx="264960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724920"/>
            <a:ext cx="264960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724920"/>
            <a:ext cx="264960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71E5B-2240-428C-AD4F-C07DAE1DE5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0200" y="341280"/>
            <a:ext cx="82821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C3294-598A-4286-BD3C-2BE97B75D3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0200" y="341280"/>
            <a:ext cx="82821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5CE1B-63B6-4E37-9E56-53D357D314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30200" y="341280"/>
            <a:ext cx="82821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AD820-A9F6-44AE-9A0F-2CB50C9B13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0200" y="341280"/>
            <a:ext cx="82821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3451C-769B-499F-8278-EFE62BACF9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30200" y="341280"/>
            <a:ext cx="8282160" cy="262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DE945-50ED-482F-A389-E3718A15FD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0200" y="341280"/>
            <a:ext cx="82821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724920"/>
            <a:ext cx="401580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96202-723F-492E-B796-9A0A63C4F0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30200" y="341280"/>
            <a:ext cx="82821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724920"/>
            <a:ext cx="401580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CF03B-FBA0-4DEA-AD77-8C4FDB99E7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30200" y="341280"/>
            <a:ext cx="82821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724920"/>
            <a:ext cx="822960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F7371-82D1-41D4-A7EB-E8E1E512F0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30200" y="341280"/>
            <a:ext cx="82821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18240" y="6377040"/>
            <a:ext cx="268200" cy="2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8888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D0B8A-4150-4250-8DBC-91F2070025F6}" type="slidenum">
              <a:rPr b="0" lang="en-US" sz="1800" spc="-1" strike="noStrike">
                <a:solidFill>
                  <a:srgbClr val="888888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Rectangle 45"/>
          <p:cNvSpPr/>
          <p:nvPr/>
        </p:nvSpPr>
        <p:spPr>
          <a:xfrm>
            <a:off x="8123400" y="297000"/>
            <a:ext cx="755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385c1"/>
                </a:solidFill>
                <a:latin typeface="Times New Roman"/>
                <a:ea typeface="Times New Roman"/>
              </a:rPr>
              <a:t>EC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Rectangle 46"/>
          <p:cNvSpPr/>
          <p:nvPr/>
        </p:nvSpPr>
        <p:spPr>
          <a:xfrm>
            <a:off x="7508880" y="284040"/>
            <a:ext cx="573120" cy="47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AutoShape 2"/>
          <p:cNvSpPr/>
          <p:nvPr/>
        </p:nvSpPr>
        <p:spPr>
          <a:xfrm>
            <a:off x="0" y="333360"/>
            <a:ext cx="6026040" cy="442800"/>
          </a:xfrm>
          <a:custGeom>
            <a:avLst/>
            <a:gdLst>
              <a:gd name="textAreaLeft" fmla="*/ 0 w 6026040"/>
              <a:gd name="textAreaRight" fmla="*/ 6026400 w 602604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21600" h="21600">
                <a:moveTo>
                  <a:pt x="20929" y="0"/>
                </a:moveTo>
                <a:lnTo>
                  <a:pt x="0" y="0"/>
                </a:lnTo>
                <a:lnTo>
                  <a:pt x="0" y="21600"/>
                </a:lnTo>
                <a:lnTo>
                  <a:pt x="20929" y="21600"/>
                </a:lnTo>
                <a:lnTo>
                  <a:pt x="21107" y="21274"/>
                </a:lnTo>
                <a:lnTo>
                  <a:pt x="21268" y="20353"/>
                </a:lnTo>
                <a:lnTo>
                  <a:pt x="21404" y="18924"/>
                </a:lnTo>
                <a:lnTo>
                  <a:pt x="21508" y="17076"/>
                </a:lnTo>
                <a:lnTo>
                  <a:pt x="21576" y="14893"/>
                </a:lnTo>
                <a:lnTo>
                  <a:pt x="21600" y="12465"/>
                </a:lnTo>
                <a:lnTo>
                  <a:pt x="21600" y="9135"/>
                </a:lnTo>
                <a:lnTo>
                  <a:pt x="21576" y="6707"/>
                </a:lnTo>
                <a:lnTo>
                  <a:pt x="21508" y="4524"/>
                </a:lnTo>
                <a:lnTo>
                  <a:pt x="21404" y="2676"/>
                </a:lnTo>
                <a:lnTo>
                  <a:pt x="21268" y="1247"/>
                </a:lnTo>
                <a:lnTo>
                  <a:pt x="21107" y="326"/>
                </a:lnTo>
                <a:lnTo>
                  <a:pt x="20929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Rectangle 3"/>
          <p:cNvSpPr/>
          <p:nvPr/>
        </p:nvSpPr>
        <p:spPr>
          <a:xfrm>
            <a:off x="108000" y="506520"/>
            <a:ext cx="5972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ECONOMIC REPORT ON AFRICA 2017  |  URBANIZATION AND INDUSTRIALIZATION FOR AFRICA’S TRANSFORMATIO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mailto:ouremail@uneca.org?subject=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0" y="-63360"/>
            <a:ext cx="9144000" cy="6858000"/>
          </a:xfrm>
          <a:prstGeom prst="rect">
            <a:avLst/>
          </a:prstGeom>
          <a:solidFill>
            <a:srgbClr val="0b57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AutoShape 2"/>
          <p:cNvSpPr/>
          <p:nvPr/>
        </p:nvSpPr>
        <p:spPr>
          <a:xfrm>
            <a:off x="2887560" y="5956200"/>
            <a:ext cx="6148440" cy="420840"/>
          </a:xfrm>
          <a:custGeom>
            <a:avLst/>
            <a:gdLst>
              <a:gd name="textAreaLeft" fmla="*/ 0 w 6148440"/>
              <a:gd name="textAreaRight" fmla="*/ 6148800 w 6148440"/>
              <a:gd name="textAreaTop" fmla="*/ 0 h 420840"/>
              <a:gd name="textAreaBottom" fmla="*/ 421200 h 420840"/>
            </a:gdLst>
            <a:ahLst/>
            <a:rect l="textAreaLeft" t="textAreaTop" r="textAreaRight" b="textAreaBottom"/>
            <a:pathLst>
              <a:path w="21600" h="21600">
                <a:moveTo>
                  <a:pt x="19572" y="0"/>
                </a:moveTo>
                <a:lnTo>
                  <a:pt x="2028" y="0"/>
                </a:lnTo>
                <a:lnTo>
                  <a:pt x="1664" y="172"/>
                </a:lnTo>
                <a:lnTo>
                  <a:pt x="1321" y="669"/>
                </a:lnTo>
                <a:lnTo>
                  <a:pt x="1005" y="1460"/>
                </a:lnTo>
                <a:lnTo>
                  <a:pt x="722" y="2514"/>
                </a:lnTo>
                <a:lnTo>
                  <a:pt x="477" y="3803"/>
                </a:lnTo>
                <a:lnTo>
                  <a:pt x="277" y="5295"/>
                </a:lnTo>
                <a:lnTo>
                  <a:pt x="127" y="6961"/>
                </a:lnTo>
                <a:lnTo>
                  <a:pt x="33" y="8770"/>
                </a:lnTo>
                <a:lnTo>
                  <a:pt x="0" y="10692"/>
                </a:lnTo>
                <a:lnTo>
                  <a:pt x="0" y="10908"/>
                </a:lnTo>
                <a:lnTo>
                  <a:pt x="33" y="12830"/>
                </a:lnTo>
                <a:lnTo>
                  <a:pt x="127" y="14639"/>
                </a:lnTo>
                <a:lnTo>
                  <a:pt x="277" y="16304"/>
                </a:lnTo>
                <a:lnTo>
                  <a:pt x="477" y="17797"/>
                </a:lnTo>
                <a:lnTo>
                  <a:pt x="722" y="19085"/>
                </a:lnTo>
                <a:lnTo>
                  <a:pt x="1005" y="20140"/>
                </a:lnTo>
                <a:lnTo>
                  <a:pt x="1321" y="20931"/>
                </a:lnTo>
                <a:lnTo>
                  <a:pt x="1664" y="21428"/>
                </a:lnTo>
                <a:lnTo>
                  <a:pt x="2028" y="21600"/>
                </a:lnTo>
                <a:lnTo>
                  <a:pt x="19572" y="21600"/>
                </a:lnTo>
                <a:lnTo>
                  <a:pt x="19936" y="21428"/>
                </a:lnTo>
                <a:lnTo>
                  <a:pt x="20279" y="20931"/>
                </a:lnTo>
                <a:lnTo>
                  <a:pt x="20595" y="20140"/>
                </a:lnTo>
                <a:lnTo>
                  <a:pt x="20878" y="19085"/>
                </a:lnTo>
                <a:lnTo>
                  <a:pt x="21123" y="17797"/>
                </a:lnTo>
                <a:lnTo>
                  <a:pt x="21323" y="16304"/>
                </a:lnTo>
                <a:lnTo>
                  <a:pt x="21473" y="14639"/>
                </a:lnTo>
                <a:lnTo>
                  <a:pt x="21567" y="12830"/>
                </a:lnTo>
                <a:lnTo>
                  <a:pt x="21600" y="10908"/>
                </a:lnTo>
                <a:lnTo>
                  <a:pt x="21600" y="10692"/>
                </a:lnTo>
                <a:lnTo>
                  <a:pt x="21567" y="8770"/>
                </a:lnTo>
                <a:lnTo>
                  <a:pt x="21473" y="6961"/>
                </a:lnTo>
                <a:lnTo>
                  <a:pt x="21323" y="5295"/>
                </a:lnTo>
                <a:lnTo>
                  <a:pt x="21123" y="3803"/>
                </a:lnTo>
                <a:lnTo>
                  <a:pt x="20878" y="2514"/>
                </a:lnTo>
                <a:lnTo>
                  <a:pt x="20595" y="1460"/>
                </a:lnTo>
                <a:lnTo>
                  <a:pt x="20279" y="669"/>
                </a:lnTo>
                <a:lnTo>
                  <a:pt x="19936" y="172"/>
                </a:lnTo>
                <a:lnTo>
                  <a:pt x="19572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8123400" y="297000"/>
            <a:ext cx="755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7507440" y="284040"/>
            <a:ext cx="572760" cy="4780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4572000" y="3365640"/>
            <a:ext cx="411480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Lato"/>
              </a:rPr>
              <a:t>Isidore Kahoui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Lato"/>
              </a:rPr>
              <a:t>Economist, Office of North Africa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3706920" y="5116680"/>
            <a:ext cx="31114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87200" indent="36216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Lato"/>
              </a:rPr>
              <a:t>3-6 October 2017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87200" indent="362160" algn="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Lato"/>
              </a:rPr>
              <a:t>Rabat, Morocco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663480" y="3273480"/>
            <a:ext cx="3730680" cy="511200"/>
          </a:xfrm>
          <a:custGeom>
            <a:avLst/>
            <a:gdLst>
              <a:gd name="textAreaLeft" fmla="*/ 0 w 3730680"/>
              <a:gd name="textAreaRight" fmla="*/ 3731040 w 3730680"/>
              <a:gd name="textAreaTop" fmla="*/ 0 h 511200"/>
              <a:gd name="textAreaBottom" fmla="*/ 511560 h 511200"/>
            </a:gdLst>
            <a:ahLst/>
            <a:rect l="textAreaLeft" t="textAreaTop" r="textAreaRight" b="textAreaBottom"/>
            <a:pathLst>
              <a:path w="21600" h="21600">
                <a:moveTo>
                  <a:pt x="20155" y="0"/>
                </a:moveTo>
                <a:lnTo>
                  <a:pt x="1445" y="0"/>
                </a:lnTo>
                <a:lnTo>
                  <a:pt x="1185" y="172"/>
                </a:lnTo>
                <a:lnTo>
                  <a:pt x="941" y="669"/>
                </a:lnTo>
                <a:lnTo>
                  <a:pt x="716" y="1460"/>
                </a:lnTo>
                <a:lnTo>
                  <a:pt x="514" y="2514"/>
                </a:lnTo>
                <a:lnTo>
                  <a:pt x="340" y="3803"/>
                </a:lnTo>
                <a:lnTo>
                  <a:pt x="197" y="5295"/>
                </a:lnTo>
                <a:lnTo>
                  <a:pt x="90" y="6961"/>
                </a:lnTo>
                <a:lnTo>
                  <a:pt x="23" y="8770"/>
                </a:lnTo>
                <a:lnTo>
                  <a:pt x="0" y="10692"/>
                </a:lnTo>
                <a:lnTo>
                  <a:pt x="0" y="10908"/>
                </a:lnTo>
                <a:lnTo>
                  <a:pt x="23" y="12830"/>
                </a:lnTo>
                <a:lnTo>
                  <a:pt x="90" y="14639"/>
                </a:lnTo>
                <a:lnTo>
                  <a:pt x="197" y="16304"/>
                </a:lnTo>
                <a:lnTo>
                  <a:pt x="340" y="17797"/>
                </a:lnTo>
                <a:lnTo>
                  <a:pt x="514" y="19085"/>
                </a:lnTo>
                <a:lnTo>
                  <a:pt x="716" y="20140"/>
                </a:lnTo>
                <a:lnTo>
                  <a:pt x="941" y="20931"/>
                </a:lnTo>
                <a:lnTo>
                  <a:pt x="1185" y="21428"/>
                </a:lnTo>
                <a:lnTo>
                  <a:pt x="1445" y="21600"/>
                </a:lnTo>
                <a:lnTo>
                  <a:pt x="20155" y="21600"/>
                </a:lnTo>
                <a:lnTo>
                  <a:pt x="20415" y="21428"/>
                </a:lnTo>
                <a:lnTo>
                  <a:pt x="20659" y="20931"/>
                </a:lnTo>
                <a:lnTo>
                  <a:pt x="20884" y="20140"/>
                </a:lnTo>
                <a:lnTo>
                  <a:pt x="21086" y="19085"/>
                </a:lnTo>
                <a:lnTo>
                  <a:pt x="21260" y="17797"/>
                </a:lnTo>
                <a:lnTo>
                  <a:pt x="21403" y="16304"/>
                </a:lnTo>
                <a:lnTo>
                  <a:pt x="21510" y="14639"/>
                </a:lnTo>
                <a:lnTo>
                  <a:pt x="21577" y="12830"/>
                </a:lnTo>
                <a:lnTo>
                  <a:pt x="21600" y="10908"/>
                </a:lnTo>
                <a:lnTo>
                  <a:pt x="21600" y="10692"/>
                </a:lnTo>
                <a:lnTo>
                  <a:pt x="21577" y="8770"/>
                </a:lnTo>
                <a:lnTo>
                  <a:pt x="21510" y="6961"/>
                </a:lnTo>
                <a:lnTo>
                  <a:pt x="21403" y="5295"/>
                </a:lnTo>
                <a:lnTo>
                  <a:pt x="21260" y="3803"/>
                </a:lnTo>
                <a:lnTo>
                  <a:pt x="21086" y="2514"/>
                </a:lnTo>
                <a:lnTo>
                  <a:pt x="20884" y="1460"/>
                </a:lnTo>
                <a:lnTo>
                  <a:pt x="20659" y="669"/>
                </a:lnTo>
                <a:lnTo>
                  <a:pt x="20415" y="172"/>
                </a:lnTo>
                <a:lnTo>
                  <a:pt x="20155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1004760" y="3889440"/>
            <a:ext cx="2692440" cy="511200"/>
          </a:xfrm>
          <a:custGeom>
            <a:avLst/>
            <a:gdLst>
              <a:gd name="textAreaLeft" fmla="*/ 0 w 2692440"/>
              <a:gd name="textAreaRight" fmla="*/ 2692440 w 2692440"/>
              <a:gd name="textAreaTop" fmla="*/ 0 h 511200"/>
              <a:gd name="textAreaBottom" fmla="*/ 511560 h 511200"/>
            </a:gdLst>
            <a:ahLst/>
            <a:rect l="textAreaLeft" t="textAreaTop" r="textAreaRight" b="textAreaBottom"/>
            <a:pathLst>
              <a:path w="21600" h="21600">
                <a:moveTo>
                  <a:pt x="19597" y="0"/>
                </a:moveTo>
                <a:lnTo>
                  <a:pt x="2003" y="0"/>
                </a:lnTo>
                <a:lnTo>
                  <a:pt x="1643" y="172"/>
                </a:lnTo>
                <a:lnTo>
                  <a:pt x="1304" y="669"/>
                </a:lnTo>
                <a:lnTo>
                  <a:pt x="992" y="1460"/>
                </a:lnTo>
                <a:lnTo>
                  <a:pt x="713" y="2514"/>
                </a:lnTo>
                <a:lnTo>
                  <a:pt x="471" y="3803"/>
                </a:lnTo>
                <a:lnTo>
                  <a:pt x="274" y="5295"/>
                </a:lnTo>
                <a:lnTo>
                  <a:pt x="125" y="6961"/>
                </a:lnTo>
                <a:lnTo>
                  <a:pt x="32" y="8770"/>
                </a:lnTo>
                <a:lnTo>
                  <a:pt x="0" y="10692"/>
                </a:lnTo>
                <a:lnTo>
                  <a:pt x="0" y="10908"/>
                </a:lnTo>
                <a:lnTo>
                  <a:pt x="32" y="12830"/>
                </a:lnTo>
                <a:lnTo>
                  <a:pt x="125" y="14639"/>
                </a:lnTo>
                <a:lnTo>
                  <a:pt x="274" y="16304"/>
                </a:lnTo>
                <a:lnTo>
                  <a:pt x="471" y="17797"/>
                </a:lnTo>
                <a:lnTo>
                  <a:pt x="713" y="19085"/>
                </a:lnTo>
                <a:lnTo>
                  <a:pt x="992" y="20140"/>
                </a:lnTo>
                <a:lnTo>
                  <a:pt x="1304" y="20931"/>
                </a:lnTo>
                <a:lnTo>
                  <a:pt x="1643" y="21428"/>
                </a:lnTo>
                <a:lnTo>
                  <a:pt x="2003" y="21600"/>
                </a:lnTo>
                <a:lnTo>
                  <a:pt x="19597" y="21600"/>
                </a:lnTo>
                <a:lnTo>
                  <a:pt x="19957" y="21428"/>
                </a:lnTo>
                <a:lnTo>
                  <a:pt x="20296" y="20931"/>
                </a:lnTo>
                <a:lnTo>
                  <a:pt x="20608" y="20140"/>
                </a:lnTo>
                <a:lnTo>
                  <a:pt x="20887" y="19085"/>
                </a:lnTo>
                <a:lnTo>
                  <a:pt x="21129" y="17797"/>
                </a:lnTo>
                <a:lnTo>
                  <a:pt x="21327" y="16304"/>
                </a:lnTo>
                <a:lnTo>
                  <a:pt x="21475" y="14639"/>
                </a:lnTo>
                <a:lnTo>
                  <a:pt x="21568" y="12830"/>
                </a:lnTo>
                <a:lnTo>
                  <a:pt x="21600" y="10908"/>
                </a:lnTo>
                <a:lnTo>
                  <a:pt x="21600" y="10692"/>
                </a:lnTo>
                <a:lnTo>
                  <a:pt x="21568" y="8770"/>
                </a:lnTo>
                <a:lnTo>
                  <a:pt x="21475" y="6961"/>
                </a:lnTo>
                <a:lnTo>
                  <a:pt x="21327" y="5295"/>
                </a:lnTo>
                <a:lnTo>
                  <a:pt x="21129" y="3803"/>
                </a:lnTo>
                <a:lnTo>
                  <a:pt x="20887" y="2514"/>
                </a:lnTo>
                <a:lnTo>
                  <a:pt x="20608" y="1460"/>
                </a:lnTo>
                <a:lnTo>
                  <a:pt x="20296" y="669"/>
                </a:lnTo>
                <a:lnTo>
                  <a:pt x="19957" y="172"/>
                </a:lnTo>
                <a:lnTo>
                  <a:pt x="19597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AutoShape 10"/>
          <p:cNvSpPr/>
          <p:nvPr/>
        </p:nvSpPr>
        <p:spPr>
          <a:xfrm>
            <a:off x="1166760" y="4567320"/>
            <a:ext cx="2808360" cy="50940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509400"/>
              <a:gd name="textAreaBottom" fmla="*/ 509760 h 509400"/>
            </a:gdLst>
            <a:ahLst/>
            <a:rect l="textAreaLeft" t="textAreaTop" r="textAreaRight" b="textAreaBottom"/>
            <a:pathLst>
              <a:path w="21600" h="21600">
                <a:moveTo>
                  <a:pt x="19681" y="0"/>
                </a:moveTo>
                <a:lnTo>
                  <a:pt x="1919" y="0"/>
                </a:lnTo>
                <a:lnTo>
                  <a:pt x="1574" y="172"/>
                </a:lnTo>
                <a:lnTo>
                  <a:pt x="1250" y="669"/>
                </a:lnTo>
                <a:lnTo>
                  <a:pt x="951" y="1460"/>
                </a:lnTo>
                <a:lnTo>
                  <a:pt x="683" y="2514"/>
                </a:lnTo>
                <a:lnTo>
                  <a:pt x="451" y="3803"/>
                </a:lnTo>
                <a:lnTo>
                  <a:pt x="262" y="5295"/>
                </a:lnTo>
                <a:lnTo>
                  <a:pt x="120" y="6961"/>
                </a:lnTo>
                <a:lnTo>
                  <a:pt x="31" y="8770"/>
                </a:lnTo>
                <a:lnTo>
                  <a:pt x="0" y="10692"/>
                </a:lnTo>
                <a:lnTo>
                  <a:pt x="0" y="10908"/>
                </a:lnTo>
                <a:lnTo>
                  <a:pt x="31" y="12830"/>
                </a:lnTo>
                <a:lnTo>
                  <a:pt x="120" y="14639"/>
                </a:lnTo>
                <a:lnTo>
                  <a:pt x="262" y="16304"/>
                </a:lnTo>
                <a:lnTo>
                  <a:pt x="451" y="17797"/>
                </a:lnTo>
                <a:lnTo>
                  <a:pt x="683" y="19085"/>
                </a:lnTo>
                <a:lnTo>
                  <a:pt x="951" y="20140"/>
                </a:lnTo>
                <a:lnTo>
                  <a:pt x="1250" y="20931"/>
                </a:lnTo>
                <a:lnTo>
                  <a:pt x="1574" y="21428"/>
                </a:lnTo>
                <a:lnTo>
                  <a:pt x="1919" y="21600"/>
                </a:lnTo>
                <a:lnTo>
                  <a:pt x="19681" y="21600"/>
                </a:lnTo>
                <a:lnTo>
                  <a:pt x="20026" y="21420"/>
                </a:lnTo>
                <a:lnTo>
                  <a:pt x="20350" y="20904"/>
                </a:lnTo>
                <a:lnTo>
                  <a:pt x="20649" y="20084"/>
                </a:lnTo>
                <a:lnTo>
                  <a:pt x="20917" y="18995"/>
                </a:lnTo>
                <a:lnTo>
                  <a:pt x="21149" y="17671"/>
                </a:lnTo>
                <a:lnTo>
                  <a:pt x="21338" y="16144"/>
                </a:lnTo>
                <a:lnTo>
                  <a:pt x="21480" y="14450"/>
                </a:lnTo>
                <a:lnTo>
                  <a:pt x="21569" y="12621"/>
                </a:lnTo>
                <a:lnTo>
                  <a:pt x="21600" y="10692"/>
                </a:lnTo>
                <a:lnTo>
                  <a:pt x="21569" y="8770"/>
                </a:lnTo>
                <a:lnTo>
                  <a:pt x="21480" y="6961"/>
                </a:lnTo>
                <a:lnTo>
                  <a:pt x="21338" y="5295"/>
                </a:lnTo>
                <a:lnTo>
                  <a:pt x="21149" y="3803"/>
                </a:lnTo>
                <a:lnTo>
                  <a:pt x="20917" y="2514"/>
                </a:lnTo>
                <a:lnTo>
                  <a:pt x="20649" y="1460"/>
                </a:lnTo>
                <a:lnTo>
                  <a:pt x="20350" y="669"/>
                </a:lnTo>
                <a:lnTo>
                  <a:pt x="20026" y="172"/>
                </a:lnTo>
                <a:lnTo>
                  <a:pt x="19681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1166760" y="5253120"/>
            <a:ext cx="2141640" cy="509400"/>
          </a:xfrm>
          <a:custGeom>
            <a:avLst/>
            <a:gdLst>
              <a:gd name="textAreaLeft" fmla="*/ 0 w 2141640"/>
              <a:gd name="textAreaRight" fmla="*/ 2142000 w 2141640"/>
              <a:gd name="textAreaTop" fmla="*/ 0 h 509400"/>
              <a:gd name="textAreaBottom" fmla="*/ 509760 h 509400"/>
            </a:gdLst>
            <a:ahLst/>
            <a:rect l="textAreaLeft" t="textAreaTop" r="textAreaRight" b="textAreaBottom"/>
            <a:pathLst>
              <a:path w="21600" h="21600">
                <a:moveTo>
                  <a:pt x="19083" y="0"/>
                </a:moveTo>
                <a:lnTo>
                  <a:pt x="2517" y="0"/>
                </a:lnTo>
                <a:lnTo>
                  <a:pt x="2065" y="172"/>
                </a:lnTo>
                <a:lnTo>
                  <a:pt x="1639" y="669"/>
                </a:lnTo>
                <a:lnTo>
                  <a:pt x="1247" y="1460"/>
                </a:lnTo>
                <a:lnTo>
                  <a:pt x="895" y="2514"/>
                </a:lnTo>
                <a:lnTo>
                  <a:pt x="592" y="3803"/>
                </a:lnTo>
                <a:lnTo>
                  <a:pt x="344" y="5295"/>
                </a:lnTo>
                <a:lnTo>
                  <a:pt x="157" y="6961"/>
                </a:lnTo>
                <a:lnTo>
                  <a:pt x="41" y="8770"/>
                </a:lnTo>
                <a:lnTo>
                  <a:pt x="0" y="10692"/>
                </a:lnTo>
                <a:lnTo>
                  <a:pt x="0" y="10908"/>
                </a:lnTo>
                <a:lnTo>
                  <a:pt x="41" y="12830"/>
                </a:lnTo>
                <a:lnTo>
                  <a:pt x="157" y="14639"/>
                </a:lnTo>
                <a:lnTo>
                  <a:pt x="344" y="16304"/>
                </a:lnTo>
                <a:lnTo>
                  <a:pt x="592" y="17797"/>
                </a:lnTo>
                <a:lnTo>
                  <a:pt x="895" y="19085"/>
                </a:lnTo>
                <a:lnTo>
                  <a:pt x="1247" y="20140"/>
                </a:lnTo>
                <a:lnTo>
                  <a:pt x="1639" y="20931"/>
                </a:lnTo>
                <a:lnTo>
                  <a:pt x="2065" y="21428"/>
                </a:lnTo>
                <a:lnTo>
                  <a:pt x="2517" y="21600"/>
                </a:lnTo>
                <a:lnTo>
                  <a:pt x="19083" y="21600"/>
                </a:lnTo>
                <a:lnTo>
                  <a:pt x="19535" y="21428"/>
                </a:lnTo>
                <a:lnTo>
                  <a:pt x="19961" y="20931"/>
                </a:lnTo>
                <a:lnTo>
                  <a:pt x="20353" y="20140"/>
                </a:lnTo>
                <a:lnTo>
                  <a:pt x="20705" y="19085"/>
                </a:lnTo>
                <a:lnTo>
                  <a:pt x="21008" y="17797"/>
                </a:lnTo>
                <a:lnTo>
                  <a:pt x="21256" y="16304"/>
                </a:lnTo>
                <a:lnTo>
                  <a:pt x="21443" y="14639"/>
                </a:lnTo>
                <a:lnTo>
                  <a:pt x="21559" y="12830"/>
                </a:lnTo>
                <a:lnTo>
                  <a:pt x="21600" y="10908"/>
                </a:lnTo>
                <a:lnTo>
                  <a:pt x="21600" y="10692"/>
                </a:lnTo>
                <a:lnTo>
                  <a:pt x="21559" y="8770"/>
                </a:lnTo>
                <a:lnTo>
                  <a:pt x="21443" y="6961"/>
                </a:lnTo>
                <a:lnTo>
                  <a:pt x="21256" y="5295"/>
                </a:lnTo>
                <a:lnTo>
                  <a:pt x="21008" y="3803"/>
                </a:lnTo>
                <a:lnTo>
                  <a:pt x="20705" y="2514"/>
                </a:lnTo>
                <a:lnTo>
                  <a:pt x="20353" y="1460"/>
                </a:lnTo>
                <a:lnTo>
                  <a:pt x="19961" y="669"/>
                </a:lnTo>
                <a:lnTo>
                  <a:pt x="19535" y="172"/>
                </a:lnTo>
                <a:lnTo>
                  <a:pt x="19083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AutoShape 12"/>
          <p:cNvSpPr/>
          <p:nvPr/>
        </p:nvSpPr>
        <p:spPr>
          <a:xfrm>
            <a:off x="1411200" y="5923080"/>
            <a:ext cx="1476360" cy="511200"/>
          </a:xfrm>
          <a:custGeom>
            <a:avLst/>
            <a:gdLst>
              <a:gd name="textAreaLeft" fmla="*/ 0 w 1476360"/>
              <a:gd name="textAreaRight" fmla="*/ 1476720 w 1476360"/>
              <a:gd name="textAreaTop" fmla="*/ 0 h 511200"/>
              <a:gd name="textAreaBottom" fmla="*/ 511560 h 511200"/>
            </a:gdLst>
            <a:ahLst/>
            <a:rect l="textAreaLeft" t="textAreaTop" r="textAreaRight" b="textAreaBottom"/>
            <a:pathLst>
              <a:path w="21600" h="21600">
                <a:moveTo>
                  <a:pt x="17948" y="0"/>
                </a:moveTo>
                <a:lnTo>
                  <a:pt x="3652" y="0"/>
                </a:lnTo>
                <a:lnTo>
                  <a:pt x="2996" y="172"/>
                </a:lnTo>
                <a:lnTo>
                  <a:pt x="2378" y="669"/>
                </a:lnTo>
                <a:lnTo>
                  <a:pt x="1809" y="1460"/>
                </a:lnTo>
                <a:lnTo>
                  <a:pt x="1299" y="2514"/>
                </a:lnTo>
                <a:lnTo>
                  <a:pt x="859" y="3803"/>
                </a:lnTo>
                <a:lnTo>
                  <a:pt x="499" y="5295"/>
                </a:lnTo>
                <a:lnTo>
                  <a:pt x="228" y="6961"/>
                </a:lnTo>
                <a:lnTo>
                  <a:pt x="59" y="8770"/>
                </a:lnTo>
                <a:lnTo>
                  <a:pt x="0" y="10692"/>
                </a:lnTo>
                <a:lnTo>
                  <a:pt x="0" y="10908"/>
                </a:lnTo>
                <a:lnTo>
                  <a:pt x="59" y="12830"/>
                </a:lnTo>
                <a:lnTo>
                  <a:pt x="228" y="14639"/>
                </a:lnTo>
                <a:lnTo>
                  <a:pt x="499" y="16304"/>
                </a:lnTo>
                <a:lnTo>
                  <a:pt x="859" y="17797"/>
                </a:lnTo>
                <a:lnTo>
                  <a:pt x="1299" y="19085"/>
                </a:lnTo>
                <a:lnTo>
                  <a:pt x="1809" y="20140"/>
                </a:lnTo>
                <a:lnTo>
                  <a:pt x="2378" y="20931"/>
                </a:lnTo>
                <a:lnTo>
                  <a:pt x="2996" y="21428"/>
                </a:lnTo>
                <a:lnTo>
                  <a:pt x="3652" y="21600"/>
                </a:lnTo>
                <a:lnTo>
                  <a:pt x="17948" y="21600"/>
                </a:lnTo>
                <a:lnTo>
                  <a:pt x="18605" y="21428"/>
                </a:lnTo>
                <a:lnTo>
                  <a:pt x="19222" y="20931"/>
                </a:lnTo>
                <a:lnTo>
                  <a:pt x="19791" y="20140"/>
                </a:lnTo>
                <a:lnTo>
                  <a:pt x="20301" y="19085"/>
                </a:lnTo>
                <a:lnTo>
                  <a:pt x="20741" y="17797"/>
                </a:lnTo>
                <a:lnTo>
                  <a:pt x="21101" y="16304"/>
                </a:lnTo>
                <a:lnTo>
                  <a:pt x="21372" y="14639"/>
                </a:lnTo>
                <a:lnTo>
                  <a:pt x="21541" y="12830"/>
                </a:lnTo>
                <a:lnTo>
                  <a:pt x="21600" y="10908"/>
                </a:lnTo>
                <a:lnTo>
                  <a:pt x="21600" y="10692"/>
                </a:lnTo>
                <a:lnTo>
                  <a:pt x="21541" y="8770"/>
                </a:lnTo>
                <a:lnTo>
                  <a:pt x="21372" y="6961"/>
                </a:lnTo>
                <a:lnTo>
                  <a:pt x="21101" y="5295"/>
                </a:lnTo>
                <a:lnTo>
                  <a:pt x="20741" y="3803"/>
                </a:lnTo>
                <a:lnTo>
                  <a:pt x="20301" y="2514"/>
                </a:lnTo>
                <a:lnTo>
                  <a:pt x="19791" y="1460"/>
                </a:lnTo>
                <a:lnTo>
                  <a:pt x="19222" y="669"/>
                </a:lnTo>
                <a:lnTo>
                  <a:pt x="18605" y="172"/>
                </a:lnTo>
                <a:lnTo>
                  <a:pt x="17948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AutoShape 13"/>
          <p:cNvSpPr/>
          <p:nvPr/>
        </p:nvSpPr>
        <p:spPr>
          <a:xfrm>
            <a:off x="0" y="0"/>
            <a:ext cx="1004760" cy="496800"/>
          </a:xfrm>
          <a:custGeom>
            <a:avLst/>
            <a:gdLst>
              <a:gd name="textAreaLeft" fmla="*/ 0 w 1004760"/>
              <a:gd name="textAreaRight" fmla="*/ 1005120 w 10047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17873" y="0"/>
                </a:moveTo>
                <a:lnTo>
                  <a:pt x="0" y="0"/>
                </a:lnTo>
                <a:lnTo>
                  <a:pt x="0" y="21600"/>
                </a:lnTo>
                <a:lnTo>
                  <a:pt x="16243" y="21600"/>
                </a:lnTo>
                <a:lnTo>
                  <a:pt x="17206" y="21423"/>
                </a:lnTo>
                <a:lnTo>
                  <a:pt x="18112" y="20914"/>
                </a:lnTo>
                <a:lnTo>
                  <a:pt x="18947" y="20103"/>
                </a:lnTo>
                <a:lnTo>
                  <a:pt x="19694" y="19021"/>
                </a:lnTo>
                <a:lnTo>
                  <a:pt x="20340" y="17700"/>
                </a:lnTo>
                <a:lnTo>
                  <a:pt x="20869" y="16169"/>
                </a:lnTo>
                <a:lnTo>
                  <a:pt x="21265" y="14461"/>
                </a:lnTo>
                <a:lnTo>
                  <a:pt x="21514" y="12606"/>
                </a:lnTo>
                <a:lnTo>
                  <a:pt x="21600" y="10635"/>
                </a:lnTo>
                <a:lnTo>
                  <a:pt x="21600" y="10413"/>
                </a:lnTo>
                <a:lnTo>
                  <a:pt x="21514" y="8442"/>
                </a:lnTo>
                <a:lnTo>
                  <a:pt x="21265" y="6587"/>
                </a:lnTo>
                <a:lnTo>
                  <a:pt x="20869" y="4879"/>
                </a:lnTo>
                <a:lnTo>
                  <a:pt x="20340" y="3349"/>
                </a:lnTo>
                <a:lnTo>
                  <a:pt x="19694" y="2027"/>
                </a:lnTo>
                <a:lnTo>
                  <a:pt x="18947" y="945"/>
                </a:lnTo>
                <a:lnTo>
                  <a:pt x="18112" y="134"/>
                </a:lnTo>
                <a:lnTo>
                  <a:pt x="17873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AutoShape 14"/>
          <p:cNvSpPr/>
          <p:nvPr/>
        </p:nvSpPr>
        <p:spPr>
          <a:xfrm>
            <a:off x="1519200" y="6546960"/>
            <a:ext cx="790560" cy="309600"/>
          </a:xfrm>
          <a:custGeom>
            <a:avLst/>
            <a:gdLst>
              <a:gd name="textAreaLeft" fmla="*/ 0 w 790560"/>
              <a:gd name="textAreaRight" fmla="*/ 790920 w 790560"/>
              <a:gd name="textAreaTop" fmla="*/ 0 h 309600"/>
              <a:gd name="textAreaBottom" fmla="*/ 309960 h 309600"/>
            </a:gdLst>
            <a:ahLst/>
            <a:rect l="textAreaLeft" t="textAreaTop" r="textAreaRight" b="textAreaBottom"/>
            <a:pathLst>
              <a:path w="21600" h="21600">
                <a:moveTo>
                  <a:pt x="14782" y="0"/>
                </a:moveTo>
                <a:lnTo>
                  <a:pt x="6817" y="0"/>
                </a:lnTo>
                <a:lnTo>
                  <a:pt x="5592" y="283"/>
                </a:lnTo>
                <a:lnTo>
                  <a:pt x="4439" y="1100"/>
                </a:lnTo>
                <a:lnTo>
                  <a:pt x="3377" y="2401"/>
                </a:lnTo>
                <a:lnTo>
                  <a:pt x="2425" y="4137"/>
                </a:lnTo>
                <a:lnTo>
                  <a:pt x="1603" y="6257"/>
                </a:lnTo>
                <a:lnTo>
                  <a:pt x="931" y="8712"/>
                </a:lnTo>
                <a:lnTo>
                  <a:pt x="426" y="11452"/>
                </a:lnTo>
                <a:lnTo>
                  <a:pt x="110" y="14428"/>
                </a:lnTo>
                <a:lnTo>
                  <a:pt x="0" y="17590"/>
                </a:lnTo>
                <a:lnTo>
                  <a:pt x="0" y="17946"/>
                </a:lnTo>
                <a:lnTo>
                  <a:pt x="110" y="21108"/>
                </a:lnTo>
                <a:lnTo>
                  <a:pt x="162" y="21600"/>
                </a:lnTo>
                <a:lnTo>
                  <a:pt x="21438" y="21600"/>
                </a:lnTo>
                <a:lnTo>
                  <a:pt x="21490" y="21108"/>
                </a:lnTo>
                <a:lnTo>
                  <a:pt x="21600" y="17946"/>
                </a:lnTo>
                <a:lnTo>
                  <a:pt x="21600" y="17590"/>
                </a:lnTo>
                <a:lnTo>
                  <a:pt x="21490" y="14428"/>
                </a:lnTo>
                <a:lnTo>
                  <a:pt x="21173" y="11452"/>
                </a:lnTo>
                <a:lnTo>
                  <a:pt x="20669" y="8712"/>
                </a:lnTo>
                <a:lnTo>
                  <a:pt x="19997" y="6257"/>
                </a:lnTo>
                <a:lnTo>
                  <a:pt x="19175" y="4137"/>
                </a:lnTo>
                <a:lnTo>
                  <a:pt x="18223" y="2401"/>
                </a:lnTo>
                <a:lnTo>
                  <a:pt x="17161" y="1100"/>
                </a:lnTo>
                <a:lnTo>
                  <a:pt x="16008" y="283"/>
                </a:lnTo>
                <a:lnTo>
                  <a:pt x="14782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AutoShape 15"/>
          <p:cNvSpPr/>
          <p:nvPr/>
        </p:nvSpPr>
        <p:spPr>
          <a:xfrm>
            <a:off x="0" y="573120"/>
            <a:ext cx="1536840" cy="509400"/>
          </a:xfrm>
          <a:custGeom>
            <a:avLst/>
            <a:gdLst>
              <a:gd name="textAreaLeft" fmla="*/ 0 w 1536840"/>
              <a:gd name="textAreaRight" fmla="*/ 1537200 w 1536840"/>
              <a:gd name="textAreaTop" fmla="*/ 0 h 509400"/>
              <a:gd name="textAreaBottom" fmla="*/ 509760 h 509400"/>
            </a:gdLst>
            <a:ahLst/>
            <a:rect l="textAreaLeft" t="textAreaTop" r="textAreaRight" b="textAreaBottom"/>
            <a:pathLst>
              <a:path w="21600" h="21600">
                <a:moveTo>
                  <a:pt x="18093" y="0"/>
                </a:moveTo>
                <a:lnTo>
                  <a:pt x="0" y="0"/>
                </a:lnTo>
                <a:lnTo>
                  <a:pt x="0" y="21600"/>
                </a:lnTo>
                <a:lnTo>
                  <a:pt x="18093" y="21600"/>
                </a:lnTo>
                <a:lnTo>
                  <a:pt x="18724" y="21428"/>
                </a:lnTo>
                <a:lnTo>
                  <a:pt x="19317" y="20931"/>
                </a:lnTo>
                <a:lnTo>
                  <a:pt x="19863" y="20140"/>
                </a:lnTo>
                <a:lnTo>
                  <a:pt x="20353" y="19085"/>
                </a:lnTo>
                <a:lnTo>
                  <a:pt x="20775" y="17797"/>
                </a:lnTo>
                <a:lnTo>
                  <a:pt x="21121" y="16304"/>
                </a:lnTo>
                <a:lnTo>
                  <a:pt x="21381" y="14639"/>
                </a:lnTo>
                <a:lnTo>
                  <a:pt x="21544" y="12830"/>
                </a:lnTo>
                <a:lnTo>
                  <a:pt x="21600" y="10908"/>
                </a:lnTo>
                <a:lnTo>
                  <a:pt x="21600" y="10692"/>
                </a:lnTo>
                <a:lnTo>
                  <a:pt x="21544" y="8770"/>
                </a:lnTo>
                <a:lnTo>
                  <a:pt x="21381" y="6961"/>
                </a:lnTo>
                <a:lnTo>
                  <a:pt x="21121" y="5295"/>
                </a:lnTo>
                <a:lnTo>
                  <a:pt x="20775" y="3803"/>
                </a:lnTo>
                <a:lnTo>
                  <a:pt x="20353" y="2514"/>
                </a:lnTo>
                <a:lnTo>
                  <a:pt x="19863" y="1460"/>
                </a:lnTo>
                <a:lnTo>
                  <a:pt x="19317" y="669"/>
                </a:lnTo>
                <a:lnTo>
                  <a:pt x="18724" y="172"/>
                </a:lnTo>
                <a:lnTo>
                  <a:pt x="18093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AutoShape 16"/>
          <p:cNvSpPr/>
          <p:nvPr/>
        </p:nvSpPr>
        <p:spPr>
          <a:xfrm>
            <a:off x="0" y="1238400"/>
            <a:ext cx="3067200" cy="509400"/>
          </a:xfrm>
          <a:custGeom>
            <a:avLst/>
            <a:gdLst>
              <a:gd name="textAreaLeft" fmla="*/ 0 w 3067200"/>
              <a:gd name="textAreaRight" fmla="*/ 3067560 w 3067200"/>
              <a:gd name="textAreaTop" fmla="*/ 0 h 509400"/>
              <a:gd name="textAreaBottom" fmla="*/ 509760 h 509400"/>
            </a:gdLst>
            <a:ahLst/>
            <a:rect l="textAreaLeft" t="textAreaTop" r="textAreaRight" b="textAreaBottom"/>
            <a:pathLst>
              <a:path w="21600" h="21600">
                <a:moveTo>
                  <a:pt x="19842" y="0"/>
                </a:moveTo>
                <a:lnTo>
                  <a:pt x="0" y="0"/>
                </a:lnTo>
                <a:lnTo>
                  <a:pt x="0" y="21600"/>
                </a:lnTo>
                <a:lnTo>
                  <a:pt x="19842" y="21600"/>
                </a:lnTo>
                <a:lnTo>
                  <a:pt x="20158" y="21428"/>
                </a:lnTo>
                <a:lnTo>
                  <a:pt x="20456" y="20931"/>
                </a:lnTo>
                <a:lnTo>
                  <a:pt x="20729" y="20140"/>
                </a:lnTo>
                <a:lnTo>
                  <a:pt x="20975" y="19085"/>
                </a:lnTo>
                <a:lnTo>
                  <a:pt x="21187" y="17797"/>
                </a:lnTo>
                <a:lnTo>
                  <a:pt x="21360" y="16304"/>
                </a:lnTo>
                <a:lnTo>
                  <a:pt x="21490" y="14639"/>
                </a:lnTo>
                <a:lnTo>
                  <a:pt x="21572" y="12830"/>
                </a:lnTo>
                <a:lnTo>
                  <a:pt x="21600" y="10908"/>
                </a:lnTo>
                <a:lnTo>
                  <a:pt x="21600" y="10692"/>
                </a:lnTo>
                <a:lnTo>
                  <a:pt x="21572" y="8770"/>
                </a:lnTo>
                <a:lnTo>
                  <a:pt x="21490" y="6961"/>
                </a:lnTo>
                <a:lnTo>
                  <a:pt x="21360" y="5295"/>
                </a:lnTo>
                <a:lnTo>
                  <a:pt x="21187" y="3803"/>
                </a:lnTo>
                <a:lnTo>
                  <a:pt x="20975" y="2514"/>
                </a:lnTo>
                <a:lnTo>
                  <a:pt x="20729" y="1460"/>
                </a:lnTo>
                <a:lnTo>
                  <a:pt x="20456" y="669"/>
                </a:lnTo>
                <a:lnTo>
                  <a:pt x="20158" y="172"/>
                </a:lnTo>
                <a:lnTo>
                  <a:pt x="19842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AutoShape 17"/>
          <p:cNvSpPr/>
          <p:nvPr/>
        </p:nvSpPr>
        <p:spPr>
          <a:xfrm>
            <a:off x="0" y="1916280"/>
            <a:ext cx="3432240" cy="509400"/>
          </a:xfrm>
          <a:custGeom>
            <a:avLst/>
            <a:gdLst>
              <a:gd name="textAreaLeft" fmla="*/ 0 w 3432240"/>
              <a:gd name="textAreaRight" fmla="*/ 3432600 w 3432240"/>
              <a:gd name="textAreaTop" fmla="*/ 0 h 509400"/>
              <a:gd name="textAreaBottom" fmla="*/ 509760 h 509400"/>
            </a:gdLst>
            <a:ahLst/>
            <a:rect l="textAreaLeft" t="textAreaTop" r="textAreaRight" b="textAreaBottom"/>
            <a:pathLst>
              <a:path w="21600" h="21600">
                <a:moveTo>
                  <a:pt x="20030" y="0"/>
                </a:moveTo>
                <a:lnTo>
                  <a:pt x="0" y="0"/>
                </a:lnTo>
                <a:lnTo>
                  <a:pt x="0" y="21600"/>
                </a:lnTo>
                <a:lnTo>
                  <a:pt x="20030" y="21600"/>
                </a:lnTo>
                <a:lnTo>
                  <a:pt x="20312" y="21428"/>
                </a:lnTo>
                <a:lnTo>
                  <a:pt x="20578" y="20931"/>
                </a:lnTo>
                <a:lnTo>
                  <a:pt x="20822" y="20140"/>
                </a:lnTo>
                <a:lnTo>
                  <a:pt x="21041" y="19085"/>
                </a:lnTo>
                <a:lnTo>
                  <a:pt x="21231" y="17797"/>
                </a:lnTo>
                <a:lnTo>
                  <a:pt x="21386" y="16304"/>
                </a:lnTo>
                <a:lnTo>
                  <a:pt x="21502" y="14639"/>
                </a:lnTo>
                <a:lnTo>
                  <a:pt x="21575" y="12830"/>
                </a:lnTo>
                <a:lnTo>
                  <a:pt x="21600" y="10908"/>
                </a:lnTo>
                <a:lnTo>
                  <a:pt x="21600" y="10692"/>
                </a:lnTo>
                <a:lnTo>
                  <a:pt x="21575" y="8770"/>
                </a:lnTo>
                <a:lnTo>
                  <a:pt x="21502" y="6961"/>
                </a:lnTo>
                <a:lnTo>
                  <a:pt x="21386" y="5295"/>
                </a:lnTo>
                <a:lnTo>
                  <a:pt x="21231" y="3803"/>
                </a:lnTo>
                <a:lnTo>
                  <a:pt x="21041" y="2514"/>
                </a:lnTo>
                <a:lnTo>
                  <a:pt x="20822" y="1460"/>
                </a:lnTo>
                <a:lnTo>
                  <a:pt x="20578" y="669"/>
                </a:lnTo>
                <a:lnTo>
                  <a:pt x="20312" y="172"/>
                </a:lnTo>
                <a:lnTo>
                  <a:pt x="20030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AutoShape 18"/>
          <p:cNvSpPr/>
          <p:nvPr/>
        </p:nvSpPr>
        <p:spPr>
          <a:xfrm>
            <a:off x="0" y="2600280"/>
            <a:ext cx="4619520" cy="511200"/>
          </a:xfrm>
          <a:custGeom>
            <a:avLst/>
            <a:gdLst>
              <a:gd name="textAreaLeft" fmla="*/ 0 w 4619520"/>
              <a:gd name="textAreaRight" fmla="*/ 4619880 w 4619520"/>
              <a:gd name="textAreaTop" fmla="*/ 0 h 511200"/>
              <a:gd name="textAreaBottom" fmla="*/ 511560 h 511200"/>
            </a:gdLst>
            <a:ahLst/>
            <a:rect l="textAreaLeft" t="textAreaTop" r="textAreaRight" b="textAreaBottom"/>
            <a:pathLst>
              <a:path w="21600" h="21600">
                <a:moveTo>
                  <a:pt x="20598" y="0"/>
                </a:moveTo>
                <a:lnTo>
                  <a:pt x="0" y="0"/>
                </a:lnTo>
                <a:lnTo>
                  <a:pt x="0" y="21600"/>
                </a:lnTo>
                <a:lnTo>
                  <a:pt x="20433" y="21600"/>
                </a:lnTo>
                <a:lnTo>
                  <a:pt x="20643" y="21428"/>
                </a:lnTo>
                <a:lnTo>
                  <a:pt x="20840" y="20931"/>
                </a:lnTo>
                <a:lnTo>
                  <a:pt x="21022" y="20140"/>
                </a:lnTo>
                <a:lnTo>
                  <a:pt x="21185" y="19085"/>
                </a:lnTo>
                <a:lnTo>
                  <a:pt x="21326" y="17797"/>
                </a:lnTo>
                <a:lnTo>
                  <a:pt x="21441" y="16304"/>
                </a:lnTo>
                <a:lnTo>
                  <a:pt x="21527" y="14639"/>
                </a:lnTo>
                <a:lnTo>
                  <a:pt x="21581" y="12830"/>
                </a:lnTo>
                <a:lnTo>
                  <a:pt x="21600" y="10908"/>
                </a:lnTo>
                <a:lnTo>
                  <a:pt x="21600" y="9184"/>
                </a:lnTo>
                <a:lnTo>
                  <a:pt x="21574" y="7078"/>
                </a:lnTo>
                <a:lnTo>
                  <a:pt x="21498" y="5145"/>
                </a:lnTo>
                <a:lnTo>
                  <a:pt x="21380" y="3440"/>
                </a:lnTo>
                <a:lnTo>
                  <a:pt x="21225" y="2018"/>
                </a:lnTo>
                <a:lnTo>
                  <a:pt x="21039" y="933"/>
                </a:lnTo>
                <a:lnTo>
                  <a:pt x="20828" y="243"/>
                </a:lnTo>
                <a:lnTo>
                  <a:pt x="20598" y="0"/>
                </a:lnTo>
                <a:close/>
              </a:path>
            </a:pathLst>
          </a:custGeom>
          <a:solidFill>
            <a:srgbClr val="0a7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19"/>
          <p:cNvSpPr/>
          <p:nvPr/>
        </p:nvSpPr>
        <p:spPr>
          <a:xfrm>
            <a:off x="2887560" y="5956200"/>
            <a:ext cx="614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32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nd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Meeting of the Intergovernmental Committee of Expert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Marcador de Posição do Número do Diapositivo 20"/>
          <p:cNvSpPr/>
          <p:nvPr/>
        </p:nvSpPr>
        <p:spPr>
          <a:xfrm>
            <a:off x="8418600" y="6377040"/>
            <a:ext cx="2682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1038C-ADBF-4A1D-833B-0C883A33B1EF}" type="slidenum">
              <a:rPr b="0" lang="en-US" sz="1800" spc="-1" strike="noStrike">
                <a:solidFill>
                  <a:srgbClr val="888888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140000" y="1015920"/>
            <a:ext cx="4895640" cy="166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ato"/>
              </a:rPr>
              <a:t>PRPOSED WORK PROGRAMME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Lato"/>
              </a:rPr>
              <a:t>2018-2019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AutoShape 2"/>
          <p:cNvSpPr/>
          <p:nvPr/>
        </p:nvSpPr>
        <p:spPr>
          <a:xfrm>
            <a:off x="15840" y="6213600"/>
            <a:ext cx="7016760" cy="442800"/>
          </a:xfrm>
          <a:custGeom>
            <a:avLst/>
            <a:gdLst>
              <a:gd name="textAreaLeft" fmla="*/ 0 w 7016760"/>
              <a:gd name="textAreaRight" fmla="*/ 7017120 w 701676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21600" h="21600">
                <a:moveTo>
                  <a:pt x="20929" y="0"/>
                </a:moveTo>
                <a:lnTo>
                  <a:pt x="0" y="0"/>
                </a:lnTo>
                <a:lnTo>
                  <a:pt x="0" y="21600"/>
                </a:lnTo>
                <a:lnTo>
                  <a:pt x="20929" y="21600"/>
                </a:lnTo>
                <a:lnTo>
                  <a:pt x="21107" y="21274"/>
                </a:lnTo>
                <a:lnTo>
                  <a:pt x="21268" y="20353"/>
                </a:lnTo>
                <a:lnTo>
                  <a:pt x="21404" y="18924"/>
                </a:lnTo>
                <a:lnTo>
                  <a:pt x="21508" y="17076"/>
                </a:lnTo>
                <a:lnTo>
                  <a:pt x="21576" y="14893"/>
                </a:lnTo>
                <a:lnTo>
                  <a:pt x="21600" y="12465"/>
                </a:lnTo>
                <a:lnTo>
                  <a:pt x="21600" y="9135"/>
                </a:lnTo>
                <a:lnTo>
                  <a:pt x="21576" y="6707"/>
                </a:lnTo>
                <a:lnTo>
                  <a:pt x="21508" y="4524"/>
                </a:lnTo>
                <a:lnTo>
                  <a:pt x="21404" y="2676"/>
                </a:lnTo>
                <a:lnTo>
                  <a:pt x="21268" y="1247"/>
                </a:lnTo>
                <a:lnTo>
                  <a:pt x="21107" y="326"/>
                </a:lnTo>
                <a:lnTo>
                  <a:pt x="20929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20520" y="6308640"/>
            <a:ext cx="722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Proposed Work Programme 2018-2019 |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32nd Meeting of the Intergovernmental Committee of Experts (ICE – Rabat, Morocco, 3-6 October 2017)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AutoShape 4"/>
          <p:cNvSpPr/>
          <p:nvPr/>
        </p:nvSpPr>
        <p:spPr>
          <a:xfrm>
            <a:off x="0" y="0"/>
            <a:ext cx="9131400" cy="684540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6845400"/>
              <a:gd name="textAreaBottom" fmla="*/ 6845760 h 6845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3240">
            <a:solidFill>
              <a:srgbClr val="7b7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0" y="0"/>
            <a:ext cx="9131400" cy="684540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6845400"/>
              <a:gd name="textAreaBottom" fmla="*/ 6845760 h 6845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3240">
            <a:solidFill>
              <a:srgbClr val="7b7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AutoShape 6"/>
          <p:cNvSpPr/>
          <p:nvPr/>
        </p:nvSpPr>
        <p:spPr>
          <a:xfrm>
            <a:off x="0" y="239760"/>
            <a:ext cx="5796000" cy="54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694" y="0"/>
                </a:moveTo>
                <a:lnTo>
                  <a:pt x="115" y="0"/>
                </a:lnTo>
                <a:lnTo>
                  <a:pt x="0" y="157"/>
                </a:lnTo>
                <a:lnTo>
                  <a:pt x="0" y="21443"/>
                </a:lnTo>
                <a:lnTo>
                  <a:pt x="115" y="21600"/>
                </a:lnTo>
                <a:lnTo>
                  <a:pt x="20694" y="21600"/>
                </a:lnTo>
                <a:lnTo>
                  <a:pt x="20935" y="21272"/>
                </a:lnTo>
                <a:lnTo>
                  <a:pt x="21151" y="20346"/>
                </a:lnTo>
                <a:lnTo>
                  <a:pt x="21335" y="18910"/>
                </a:lnTo>
                <a:lnTo>
                  <a:pt x="21476" y="17052"/>
                </a:lnTo>
                <a:lnTo>
                  <a:pt x="21568" y="14858"/>
                </a:lnTo>
                <a:lnTo>
                  <a:pt x="21600" y="12416"/>
                </a:lnTo>
                <a:lnTo>
                  <a:pt x="21600" y="9183"/>
                </a:lnTo>
                <a:lnTo>
                  <a:pt x="21568" y="6742"/>
                </a:lnTo>
                <a:lnTo>
                  <a:pt x="21476" y="4549"/>
                </a:lnTo>
                <a:lnTo>
                  <a:pt x="21335" y="2690"/>
                </a:lnTo>
                <a:lnTo>
                  <a:pt x="21151" y="1254"/>
                </a:lnTo>
                <a:lnTo>
                  <a:pt x="20935" y="328"/>
                </a:lnTo>
                <a:lnTo>
                  <a:pt x="20694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8123400" y="297000"/>
            <a:ext cx="755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385c1"/>
                </a:solidFill>
                <a:latin typeface="Times New Roman"/>
                <a:ea typeface="Times New Roman"/>
              </a:rPr>
              <a:t>CE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7508880" y="284040"/>
            <a:ext cx="573120" cy="4780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AutoShape 9"/>
          <p:cNvSpPr/>
          <p:nvPr/>
        </p:nvSpPr>
        <p:spPr>
          <a:xfrm>
            <a:off x="7066080" y="6199200"/>
            <a:ext cx="1508040" cy="441360"/>
          </a:xfrm>
          <a:custGeom>
            <a:avLst/>
            <a:gdLst>
              <a:gd name="textAreaLeft" fmla="*/ 0 w 1508040"/>
              <a:gd name="textAreaRight" fmla="*/ 1508400 w 150804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21600" h="21600">
                <a:moveTo>
                  <a:pt x="18463" y="0"/>
                </a:moveTo>
                <a:lnTo>
                  <a:pt x="3137" y="0"/>
                </a:lnTo>
                <a:lnTo>
                  <a:pt x="2303" y="328"/>
                </a:lnTo>
                <a:lnTo>
                  <a:pt x="1554" y="1254"/>
                </a:lnTo>
                <a:lnTo>
                  <a:pt x="919" y="2690"/>
                </a:lnTo>
                <a:lnTo>
                  <a:pt x="428" y="4549"/>
                </a:lnTo>
                <a:lnTo>
                  <a:pt x="112" y="6742"/>
                </a:lnTo>
                <a:lnTo>
                  <a:pt x="0" y="9183"/>
                </a:lnTo>
                <a:lnTo>
                  <a:pt x="0" y="12416"/>
                </a:lnTo>
                <a:lnTo>
                  <a:pt x="112" y="14858"/>
                </a:lnTo>
                <a:lnTo>
                  <a:pt x="428" y="17052"/>
                </a:lnTo>
                <a:lnTo>
                  <a:pt x="919" y="18910"/>
                </a:lnTo>
                <a:lnTo>
                  <a:pt x="1554" y="20346"/>
                </a:lnTo>
                <a:lnTo>
                  <a:pt x="2303" y="21272"/>
                </a:lnTo>
                <a:lnTo>
                  <a:pt x="3137" y="21600"/>
                </a:lnTo>
                <a:lnTo>
                  <a:pt x="18463" y="21600"/>
                </a:lnTo>
                <a:lnTo>
                  <a:pt x="19297" y="21272"/>
                </a:lnTo>
                <a:lnTo>
                  <a:pt x="20047" y="20346"/>
                </a:lnTo>
                <a:lnTo>
                  <a:pt x="20681" y="18910"/>
                </a:lnTo>
                <a:lnTo>
                  <a:pt x="21172" y="17052"/>
                </a:lnTo>
                <a:lnTo>
                  <a:pt x="21488" y="14858"/>
                </a:lnTo>
                <a:lnTo>
                  <a:pt x="21600" y="12416"/>
                </a:lnTo>
                <a:lnTo>
                  <a:pt x="21600" y="9183"/>
                </a:lnTo>
                <a:lnTo>
                  <a:pt x="21488" y="6742"/>
                </a:lnTo>
                <a:lnTo>
                  <a:pt x="21172" y="4549"/>
                </a:lnTo>
                <a:lnTo>
                  <a:pt x="20681" y="2690"/>
                </a:lnTo>
                <a:lnTo>
                  <a:pt x="20047" y="1254"/>
                </a:lnTo>
                <a:lnTo>
                  <a:pt x="19297" y="328"/>
                </a:lnTo>
                <a:lnTo>
                  <a:pt x="18463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7291440" y="6351480"/>
            <a:ext cx="90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ato"/>
              </a:rPr>
              <a:t>UNEC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179280" y="338040"/>
            <a:ext cx="5472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Lato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Line 13"/>
          <p:cNvSpPr/>
          <p:nvPr/>
        </p:nvSpPr>
        <p:spPr>
          <a:xfrm>
            <a:off x="0" y="6851520"/>
            <a:ext cx="9144000" cy="0"/>
          </a:xfrm>
          <a:prstGeom prst="line">
            <a:avLst/>
          </a:prstGeom>
          <a:ln w="1260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1"/>
          <p:cNvSpPr/>
          <p:nvPr/>
        </p:nvSpPr>
        <p:spPr>
          <a:xfrm>
            <a:off x="925560" y="1341360"/>
            <a:ext cx="6740640" cy="39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85760" indent="-146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5760" indent="-146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ext/Object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5760" indent="-146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5760" indent="-146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5760" indent="-146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Strategic Frame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5760" indent="-146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5760" indent="-146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5760" indent="-146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posed Work Programme 2018-201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5760" indent="-146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5760" indent="-146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5760" indent="-146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plementation Strate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5760" indent="-146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5760" indent="-146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Espace réservé du numéro de diapositive 1"/>
          <p:cNvSpPr/>
          <p:nvPr/>
        </p:nvSpPr>
        <p:spPr>
          <a:xfrm>
            <a:off x="8418600" y="6377040"/>
            <a:ext cx="2682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D71F1-C755-43F4-9F07-87352C2FB9A0}" type="slidenum">
              <a:rPr b="0" lang="en-US" sz="1800" spc="-1" strike="noStrike">
                <a:solidFill>
                  <a:srgbClr val="888888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AutoShape 2"/>
          <p:cNvSpPr/>
          <p:nvPr/>
        </p:nvSpPr>
        <p:spPr>
          <a:xfrm>
            <a:off x="15840" y="6213600"/>
            <a:ext cx="7016760" cy="442800"/>
          </a:xfrm>
          <a:custGeom>
            <a:avLst/>
            <a:gdLst>
              <a:gd name="textAreaLeft" fmla="*/ 0 w 7016760"/>
              <a:gd name="textAreaRight" fmla="*/ 7017120 w 701676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21600" h="21600">
                <a:moveTo>
                  <a:pt x="20929" y="0"/>
                </a:moveTo>
                <a:lnTo>
                  <a:pt x="0" y="0"/>
                </a:lnTo>
                <a:lnTo>
                  <a:pt x="0" y="21600"/>
                </a:lnTo>
                <a:lnTo>
                  <a:pt x="20929" y="21600"/>
                </a:lnTo>
                <a:lnTo>
                  <a:pt x="21107" y="21274"/>
                </a:lnTo>
                <a:lnTo>
                  <a:pt x="21268" y="20353"/>
                </a:lnTo>
                <a:lnTo>
                  <a:pt x="21404" y="18924"/>
                </a:lnTo>
                <a:lnTo>
                  <a:pt x="21508" y="17076"/>
                </a:lnTo>
                <a:lnTo>
                  <a:pt x="21576" y="14893"/>
                </a:lnTo>
                <a:lnTo>
                  <a:pt x="21600" y="12465"/>
                </a:lnTo>
                <a:lnTo>
                  <a:pt x="21600" y="9135"/>
                </a:lnTo>
                <a:lnTo>
                  <a:pt x="21576" y="6707"/>
                </a:lnTo>
                <a:lnTo>
                  <a:pt x="21508" y="4524"/>
                </a:lnTo>
                <a:lnTo>
                  <a:pt x="21404" y="2676"/>
                </a:lnTo>
                <a:lnTo>
                  <a:pt x="21268" y="1247"/>
                </a:lnTo>
                <a:lnTo>
                  <a:pt x="21107" y="326"/>
                </a:lnTo>
                <a:lnTo>
                  <a:pt x="20929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20520" y="6308640"/>
            <a:ext cx="722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Proposed Work Programme 2018-2019 |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32nd Meeting of the Intergovernmental Committee of Experts (ICE – Rabat, Morocco, 3-6 October 2017)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AutoShape 4"/>
          <p:cNvSpPr/>
          <p:nvPr/>
        </p:nvSpPr>
        <p:spPr>
          <a:xfrm>
            <a:off x="0" y="0"/>
            <a:ext cx="9131400" cy="684540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6845400"/>
              <a:gd name="textAreaBottom" fmla="*/ 6845760 h 6845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3240">
            <a:solidFill>
              <a:srgbClr val="7b7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AutoShape 5"/>
          <p:cNvSpPr/>
          <p:nvPr/>
        </p:nvSpPr>
        <p:spPr>
          <a:xfrm>
            <a:off x="0" y="0"/>
            <a:ext cx="9131400" cy="684540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6845400"/>
              <a:gd name="textAreaBottom" fmla="*/ 6845760 h 6845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3240">
            <a:solidFill>
              <a:srgbClr val="7b7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0" y="239760"/>
            <a:ext cx="5796000" cy="54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694" y="0"/>
                </a:moveTo>
                <a:lnTo>
                  <a:pt x="115" y="0"/>
                </a:lnTo>
                <a:lnTo>
                  <a:pt x="0" y="157"/>
                </a:lnTo>
                <a:lnTo>
                  <a:pt x="0" y="21443"/>
                </a:lnTo>
                <a:lnTo>
                  <a:pt x="115" y="21600"/>
                </a:lnTo>
                <a:lnTo>
                  <a:pt x="20694" y="21600"/>
                </a:lnTo>
                <a:lnTo>
                  <a:pt x="20935" y="21272"/>
                </a:lnTo>
                <a:lnTo>
                  <a:pt x="21151" y="20346"/>
                </a:lnTo>
                <a:lnTo>
                  <a:pt x="21335" y="18910"/>
                </a:lnTo>
                <a:lnTo>
                  <a:pt x="21476" y="17052"/>
                </a:lnTo>
                <a:lnTo>
                  <a:pt x="21568" y="14858"/>
                </a:lnTo>
                <a:lnTo>
                  <a:pt x="21600" y="12416"/>
                </a:lnTo>
                <a:lnTo>
                  <a:pt x="21600" y="9183"/>
                </a:lnTo>
                <a:lnTo>
                  <a:pt x="21568" y="6742"/>
                </a:lnTo>
                <a:lnTo>
                  <a:pt x="21476" y="4549"/>
                </a:lnTo>
                <a:lnTo>
                  <a:pt x="21335" y="2690"/>
                </a:lnTo>
                <a:lnTo>
                  <a:pt x="21151" y="1254"/>
                </a:lnTo>
                <a:lnTo>
                  <a:pt x="20935" y="328"/>
                </a:lnTo>
                <a:lnTo>
                  <a:pt x="20694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8123400" y="297000"/>
            <a:ext cx="755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385c1"/>
                </a:solidFill>
                <a:latin typeface="Times New Roman"/>
                <a:ea typeface="Times New Roman"/>
              </a:rPr>
              <a:t>CE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7508880" y="284040"/>
            <a:ext cx="573120" cy="4780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AutoShape 9"/>
          <p:cNvSpPr/>
          <p:nvPr/>
        </p:nvSpPr>
        <p:spPr>
          <a:xfrm>
            <a:off x="7066080" y="6199200"/>
            <a:ext cx="1508040" cy="441360"/>
          </a:xfrm>
          <a:custGeom>
            <a:avLst/>
            <a:gdLst>
              <a:gd name="textAreaLeft" fmla="*/ 0 w 1508040"/>
              <a:gd name="textAreaRight" fmla="*/ 1508400 w 150804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21600" h="21600">
                <a:moveTo>
                  <a:pt x="18463" y="0"/>
                </a:moveTo>
                <a:lnTo>
                  <a:pt x="3137" y="0"/>
                </a:lnTo>
                <a:lnTo>
                  <a:pt x="2303" y="328"/>
                </a:lnTo>
                <a:lnTo>
                  <a:pt x="1554" y="1254"/>
                </a:lnTo>
                <a:lnTo>
                  <a:pt x="919" y="2690"/>
                </a:lnTo>
                <a:lnTo>
                  <a:pt x="428" y="4549"/>
                </a:lnTo>
                <a:lnTo>
                  <a:pt x="112" y="6742"/>
                </a:lnTo>
                <a:lnTo>
                  <a:pt x="0" y="9183"/>
                </a:lnTo>
                <a:lnTo>
                  <a:pt x="0" y="12416"/>
                </a:lnTo>
                <a:lnTo>
                  <a:pt x="112" y="14858"/>
                </a:lnTo>
                <a:lnTo>
                  <a:pt x="428" y="17052"/>
                </a:lnTo>
                <a:lnTo>
                  <a:pt x="919" y="18910"/>
                </a:lnTo>
                <a:lnTo>
                  <a:pt x="1554" y="20346"/>
                </a:lnTo>
                <a:lnTo>
                  <a:pt x="2303" y="21272"/>
                </a:lnTo>
                <a:lnTo>
                  <a:pt x="3137" y="21600"/>
                </a:lnTo>
                <a:lnTo>
                  <a:pt x="18463" y="21600"/>
                </a:lnTo>
                <a:lnTo>
                  <a:pt x="19297" y="21272"/>
                </a:lnTo>
                <a:lnTo>
                  <a:pt x="20047" y="20346"/>
                </a:lnTo>
                <a:lnTo>
                  <a:pt x="20681" y="18910"/>
                </a:lnTo>
                <a:lnTo>
                  <a:pt x="21172" y="17052"/>
                </a:lnTo>
                <a:lnTo>
                  <a:pt x="21488" y="14858"/>
                </a:lnTo>
                <a:lnTo>
                  <a:pt x="21600" y="12416"/>
                </a:lnTo>
                <a:lnTo>
                  <a:pt x="21600" y="9183"/>
                </a:lnTo>
                <a:lnTo>
                  <a:pt x="21488" y="6742"/>
                </a:lnTo>
                <a:lnTo>
                  <a:pt x="21172" y="4549"/>
                </a:lnTo>
                <a:lnTo>
                  <a:pt x="20681" y="2690"/>
                </a:lnTo>
                <a:lnTo>
                  <a:pt x="20047" y="1254"/>
                </a:lnTo>
                <a:lnTo>
                  <a:pt x="19297" y="328"/>
                </a:lnTo>
                <a:lnTo>
                  <a:pt x="18463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7342200" y="6316560"/>
            <a:ext cx="90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ato"/>
              </a:rPr>
              <a:t>UNEC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179280" y="338040"/>
            <a:ext cx="5472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Lato"/>
              </a:rPr>
              <a:t>Context/Object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Line 13"/>
          <p:cNvSpPr/>
          <p:nvPr/>
        </p:nvSpPr>
        <p:spPr>
          <a:xfrm>
            <a:off x="0" y="6851520"/>
            <a:ext cx="9144000" cy="0"/>
          </a:xfrm>
          <a:prstGeom prst="line">
            <a:avLst/>
          </a:prstGeom>
          <a:ln w="1260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1"/>
          <p:cNvSpPr/>
          <p:nvPr/>
        </p:nvSpPr>
        <p:spPr>
          <a:xfrm>
            <a:off x="15840" y="808200"/>
            <a:ext cx="8804160" cy="51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85760" indent="-146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overall purpose of the biennial programme plan is t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5760" indent="-146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5760" indent="-146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mote inclusive and sustainable economic and social development in support of accelerating the structural transformation of Afr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5760" indent="-146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5760" indent="-146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5760" indent="-146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propsed WP focus on internationally and regionally agreed development goals, such as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5760" indent="-146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5760" indent="-146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8272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priorities and vision articulated in the Agenda 2063: The Africa We Wa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8272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8272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8272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New Partnership for Africa’s Development (NEPAD) programme of the African Union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5760" indent="-146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Espace réservé du numéro de diapositive 1"/>
          <p:cNvSpPr/>
          <p:nvPr/>
        </p:nvSpPr>
        <p:spPr>
          <a:xfrm>
            <a:off x="8418600" y="6377040"/>
            <a:ext cx="2682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5847A-633C-4FB7-AB85-4D5524863CC5}" type="slidenum">
              <a:rPr b="0" lang="en-US" sz="1800" spc="-1" strike="noStrike">
                <a:solidFill>
                  <a:srgbClr val="888888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2"/>
          <p:cNvSpPr/>
          <p:nvPr/>
        </p:nvSpPr>
        <p:spPr>
          <a:xfrm>
            <a:off x="15840" y="6213600"/>
            <a:ext cx="7016760" cy="442800"/>
          </a:xfrm>
          <a:custGeom>
            <a:avLst/>
            <a:gdLst>
              <a:gd name="textAreaLeft" fmla="*/ 0 w 7016760"/>
              <a:gd name="textAreaRight" fmla="*/ 7017120 w 701676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21600" h="21600">
                <a:moveTo>
                  <a:pt x="20929" y="0"/>
                </a:moveTo>
                <a:lnTo>
                  <a:pt x="0" y="0"/>
                </a:lnTo>
                <a:lnTo>
                  <a:pt x="0" y="21600"/>
                </a:lnTo>
                <a:lnTo>
                  <a:pt x="20929" y="21600"/>
                </a:lnTo>
                <a:lnTo>
                  <a:pt x="21107" y="21274"/>
                </a:lnTo>
                <a:lnTo>
                  <a:pt x="21268" y="20353"/>
                </a:lnTo>
                <a:lnTo>
                  <a:pt x="21404" y="18924"/>
                </a:lnTo>
                <a:lnTo>
                  <a:pt x="21508" y="17076"/>
                </a:lnTo>
                <a:lnTo>
                  <a:pt x="21576" y="14893"/>
                </a:lnTo>
                <a:lnTo>
                  <a:pt x="21600" y="12465"/>
                </a:lnTo>
                <a:lnTo>
                  <a:pt x="21600" y="9135"/>
                </a:lnTo>
                <a:lnTo>
                  <a:pt x="21576" y="6707"/>
                </a:lnTo>
                <a:lnTo>
                  <a:pt x="21508" y="4524"/>
                </a:lnTo>
                <a:lnTo>
                  <a:pt x="21404" y="2676"/>
                </a:lnTo>
                <a:lnTo>
                  <a:pt x="21268" y="1247"/>
                </a:lnTo>
                <a:lnTo>
                  <a:pt x="21107" y="326"/>
                </a:lnTo>
                <a:lnTo>
                  <a:pt x="20929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0520" y="6308640"/>
            <a:ext cx="722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Proposed Work Programme 2018-2019 |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32nd Meeting of the Intergovernmental Committee of Experts (ICE – Rabat, Morocco, 3-6 October 2017)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0" y="0"/>
            <a:ext cx="9131400" cy="684540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6845400"/>
              <a:gd name="textAreaBottom" fmla="*/ 6845760 h 6845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3240">
            <a:solidFill>
              <a:srgbClr val="7b7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0" y="0"/>
            <a:ext cx="9131400" cy="684540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6845400"/>
              <a:gd name="textAreaBottom" fmla="*/ 6845760 h 6845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3240">
            <a:solidFill>
              <a:srgbClr val="7b7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0" y="239760"/>
            <a:ext cx="5796000" cy="54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694" y="0"/>
                </a:moveTo>
                <a:lnTo>
                  <a:pt x="115" y="0"/>
                </a:lnTo>
                <a:lnTo>
                  <a:pt x="0" y="157"/>
                </a:lnTo>
                <a:lnTo>
                  <a:pt x="0" y="21443"/>
                </a:lnTo>
                <a:lnTo>
                  <a:pt x="115" y="21600"/>
                </a:lnTo>
                <a:lnTo>
                  <a:pt x="20694" y="21600"/>
                </a:lnTo>
                <a:lnTo>
                  <a:pt x="20935" y="21272"/>
                </a:lnTo>
                <a:lnTo>
                  <a:pt x="21151" y="20346"/>
                </a:lnTo>
                <a:lnTo>
                  <a:pt x="21335" y="18910"/>
                </a:lnTo>
                <a:lnTo>
                  <a:pt x="21476" y="17052"/>
                </a:lnTo>
                <a:lnTo>
                  <a:pt x="21568" y="14858"/>
                </a:lnTo>
                <a:lnTo>
                  <a:pt x="21600" y="12416"/>
                </a:lnTo>
                <a:lnTo>
                  <a:pt x="21600" y="9183"/>
                </a:lnTo>
                <a:lnTo>
                  <a:pt x="21568" y="6742"/>
                </a:lnTo>
                <a:lnTo>
                  <a:pt x="21476" y="4549"/>
                </a:lnTo>
                <a:lnTo>
                  <a:pt x="21335" y="2690"/>
                </a:lnTo>
                <a:lnTo>
                  <a:pt x="21151" y="1254"/>
                </a:lnTo>
                <a:lnTo>
                  <a:pt x="20935" y="328"/>
                </a:lnTo>
                <a:lnTo>
                  <a:pt x="20694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8123400" y="297000"/>
            <a:ext cx="755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385c1"/>
                </a:solidFill>
                <a:latin typeface="Times New Roman"/>
                <a:ea typeface="Times New Roman"/>
              </a:rPr>
              <a:t>CE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7508880" y="284040"/>
            <a:ext cx="573120" cy="4780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AutoShape 9"/>
          <p:cNvSpPr/>
          <p:nvPr/>
        </p:nvSpPr>
        <p:spPr>
          <a:xfrm>
            <a:off x="7164360" y="6199200"/>
            <a:ext cx="1409760" cy="441360"/>
          </a:xfrm>
          <a:custGeom>
            <a:avLst/>
            <a:gdLst>
              <a:gd name="textAreaLeft" fmla="*/ 0 w 1409760"/>
              <a:gd name="textAreaRight" fmla="*/ 1410120 w 140976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21600" h="21600">
                <a:moveTo>
                  <a:pt x="18463" y="0"/>
                </a:moveTo>
                <a:lnTo>
                  <a:pt x="3137" y="0"/>
                </a:lnTo>
                <a:lnTo>
                  <a:pt x="2303" y="328"/>
                </a:lnTo>
                <a:lnTo>
                  <a:pt x="1554" y="1254"/>
                </a:lnTo>
                <a:lnTo>
                  <a:pt x="919" y="2690"/>
                </a:lnTo>
                <a:lnTo>
                  <a:pt x="428" y="4549"/>
                </a:lnTo>
                <a:lnTo>
                  <a:pt x="112" y="6742"/>
                </a:lnTo>
                <a:lnTo>
                  <a:pt x="0" y="9183"/>
                </a:lnTo>
                <a:lnTo>
                  <a:pt x="0" y="12416"/>
                </a:lnTo>
                <a:lnTo>
                  <a:pt x="112" y="14858"/>
                </a:lnTo>
                <a:lnTo>
                  <a:pt x="428" y="17052"/>
                </a:lnTo>
                <a:lnTo>
                  <a:pt x="919" y="18910"/>
                </a:lnTo>
                <a:lnTo>
                  <a:pt x="1554" y="20346"/>
                </a:lnTo>
                <a:lnTo>
                  <a:pt x="2303" y="21272"/>
                </a:lnTo>
                <a:lnTo>
                  <a:pt x="3137" y="21600"/>
                </a:lnTo>
                <a:lnTo>
                  <a:pt x="18463" y="21600"/>
                </a:lnTo>
                <a:lnTo>
                  <a:pt x="19297" y="21272"/>
                </a:lnTo>
                <a:lnTo>
                  <a:pt x="20047" y="20346"/>
                </a:lnTo>
                <a:lnTo>
                  <a:pt x="20681" y="18910"/>
                </a:lnTo>
                <a:lnTo>
                  <a:pt x="21172" y="17052"/>
                </a:lnTo>
                <a:lnTo>
                  <a:pt x="21488" y="14858"/>
                </a:lnTo>
                <a:lnTo>
                  <a:pt x="21600" y="12416"/>
                </a:lnTo>
                <a:lnTo>
                  <a:pt x="21600" y="9183"/>
                </a:lnTo>
                <a:lnTo>
                  <a:pt x="21488" y="6742"/>
                </a:lnTo>
                <a:lnTo>
                  <a:pt x="21172" y="4549"/>
                </a:lnTo>
                <a:lnTo>
                  <a:pt x="20681" y="2690"/>
                </a:lnTo>
                <a:lnTo>
                  <a:pt x="20047" y="1254"/>
                </a:lnTo>
                <a:lnTo>
                  <a:pt x="19297" y="328"/>
                </a:lnTo>
                <a:lnTo>
                  <a:pt x="18463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7378560" y="6338880"/>
            <a:ext cx="908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ato"/>
              </a:rPr>
              <a:t>UNEC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179280" y="338040"/>
            <a:ext cx="5472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Lato"/>
              </a:rPr>
              <a:t>Context/Objectives (Continued</a:t>
            </a:r>
            <a:r>
              <a:rPr b="1" lang="en-US" sz="1400" spc="-1" strike="noStrike">
                <a:solidFill>
                  <a:srgbClr val="ffffff"/>
                </a:solidFill>
                <a:latin typeface="Lato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Line 13"/>
          <p:cNvSpPr/>
          <p:nvPr/>
        </p:nvSpPr>
        <p:spPr>
          <a:xfrm>
            <a:off x="0" y="6851520"/>
            <a:ext cx="9144000" cy="0"/>
          </a:xfrm>
          <a:prstGeom prst="line">
            <a:avLst/>
          </a:prstGeom>
          <a:ln w="1260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1"/>
          <p:cNvSpPr/>
          <p:nvPr/>
        </p:nvSpPr>
        <p:spPr>
          <a:xfrm>
            <a:off x="250920" y="1484280"/>
            <a:ext cx="8713800" cy="36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85760" indent="-146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5760" indent="-146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8272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2030 Agenda for Sustainable Development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8272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8272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8272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Addis Ababa Action Agenda of the Third International Conference on Financing for Developmen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8272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8272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8272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outcomes of other major United Nations conferences and international agreements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oncluded since 199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5760" indent="-146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Espace réservé du numéro de diapositive 1"/>
          <p:cNvSpPr/>
          <p:nvPr/>
        </p:nvSpPr>
        <p:spPr>
          <a:xfrm>
            <a:off x="8418600" y="6377040"/>
            <a:ext cx="2682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48E8D-7D2D-459F-8FA6-DE47EEE8A85B}" type="slidenum">
              <a:rPr b="0" lang="en-US" sz="1800" spc="-1" strike="noStrike">
                <a:solidFill>
                  <a:srgbClr val="888888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2"/>
          <p:cNvSpPr/>
          <p:nvPr/>
        </p:nvSpPr>
        <p:spPr>
          <a:xfrm>
            <a:off x="15840" y="6213600"/>
            <a:ext cx="6921360" cy="442800"/>
          </a:xfrm>
          <a:custGeom>
            <a:avLst/>
            <a:gdLst>
              <a:gd name="textAreaLeft" fmla="*/ 0 w 6921360"/>
              <a:gd name="textAreaRight" fmla="*/ 6921720 w 692136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21600" h="21600">
                <a:moveTo>
                  <a:pt x="20929" y="0"/>
                </a:moveTo>
                <a:lnTo>
                  <a:pt x="0" y="0"/>
                </a:lnTo>
                <a:lnTo>
                  <a:pt x="0" y="21600"/>
                </a:lnTo>
                <a:lnTo>
                  <a:pt x="20929" y="21600"/>
                </a:lnTo>
                <a:lnTo>
                  <a:pt x="21107" y="21274"/>
                </a:lnTo>
                <a:lnTo>
                  <a:pt x="21268" y="20353"/>
                </a:lnTo>
                <a:lnTo>
                  <a:pt x="21404" y="18924"/>
                </a:lnTo>
                <a:lnTo>
                  <a:pt x="21508" y="17076"/>
                </a:lnTo>
                <a:lnTo>
                  <a:pt x="21576" y="14893"/>
                </a:lnTo>
                <a:lnTo>
                  <a:pt x="21600" y="12465"/>
                </a:lnTo>
                <a:lnTo>
                  <a:pt x="21600" y="9135"/>
                </a:lnTo>
                <a:lnTo>
                  <a:pt x="21576" y="6707"/>
                </a:lnTo>
                <a:lnTo>
                  <a:pt x="21508" y="4524"/>
                </a:lnTo>
                <a:lnTo>
                  <a:pt x="21404" y="2676"/>
                </a:lnTo>
                <a:lnTo>
                  <a:pt x="21268" y="1247"/>
                </a:lnTo>
                <a:lnTo>
                  <a:pt x="21107" y="326"/>
                </a:lnTo>
                <a:lnTo>
                  <a:pt x="20929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20520" y="6308640"/>
            <a:ext cx="702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Proposed Work Programme 2018-2019 |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32nd Meeting of the Intergovernmental Committee of Experts (ICE – Rabat, Morocco, 3-6 October 2017)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0" y="0"/>
            <a:ext cx="9131400" cy="684540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6845400"/>
              <a:gd name="textAreaBottom" fmla="*/ 6845760 h 6845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3240">
            <a:solidFill>
              <a:srgbClr val="7b7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0" y="0"/>
            <a:ext cx="9131400" cy="684540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6845400"/>
              <a:gd name="textAreaBottom" fmla="*/ 6845760 h 6845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3240">
            <a:solidFill>
              <a:srgbClr val="7b7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AutoShape 6"/>
          <p:cNvSpPr/>
          <p:nvPr/>
        </p:nvSpPr>
        <p:spPr>
          <a:xfrm>
            <a:off x="0" y="239760"/>
            <a:ext cx="5796000" cy="54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694" y="0"/>
                </a:moveTo>
                <a:lnTo>
                  <a:pt x="115" y="0"/>
                </a:lnTo>
                <a:lnTo>
                  <a:pt x="0" y="157"/>
                </a:lnTo>
                <a:lnTo>
                  <a:pt x="0" y="21443"/>
                </a:lnTo>
                <a:lnTo>
                  <a:pt x="115" y="21600"/>
                </a:lnTo>
                <a:lnTo>
                  <a:pt x="20694" y="21600"/>
                </a:lnTo>
                <a:lnTo>
                  <a:pt x="20935" y="21272"/>
                </a:lnTo>
                <a:lnTo>
                  <a:pt x="21151" y="20346"/>
                </a:lnTo>
                <a:lnTo>
                  <a:pt x="21335" y="18910"/>
                </a:lnTo>
                <a:lnTo>
                  <a:pt x="21476" y="17052"/>
                </a:lnTo>
                <a:lnTo>
                  <a:pt x="21568" y="14858"/>
                </a:lnTo>
                <a:lnTo>
                  <a:pt x="21600" y="12416"/>
                </a:lnTo>
                <a:lnTo>
                  <a:pt x="21600" y="9183"/>
                </a:lnTo>
                <a:lnTo>
                  <a:pt x="21568" y="6742"/>
                </a:lnTo>
                <a:lnTo>
                  <a:pt x="21476" y="4549"/>
                </a:lnTo>
                <a:lnTo>
                  <a:pt x="21335" y="2690"/>
                </a:lnTo>
                <a:lnTo>
                  <a:pt x="21151" y="1254"/>
                </a:lnTo>
                <a:lnTo>
                  <a:pt x="20935" y="328"/>
                </a:lnTo>
                <a:lnTo>
                  <a:pt x="20694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8123400" y="297000"/>
            <a:ext cx="755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385c1"/>
                </a:solidFill>
                <a:latin typeface="Times New Roman"/>
                <a:ea typeface="Times New Roman"/>
              </a:rPr>
              <a:t>CE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7508880" y="284040"/>
            <a:ext cx="573120" cy="4780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AutoShape 9"/>
          <p:cNvSpPr/>
          <p:nvPr/>
        </p:nvSpPr>
        <p:spPr>
          <a:xfrm>
            <a:off x="7080120" y="6199200"/>
            <a:ext cx="1494000" cy="441360"/>
          </a:xfrm>
          <a:custGeom>
            <a:avLst/>
            <a:gdLst>
              <a:gd name="textAreaLeft" fmla="*/ 0 w 1494000"/>
              <a:gd name="textAreaRight" fmla="*/ 1494360 w 149400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21600" h="21600">
                <a:moveTo>
                  <a:pt x="18463" y="0"/>
                </a:moveTo>
                <a:lnTo>
                  <a:pt x="3137" y="0"/>
                </a:lnTo>
                <a:lnTo>
                  <a:pt x="2303" y="328"/>
                </a:lnTo>
                <a:lnTo>
                  <a:pt x="1554" y="1254"/>
                </a:lnTo>
                <a:lnTo>
                  <a:pt x="919" y="2690"/>
                </a:lnTo>
                <a:lnTo>
                  <a:pt x="428" y="4549"/>
                </a:lnTo>
                <a:lnTo>
                  <a:pt x="112" y="6742"/>
                </a:lnTo>
                <a:lnTo>
                  <a:pt x="0" y="9183"/>
                </a:lnTo>
                <a:lnTo>
                  <a:pt x="0" y="12416"/>
                </a:lnTo>
                <a:lnTo>
                  <a:pt x="112" y="14858"/>
                </a:lnTo>
                <a:lnTo>
                  <a:pt x="428" y="17052"/>
                </a:lnTo>
                <a:lnTo>
                  <a:pt x="919" y="18910"/>
                </a:lnTo>
                <a:lnTo>
                  <a:pt x="1554" y="20346"/>
                </a:lnTo>
                <a:lnTo>
                  <a:pt x="2303" y="21272"/>
                </a:lnTo>
                <a:lnTo>
                  <a:pt x="3137" y="21600"/>
                </a:lnTo>
                <a:lnTo>
                  <a:pt x="18463" y="21600"/>
                </a:lnTo>
                <a:lnTo>
                  <a:pt x="19297" y="21272"/>
                </a:lnTo>
                <a:lnTo>
                  <a:pt x="20047" y="20346"/>
                </a:lnTo>
                <a:lnTo>
                  <a:pt x="20681" y="18910"/>
                </a:lnTo>
                <a:lnTo>
                  <a:pt x="21172" y="17052"/>
                </a:lnTo>
                <a:lnTo>
                  <a:pt x="21488" y="14858"/>
                </a:lnTo>
                <a:lnTo>
                  <a:pt x="21600" y="12416"/>
                </a:lnTo>
                <a:lnTo>
                  <a:pt x="21600" y="9183"/>
                </a:lnTo>
                <a:lnTo>
                  <a:pt x="21488" y="6742"/>
                </a:lnTo>
                <a:lnTo>
                  <a:pt x="21172" y="4549"/>
                </a:lnTo>
                <a:lnTo>
                  <a:pt x="20681" y="2690"/>
                </a:lnTo>
                <a:lnTo>
                  <a:pt x="20047" y="1254"/>
                </a:lnTo>
                <a:lnTo>
                  <a:pt x="19297" y="328"/>
                </a:lnTo>
                <a:lnTo>
                  <a:pt x="18463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7296120" y="6338880"/>
            <a:ext cx="90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ato"/>
              </a:rPr>
              <a:t>UNEC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179280" y="338040"/>
            <a:ext cx="54723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Lato"/>
              </a:rPr>
              <a:t>Strategic Frame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Line 13"/>
          <p:cNvSpPr/>
          <p:nvPr/>
        </p:nvSpPr>
        <p:spPr>
          <a:xfrm>
            <a:off x="0" y="6851520"/>
            <a:ext cx="9144000" cy="0"/>
          </a:xfrm>
          <a:prstGeom prst="line">
            <a:avLst/>
          </a:prstGeom>
          <a:ln w="1260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1"/>
          <p:cNvSpPr/>
          <p:nvPr/>
        </p:nvSpPr>
        <p:spPr>
          <a:xfrm>
            <a:off x="179280" y="884160"/>
            <a:ext cx="748836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826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6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6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strategic framework developed is to support Agenda 2063 and its first 10 years implementation plan, the 2030 Agenda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6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6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overall goals of the sub regional proposed WP will be boosting intra-African cooperation and tra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6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6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epening regional integration in North Afric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6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6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rengthening capacity of Member States  to ensure coherence, consistency and coordination across the development goa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6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6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rengthening the statistical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6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Espace réservé du numéro de diapositive 1"/>
          <p:cNvSpPr/>
          <p:nvPr/>
        </p:nvSpPr>
        <p:spPr>
          <a:xfrm>
            <a:off x="8418600" y="6377040"/>
            <a:ext cx="2682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984D2-E36F-48C8-9394-7022CE3FC0E9}" type="slidenum">
              <a:rPr b="0" lang="en-US" sz="1800" spc="-1" strike="noStrike">
                <a:solidFill>
                  <a:srgbClr val="888888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2"/>
          <p:cNvSpPr/>
          <p:nvPr/>
        </p:nvSpPr>
        <p:spPr>
          <a:xfrm>
            <a:off x="15840" y="6143760"/>
            <a:ext cx="7007400" cy="442800"/>
          </a:xfrm>
          <a:custGeom>
            <a:avLst/>
            <a:gdLst>
              <a:gd name="textAreaLeft" fmla="*/ 0 w 7007400"/>
              <a:gd name="textAreaRight" fmla="*/ 7007760 w 700740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21600" h="21600">
                <a:moveTo>
                  <a:pt x="20929" y="0"/>
                </a:moveTo>
                <a:lnTo>
                  <a:pt x="0" y="0"/>
                </a:lnTo>
                <a:lnTo>
                  <a:pt x="0" y="21600"/>
                </a:lnTo>
                <a:lnTo>
                  <a:pt x="20929" y="21600"/>
                </a:lnTo>
                <a:lnTo>
                  <a:pt x="21107" y="21274"/>
                </a:lnTo>
                <a:lnTo>
                  <a:pt x="21268" y="20353"/>
                </a:lnTo>
                <a:lnTo>
                  <a:pt x="21404" y="18924"/>
                </a:lnTo>
                <a:lnTo>
                  <a:pt x="21508" y="17076"/>
                </a:lnTo>
                <a:lnTo>
                  <a:pt x="21576" y="14893"/>
                </a:lnTo>
                <a:lnTo>
                  <a:pt x="21600" y="12465"/>
                </a:lnTo>
                <a:lnTo>
                  <a:pt x="21600" y="9135"/>
                </a:lnTo>
                <a:lnTo>
                  <a:pt x="21576" y="6707"/>
                </a:lnTo>
                <a:lnTo>
                  <a:pt x="21508" y="4524"/>
                </a:lnTo>
                <a:lnTo>
                  <a:pt x="21404" y="2676"/>
                </a:lnTo>
                <a:lnTo>
                  <a:pt x="21268" y="1247"/>
                </a:lnTo>
                <a:lnTo>
                  <a:pt x="21107" y="326"/>
                </a:lnTo>
                <a:lnTo>
                  <a:pt x="20929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69840" y="6318360"/>
            <a:ext cx="6969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Proposed Work Programme 2018-2019 |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32nd Meeting of the Intergovernmental Committee of Experts (ICE – Rabat, Morocco, 3-6 October 2017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0" y="0"/>
            <a:ext cx="9131400" cy="684540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6845400"/>
              <a:gd name="textAreaBottom" fmla="*/ 6845760 h 6845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3240">
            <a:solidFill>
              <a:srgbClr val="7b7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0" y="39600"/>
            <a:ext cx="9131400" cy="684540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6845400"/>
              <a:gd name="textAreaBottom" fmla="*/ 6845760 h 6845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3240">
            <a:solidFill>
              <a:srgbClr val="7b7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0" y="290520"/>
            <a:ext cx="5867280" cy="546120"/>
          </a:xfrm>
          <a:custGeom>
            <a:avLst/>
            <a:gdLst>
              <a:gd name="textAreaLeft" fmla="*/ 0 w 5867280"/>
              <a:gd name="textAreaRight" fmla="*/ 5867640 w 5867280"/>
              <a:gd name="textAreaTop" fmla="*/ 0 h 546120"/>
              <a:gd name="textAreaBottom" fmla="*/ 546120 h 546120"/>
            </a:gdLst>
            <a:ahLst/>
            <a:rect l="textAreaLeft" t="textAreaTop" r="textAreaRight" b="textAreaBottom"/>
            <a:pathLst>
              <a:path w="21600" h="21600">
                <a:moveTo>
                  <a:pt x="20694" y="0"/>
                </a:moveTo>
                <a:lnTo>
                  <a:pt x="115" y="0"/>
                </a:lnTo>
                <a:lnTo>
                  <a:pt x="0" y="157"/>
                </a:lnTo>
                <a:lnTo>
                  <a:pt x="0" y="21443"/>
                </a:lnTo>
                <a:lnTo>
                  <a:pt x="115" y="21600"/>
                </a:lnTo>
                <a:lnTo>
                  <a:pt x="20694" y="21600"/>
                </a:lnTo>
                <a:lnTo>
                  <a:pt x="20935" y="21272"/>
                </a:lnTo>
                <a:lnTo>
                  <a:pt x="21151" y="20346"/>
                </a:lnTo>
                <a:lnTo>
                  <a:pt x="21335" y="18910"/>
                </a:lnTo>
                <a:lnTo>
                  <a:pt x="21476" y="17052"/>
                </a:lnTo>
                <a:lnTo>
                  <a:pt x="21568" y="14858"/>
                </a:lnTo>
                <a:lnTo>
                  <a:pt x="21600" y="12416"/>
                </a:lnTo>
                <a:lnTo>
                  <a:pt x="21600" y="9183"/>
                </a:lnTo>
                <a:lnTo>
                  <a:pt x="21568" y="6742"/>
                </a:lnTo>
                <a:lnTo>
                  <a:pt x="21476" y="4549"/>
                </a:lnTo>
                <a:lnTo>
                  <a:pt x="21335" y="2690"/>
                </a:lnTo>
                <a:lnTo>
                  <a:pt x="21151" y="1254"/>
                </a:lnTo>
                <a:lnTo>
                  <a:pt x="20935" y="328"/>
                </a:lnTo>
                <a:lnTo>
                  <a:pt x="20694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8123400" y="297000"/>
            <a:ext cx="755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385c1"/>
                </a:solidFill>
                <a:latin typeface="Times New Roman"/>
                <a:ea typeface="Times New Roman"/>
              </a:rPr>
              <a:t>CE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7508880" y="284040"/>
            <a:ext cx="573120" cy="4780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7093080" y="6122880"/>
            <a:ext cx="1407960" cy="441360"/>
          </a:xfrm>
          <a:custGeom>
            <a:avLst/>
            <a:gdLst>
              <a:gd name="textAreaLeft" fmla="*/ 0 w 1407960"/>
              <a:gd name="textAreaRight" fmla="*/ 1408320 w 140796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21600" h="21600">
                <a:moveTo>
                  <a:pt x="18463" y="0"/>
                </a:moveTo>
                <a:lnTo>
                  <a:pt x="3137" y="0"/>
                </a:lnTo>
                <a:lnTo>
                  <a:pt x="2303" y="328"/>
                </a:lnTo>
                <a:lnTo>
                  <a:pt x="1554" y="1254"/>
                </a:lnTo>
                <a:lnTo>
                  <a:pt x="919" y="2690"/>
                </a:lnTo>
                <a:lnTo>
                  <a:pt x="428" y="4549"/>
                </a:lnTo>
                <a:lnTo>
                  <a:pt x="112" y="6742"/>
                </a:lnTo>
                <a:lnTo>
                  <a:pt x="0" y="9183"/>
                </a:lnTo>
                <a:lnTo>
                  <a:pt x="0" y="12416"/>
                </a:lnTo>
                <a:lnTo>
                  <a:pt x="112" y="14858"/>
                </a:lnTo>
                <a:lnTo>
                  <a:pt x="428" y="17052"/>
                </a:lnTo>
                <a:lnTo>
                  <a:pt x="919" y="18910"/>
                </a:lnTo>
                <a:lnTo>
                  <a:pt x="1554" y="20346"/>
                </a:lnTo>
                <a:lnTo>
                  <a:pt x="2303" y="21272"/>
                </a:lnTo>
                <a:lnTo>
                  <a:pt x="3137" y="21600"/>
                </a:lnTo>
                <a:lnTo>
                  <a:pt x="18463" y="21600"/>
                </a:lnTo>
                <a:lnTo>
                  <a:pt x="19297" y="21272"/>
                </a:lnTo>
                <a:lnTo>
                  <a:pt x="20047" y="20346"/>
                </a:lnTo>
                <a:lnTo>
                  <a:pt x="20681" y="18910"/>
                </a:lnTo>
                <a:lnTo>
                  <a:pt x="21172" y="17052"/>
                </a:lnTo>
                <a:lnTo>
                  <a:pt x="21488" y="14858"/>
                </a:lnTo>
                <a:lnTo>
                  <a:pt x="21600" y="12416"/>
                </a:lnTo>
                <a:lnTo>
                  <a:pt x="21600" y="9183"/>
                </a:lnTo>
                <a:lnTo>
                  <a:pt x="21488" y="6742"/>
                </a:lnTo>
                <a:lnTo>
                  <a:pt x="21172" y="4549"/>
                </a:lnTo>
                <a:lnTo>
                  <a:pt x="20681" y="2690"/>
                </a:lnTo>
                <a:lnTo>
                  <a:pt x="20047" y="1254"/>
                </a:lnTo>
                <a:lnTo>
                  <a:pt x="19297" y="328"/>
                </a:lnTo>
                <a:lnTo>
                  <a:pt x="18463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7251840" y="6272280"/>
            <a:ext cx="119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ato"/>
              </a:rPr>
              <a:t>UNEC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279360" y="338040"/>
            <a:ext cx="5445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Lato"/>
              </a:rPr>
              <a:t>Proposed Work Programme 2018-201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Line 13"/>
          <p:cNvSpPr/>
          <p:nvPr/>
        </p:nvSpPr>
        <p:spPr>
          <a:xfrm>
            <a:off x="0" y="6851520"/>
            <a:ext cx="9144000" cy="0"/>
          </a:xfrm>
          <a:prstGeom prst="line">
            <a:avLst/>
          </a:prstGeom>
          <a:ln w="1260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1"/>
          <p:cNvSpPr/>
          <p:nvPr/>
        </p:nvSpPr>
        <p:spPr>
          <a:xfrm>
            <a:off x="611280" y="884160"/>
            <a:ext cx="7959600" cy="51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826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Meeting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6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3996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MS PGothic"/>
              </a:rPr>
              <a:t>Intergovernmental Committee of Expe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3996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3996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Ad-hoc Expert Group Meeting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3992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Data revolution in North Africa: putting data in support of structural trans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3992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MS PGothic"/>
              </a:rPr>
              <a:t>Institutional quality and structural trans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3992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Deepening regional integration in North Africa through electronic exchange of customs in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3992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Climate risk management: status and best practices in North Afr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3992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3996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MS PGothic"/>
              </a:rPr>
              <a:t>North African Development Foru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6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3996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Consultative meetings in support to RCM activiti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6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Espace réservé du numéro de diapositive 1"/>
          <p:cNvSpPr/>
          <p:nvPr/>
        </p:nvSpPr>
        <p:spPr>
          <a:xfrm>
            <a:off x="8418600" y="6377040"/>
            <a:ext cx="2682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AC7B6-9AE6-4DF9-99EC-BD62B0F25CC3}" type="slidenum">
              <a:rPr b="0" lang="en-US" sz="1800" spc="-1" strike="noStrike">
                <a:solidFill>
                  <a:srgbClr val="888888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0" y="6135840"/>
            <a:ext cx="7005600" cy="442800"/>
          </a:xfrm>
          <a:custGeom>
            <a:avLst/>
            <a:gdLst>
              <a:gd name="textAreaLeft" fmla="*/ 0 w 7005600"/>
              <a:gd name="textAreaRight" fmla="*/ 7005960 w 700560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21600" h="21600">
                <a:moveTo>
                  <a:pt x="20929" y="0"/>
                </a:moveTo>
                <a:lnTo>
                  <a:pt x="0" y="0"/>
                </a:lnTo>
                <a:lnTo>
                  <a:pt x="0" y="21600"/>
                </a:lnTo>
                <a:lnTo>
                  <a:pt x="20929" y="21600"/>
                </a:lnTo>
                <a:lnTo>
                  <a:pt x="21107" y="21274"/>
                </a:lnTo>
                <a:lnTo>
                  <a:pt x="21268" y="20353"/>
                </a:lnTo>
                <a:lnTo>
                  <a:pt x="21404" y="18924"/>
                </a:lnTo>
                <a:lnTo>
                  <a:pt x="21508" y="17076"/>
                </a:lnTo>
                <a:lnTo>
                  <a:pt x="21576" y="14893"/>
                </a:lnTo>
                <a:lnTo>
                  <a:pt x="21600" y="12465"/>
                </a:lnTo>
                <a:lnTo>
                  <a:pt x="21600" y="9135"/>
                </a:lnTo>
                <a:lnTo>
                  <a:pt x="21576" y="6707"/>
                </a:lnTo>
                <a:lnTo>
                  <a:pt x="21508" y="4524"/>
                </a:lnTo>
                <a:lnTo>
                  <a:pt x="21404" y="2676"/>
                </a:lnTo>
                <a:lnTo>
                  <a:pt x="21268" y="1247"/>
                </a:lnTo>
                <a:lnTo>
                  <a:pt x="21107" y="326"/>
                </a:lnTo>
                <a:lnTo>
                  <a:pt x="20929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108000" y="6308640"/>
            <a:ext cx="7016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Proposed Work Programme 2018-2019 |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32nd Meeting of the Intergovernmental Committee of Experts (ICE – Rabat, Morocco, 3-6 October 2017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0" y="0"/>
            <a:ext cx="9131400" cy="684540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6845400"/>
              <a:gd name="textAreaBottom" fmla="*/ 6845760 h 6845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3240">
            <a:solidFill>
              <a:srgbClr val="7b7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0" y="39600"/>
            <a:ext cx="9131400" cy="684540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6845400"/>
              <a:gd name="textAreaBottom" fmla="*/ 6845760 h 6845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3240">
            <a:solidFill>
              <a:srgbClr val="7b7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AutoShape 6"/>
          <p:cNvSpPr/>
          <p:nvPr/>
        </p:nvSpPr>
        <p:spPr>
          <a:xfrm>
            <a:off x="0" y="290520"/>
            <a:ext cx="5867280" cy="5461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 fontScale="90000"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ato"/>
              </a:rPr>
              <a:t>Proposed Work Programme 2018-2019 (Continue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8123400" y="297000"/>
            <a:ext cx="755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385c1"/>
                </a:solidFill>
                <a:latin typeface="Times New Roman"/>
                <a:ea typeface="Times New Roman"/>
              </a:rPr>
              <a:t>CE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7508880" y="284040"/>
            <a:ext cx="573120" cy="4780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AutoShape 9"/>
          <p:cNvSpPr/>
          <p:nvPr/>
        </p:nvSpPr>
        <p:spPr>
          <a:xfrm>
            <a:off x="7174080" y="6135840"/>
            <a:ext cx="1292040" cy="441000"/>
          </a:xfrm>
          <a:custGeom>
            <a:avLst/>
            <a:gdLst>
              <a:gd name="textAreaLeft" fmla="*/ 0 w 1292040"/>
              <a:gd name="textAreaRight" fmla="*/ 1292400 w 1292040"/>
              <a:gd name="textAreaTop" fmla="*/ 0 h 441000"/>
              <a:gd name="textAreaBottom" fmla="*/ 441360 h 441000"/>
            </a:gdLst>
            <a:ahLst/>
            <a:rect l="textAreaLeft" t="textAreaTop" r="textAreaRight" b="textAreaBottom"/>
            <a:pathLst>
              <a:path w="21600" h="21600">
                <a:moveTo>
                  <a:pt x="18463" y="0"/>
                </a:moveTo>
                <a:lnTo>
                  <a:pt x="3137" y="0"/>
                </a:lnTo>
                <a:lnTo>
                  <a:pt x="2303" y="328"/>
                </a:lnTo>
                <a:lnTo>
                  <a:pt x="1554" y="1254"/>
                </a:lnTo>
                <a:lnTo>
                  <a:pt x="919" y="2690"/>
                </a:lnTo>
                <a:lnTo>
                  <a:pt x="428" y="4549"/>
                </a:lnTo>
                <a:lnTo>
                  <a:pt x="112" y="6742"/>
                </a:lnTo>
                <a:lnTo>
                  <a:pt x="0" y="9183"/>
                </a:lnTo>
                <a:lnTo>
                  <a:pt x="0" y="12416"/>
                </a:lnTo>
                <a:lnTo>
                  <a:pt x="112" y="14858"/>
                </a:lnTo>
                <a:lnTo>
                  <a:pt x="428" y="17052"/>
                </a:lnTo>
                <a:lnTo>
                  <a:pt x="919" y="18910"/>
                </a:lnTo>
                <a:lnTo>
                  <a:pt x="1554" y="20346"/>
                </a:lnTo>
                <a:lnTo>
                  <a:pt x="2303" y="21272"/>
                </a:lnTo>
                <a:lnTo>
                  <a:pt x="3137" y="21600"/>
                </a:lnTo>
                <a:lnTo>
                  <a:pt x="18463" y="21600"/>
                </a:lnTo>
                <a:lnTo>
                  <a:pt x="19297" y="21272"/>
                </a:lnTo>
                <a:lnTo>
                  <a:pt x="20047" y="20346"/>
                </a:lnTo>
                <a:lnTo>
                  <a:pt x="20681" y="18910"/>
                </a:lnTo>
                <a:lnTo>
                  <a:pt x="21172" y="17052"/>
                </a:lnTo>
                <a:lnTo>
                  <a:pt x="21488" y="14858"/>
                </a:lnTo>
                <a:lnTo>
                  <a:pt x="21600" y="12416"/>
                </a:lnTo>
                <a:lnTo>
                  <a:pt x="21600" y="9183"/>
                </a:lnTo>
                <a:lnTo>
                  <a:pt x="21488" y="6742"/>
                </a:lnTo>
                <a:lnTo>
                  <a:pt x="21172" y="4549"/>
                </a:lnTo>
                <a:lnTo>
                  <a:pt x="20681" y="2690"/>
                </a:lnTo>
                <a:lnTo>
                  <a:pt x="20047" y="1254"/>
                </a:lnTo>
                <a:lnTo>
                  <a:pt x="19297" y="328"/>
                </a:lnTo>
                <a:lnTo>
                  <a:pt x="18463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7299360" y="6281640"/>
            <a:ext cx="90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ato"/>
              </a:rPr>
              <a:t>UNEC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Line 13"/>
          <p:cNvSpPr/>
          <p:nvPr/>
        </p:nvSpPr>
        <p:spPr>
          <a:xfrm>
            <a:off x="0" y="6851520"/>
            <a:ext cx="9144000" cy="0"/>
          </a:xfrm>
          <a:prstGeom prst="line">
            <a:avLst/>
          </a:prstGeom>
          <a:ln w="1260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1"/>
          <p:cNvSpPr/>
          <p:nvPr/>
        </p:nvSpPr>
        <p:spPr>
          <a:xfrm>
            <a:off x="925560" y="1341360"/>
            <a:ext cx="746280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85760" indent="-146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85760" indent="-146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ublications and other docu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5760" indent="-146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5760" indent="-14616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untry profiles/STE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5760" indent="-146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5760" indent="-14616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gional and international agendas and other special initiatives in the sub-reg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5760" indent="-146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5760" indent="-14616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ual report on the work of ECA in NA, including the status of implementation of the multi-year program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5760" indent="-146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5760" indent="-14616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GM Publ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5760" indent="-146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5760" indent="-146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Espace réservé du numéro de diapositive 1"/>
          <p:cNvSpPr/>
          <p:nvPr/>
        </p:nvSpPr>
        <p:spPr>
          <a:xfrm>
            <a:off x="8418600" y="6377040"/>
            <a:ext cx="2682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4F2F0-ADED-4947-AB20-E88504269C66}" type="slidenum">
              <a:rPr b="0" lang="en-US" sz="1800" spc="-1" strike="noStrike">
                <a:solidFill>
                  <a:srgbClr val="888888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AutoShape 2"/>
          <p:cNvSpPr/>
          <p:nvPr/>
        </p:nvSpPr>
        <p:spPr>
          <a:xfrm>
            <a:off x="0" y="6135840"/>
            <a:ext cx="7107120" cy="442800"/>
          </a:xfrm>
          <a:custGeom>
            <a:avLst/>
            <a:gdLst>
              <a:gd name="textAreaLeft" fmla="*/ 0 w 7107120"/>
              <a:gd name="textAreaRight" fmla="*/ 7107480 w 710712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21600" h="21600">
                <a:moveTo>
                  <a:pt x="20929" y="0"/>
                </a:moveTo>
                <a:lnTo>
                  <a:pt x="0" y="0"/>
                </a:lnTo>
                <a:lnTo>
                  <a:pt x="0" y="21600"/>
                </a:lnTo>
                <a:lnTo>
                  <a:pt x="20929" y="21600"/>
                </a:lnTo>
                <a:lnTo>
                  <a:pt x="21107" y="21274"/>
                </a:lnTo>
                <a:lnTo>
                  <a:pt x="21268" y="20353"/>
                </a:lnTo>
                <a:lnTo>
                  <a:pt x="21404" y="18924"/>
                </a:lnTo>
                <a:lnTo>
                  <a:pt x="21508" y="17076"/>
                </a:lnTo>
                <a:lnTo>
                  <a:pt x="21576" y="14893"/>
                </a:lnTo>
                <a:lnTo>
                  <a:pt x="21600" y="12465"/>
                </a:lnTo>
                <a:lnTo>
                  <a:pt x="21600" y="9135"/>
                </a:lnTo>
                <a:lnTo>
                  <a:pt x="21576" y="6707"/>
                </a:lnTo>
                <a:lnTo>
                  <a:pt x="21508" y="4524"/>
                </a:lnTo>
                <a:lnTo>
                  <a:pt x="21404" y="2676"/>
                </a:lnTo>
                <a:lnTo>
                  <a:pt x="21268" y="1247"/>
                </a:lnTo>
                <a:lnTo>
                  <a:pt x="21107" y="326"/>
                </a:lnTo>
                <a:lnTo>
                  <a:pt x="20929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108000" y="6308640"/>
            <a:ext cx="695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Proposed Work Programme 2018-2019 |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32nd Meeting of the Intergovernmental Committee of Experts (ICE – Rabat, Morocco, 3-6 October 2017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0" y="0"/>
            <a:ext cx="9131400" cy="684540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6845400"/>
              <a:gd name="textAreaBottom" fmla="*/ 6845760 h 6845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3240">
            <a:solidFill>
              <a:srgbClr val="7b7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AutoShape 5"/>
          <p:cNvSpPr/>
          <p:nvPr/>
        </p:nvSpPr>
        <p:spPr>
          <a:xfrm>
            <a:off x="0" y="39600"/>
            <a:ext cx="9131400" cy="684540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6845400"/>
              <a:gd name="textAreaBottom" fmla="*/ 6845760 h 6845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0"/>
                </a:lnTo>
                <a:lnTo>
                  <a:pt x="21600" y="0"/>
                </a:lnTo>
              </a:path>
            </a:pathLst>
          </a:custGeom>
          <a:noFill/>
          <a:ln w="3240">
            <a:solidFill>
              <a:srgbClr val="7b7b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AutoShape 6"/>
          <p:cNvSpPr/>
          <p:nvPr/>
        </p:nvSpPr>
        <p:spPr>
          <a:xfrm>
            <a:off x="0" y="290520"/>
            <a:ext cx="5867280" cy="5461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Lato"/>
              </a:rPr>
              <a:t>Implementation Strate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8123400" y="297000"/>
            <a:ext cx="755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385c1"/>
                </a:solidFill>
                <a:latin typeface="Times New Roman"/>
                <a:ea typeface="Times New Roman"/>
              </a:rPr>
              <a:t>CE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7508880" y="284040"/>
            <a:ext cx="573120" cy="4780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AutoShape 9"/>
          <p:cNvSpPr/>
          <p:nvPr/>
        </p:nvSpPr>
        <p:spPr>
          <a:xfrm>
            <a:off x="7221600" y="6135840"/>
            <a:ext cx="1311120" cy="441000"/>
          </a:xfrm>
          <a:custGeom>
            <a:avLst/>
            <a:gdLst>
              <a:gd name="textAreaLeft" fmla="*/ 0 w 1311120"/>
              <a:gd name="textAreaRight" fmla="*/ 1311120 w 1311120"/>
              <a:gd name="textAreaTop" fmla="*/ 0 h 441000"/>
              <a:gd name="textAreaBottom" fmla="*/ 441360 h 441000"/>
            </a:gdLst>
            <a:ahLst/>
            <a:rect l="textAreaLeft" t="textAreaTop" r="textAreaRight" b="textAreaBottom"/>
            <a:pathLst>
              <a:path w="21600" h="21600">
                <a:moveTo>
                  <a:pt x="18463" y="0"/>
                </a:moveTo>
                <a:lnTo>
                  <a:pt x="3137" y="0"/>
                </a:lnTo>
                <a:lnTo>
                  <a:pt x="2303" y="328"/>
                </a:lnTo>
                <a:lnTo>
                  <a:pt x="1554" y="1254"/>
                </a:lnTo>
                <a:lnTo>
                  <a:pt x="919" y="2690"/>
                </a:lnTo>
                <a:lnTo>
                  <a:pt x="428" y="4549"/>
                </a:lnTo>
                <a:lnTo>
                  <a:pt x="112" y="6742"/>
                </a:lnTo>
                <a:lnTo>
                  <a:pt x="0" y="9183"/>
                </a:lnTo>
                <a:lnTo>
                  <a:pt x="0" y="12416"/>
                </a:lnTo>
                <a:lnTo>
                  <a:pt x="112" y="14858"/>
                </a:lnTo>
                <a:lnTo>
                  <a:pt x="428" y="17052"/>
                </a:lnTo>
                <a:lnTo>
                  <a:pt x="919" y="18910"/>
                </a:lnTo>
                <a:lnTo>
                  <a:pt x="1554" y="20346"/>
                </a:lnTo>
                <a:lnTo>
                  <a:pt x="2303" y="21272"/>
                </a:lnTo>
                <a:lnTo>
                  <a:pt x="3137" y="21600"/>
                </a:lnTo>
                <a:lnTo>
                  <a:pt x="18463" y="21600"/>
                </a:lnTo>
                <a:lnTo>
                  <a:pt x="19297" y="21272"/>
                </a:lnTo>
                <a:lnTo>
                  <a:pt x="20047" y="20346"/>
                </a:lnTo>
                <a:lnTo>
                  <a:pt x="20681" y="18910"/>
                </a:lnTo>
                <a:lnTo>
                  <a:pt x="21172" y="17052"/>
                </a:lnTo>
                <a:lnTo>
                  <a:pt x="21488" y="14858"/>
                </a:lnTo>
                <a:lnTo>
                  <a:pt x="21600" y="12416"/>
                </a:lnTo>
                <a:lnTo>
                  <a:pt x="21600" y="9183"/>
                </a:lnTo>
                <a:lnTo>
                  <a:pt x="21488" y="6742"/>
                </a:lnTo>
                <a:lnTo>
                  <a:pt x="21172" y="4549"/>
                </a:lnTo>
                <a:lnTo>
                  <a:pt x="20681" y="2690"/>
                </a:lnTo>
                <a:lnTo>
                  <a:pt x="20047" y="1254"/>
                </a:lnTo>
                <a:lnTo>
                  <a:pt x="19297" y="328"/>
                </a:lnTo>
                <a:lnTo>
                  <a:pt x="18463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7342200" y="6261120"/>
            <a:ext cx="90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ato"/>
              </a:rPr>
              <a:t>UNEC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Line 13"/>
          <p:cNvSpPr/>
          <p:nvPr/>
        </p:nvSpPr>
        <p:spPr>
          <a:xfrm>
            <a:off x="0" y="6851520"/>
            <a:ext cx="9144000" cy="0"/>
          </a:xfrm>
          <a:prstGeom prst="line">
            <a:avLst/>
          </a:prstGeom>
          <a:ln w="1260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1"/>
          <p:cNvSpPr/>
          <p:nvPr/>
        </p:nvSpPr>
        <p:spPr>
          <a:xfrm>
            <a:off x="539640" y="934920"/>
            <a:ext cx="7848720" cy="57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254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ork closely wit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4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8272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ACS and NOS to collect, compile and use quality, comparable and harmonized statistics pertaining to the reg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8272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8272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POQD for additional resources mobilization and high monitoring and evalu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8272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8272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MS PGothic"/>
              </a:rPr>
              <a:t>UN ag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8272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8272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MS PGothic"/>
              </a:rPr>
              <a:t>Private sector, universities and civil socie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4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4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Provide  adequate support to MS in the subregion in their efforts to improve their statistical oper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4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4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Provide assistance to UMA to implement the roadmap for a more integrated Maghre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4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4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Espace réservé du numéro de diapositive 1"/>
          <p:cNvSpPr/>
          <p:nvPr/>
        </p:nvSpPr>
        <p:spPr>
          <a:xfrm>
            <a:off x="8418600" y="6377040"/>
            <a:ext cx="2682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45270-0815-4AA9-8568-CDE55AF0A239}" type="slidenum">
              <a:rPr b="0" lang="en-US" sz="1800" spc="-1" strike="noStrike">
                <a:solidFill>
                  <a:srgbClr val="888888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"/>
          <p:cNvSpPr/>
          <p:nvPr/>
        </p:nvSpPr>
        <p:spPr>
          <a:xfrm>
            <a:off x="36360" y="-222120"/>
            <a:ext cx="9144000" cy="6845040"/>
          </a:xfrm>
          <a:prstGeom prst="rect">
            <a:avLst/>
          </a:prstGeom>
          <a:solidFill>
            <a:srgbClr val="0657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2360520" y="4294080"/>
            <a:ext cx="44211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ffff"/>
                </a:solidFill>
                <a:latin typeface="Lato"/>
              </a:rPr>
              <a:t>MERCI!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8231040" y="184320"/>
            <a:ext cx="755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7616880" y="171360"/>
            <a:ext cx="573120" cy="4795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AutoShape 5"/>
          <p:cNvSpPr/>
          <p:nvPr/>
        </p:nvSpPr>
        <p:spPr>
          <a:xfrm>
            <a:off x="3924360" y="6135840"/>
            <a:ext cx="1511280" cy="44100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441000"/>
              <a:gd name="textAreaBottom" fmla="*/ 441360 h 441000"/>
            </a:gdLst>
            <a:ahLst/>
            <a:rect l="textAreaLeft" t="textAreaTop" r="textAreaRight" b="textAreaBottom"/>
            <a:pathLst>
              <a:path w="21600" h="21600">
                <a:moveTo>
                  <a:pt x="18463" y="0"/>
                </a:moveTo>
                <a:lnTo>
                  <a:pt x="3137" y="0"/>
                </a:lnTo>
                <a:lnTo>
                  <a:pt x="2303" y="328"/>
                </a:lnTo>
                <a:lnTo>
                  <a:pt x="1554" y="1254"/>
                </a:lnTo>
                <a:lnTo>
                  <a:pt x="919" y="2690"/>
                </a:lnTo>
                <a:lnTo>
                  <a:pt x="428" y="4549"/>
                </a:lnTo>
                <a:lnTo>
                  <a:pt x="112" y="6742"/>
                </a:lnTo>
                <a:lnTo>
                  <a:pt x="0" y="9183"/>
                </a:lnTo>
                <a:lnTo>
                  <a:pt x="0" y="12416"/>
                </a:lnTo>
                <a:lnTo>
                  <a:pt x="112" y="14858"/>
                </a:lnTo>
                <a:lnTo>
                  <a:pt x="428" y="17052"/>
                </a:lnTo>
                <a:lnTo>
                  <a:pt x="919" y="18910"/>
                </a:lnTo>
                <a:lnTo>
                  <a:pt x="1554" y="20346"/>
                </a:lnTo>
                <a:lnTo>
                  <a:pt x="2303" y="21272"/>
                </a:lnTo>
                <a:lnTo>
                  <a:pt x="3137" y="21600"/>
                </a:lnTo>
                <a:lnTo>
                  <a:pt x="18463" y="21600"/>
                </a:lnTo>
                <a:lnTo>
                  <a:pt x="19297" y="21272"/>
                </a:lnTo>
                <a:lnTo>
                  <a:pt x="20047" y="20346"/>
                </a:lnTo>
                <a:lnTo>
                  <a:pt x="20681" y="18910"/>
                </a:lnTo>
                <a:lnTo>
                  <a:pt x="21172" y="17052"/>
                </a:lnTo>
                <a:lnTo>
                  <a:pt x="21488" y="14858"/>
                </a:lnTo>
                <a:lnTo>
                  <a:pt x="21600" y="12416"/>
                </a:lnTo>
                <a:lnTo>
                  <a:pt x="21600" y="9183"/>
                </a:lnTo>
                <a:lnTo>
                  <a:pt x="21488" y="6742"/>
                </a:lnTo>
                <a:lnTo>
                  <a:pt x="21172" y="4549"/>
                </a:lnTo>
                <a:lnTo>
                  <a:pt x="20681" y="2690"/>
                </a:lnTo>
                <a:lnTo>
                  <a:pt x="20047" y="1254"/>
                </a:lnTo>
                <a:lnTo>
                  <a:pt x="19297" y="328"/>
                </a:lnTo>
                <a:lnTo>
                  <a:pt x="18463" y="0"/>
                </a:lnTo>
                <a:close/>
              </a:path>
            </a:pathLst>
          </a:custGeom>
          <a:solidFill>
            <a:srgbClr val="0d7c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2217600" y="5477040"/>
            <a:ext cx="54500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ato"/>
              </a:rPr>
              <a:t>Plus d’info: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Lato"/>
              </a:rPr>
              <a:t>ikahoui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Lato"/>
                <a:hlinkClick r:id="rId2"/>
              </a:rPr>
              <a:t>@uneca.o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4140360" y="6261120"/>
            <a:ext cx="107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ato"/>
              </a:rPr>
              <a:t>UNEC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8" descr="pasted-image.pdf"/>
          <p:cNvPicPr/>
          <p:nvPr/>
        </p:nvPicPr>
        <p:blipFill>
          <a:blip r:embed="rId3"/>
          <a:stretch/>
        </p:blipFill>
        <p:spPr>
          <a:xfrm>
            <a:off x="3289320" y="1171440"/>
            <a:ext cx="2563920" cy="2664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pasted-image.pdf"/>
          <p:cNvPicPr/>
          <p:nvPr/>
        </p:nvPicPr>
        <p:blipFill>
          <a:blip r:embed="rId4"/>
          <a:stretch/>
        </p:blipFill>
        <p:spPr>
          <a:xfrm>
            <a:off x="3517920" y="2174760"/>
            <a:ext cx="2106720" cy="911520"/>
          </a:xfrm>
          <a:prstGeom prst="rect">
            <a:avLst/>
          </a:prstGeom>
          <a:ln w="0">
            <a:noFill/>
          </a:ln>
        </p:spPr>
      </p:pic>
      <p:sp>
        <p:nvSpPr>
          <p:cNvPr id="161" name="Espace réservé du numéro de diapositive 1"/>
          <p:cNvSpPr/>
          <p:nvPr/>
        </p:nvSpPr>
        <p:spPr>
          <a:xfrm>
            <a:off x="8418600" y="6377040"/>
            <a:ext cx="2682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B0C29-9967-4DAE-8F6F-43BC415F2B8F}" type="slidenum">
              <a:rPr b="0" lang="en-US" sz="1800" spc="-1" strike="noStrike">
                <a:solidFill>
                  <a:srgbClr val="888888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opestone Chavula</dc:creator>
  <dc:description/>
  <dc:language>en-US</dc:language>
  <cp:lastModifiedBy>Isidore Kahoui</cp:lastModifiedBy>
  <dcterms:modified xsi:type="dcterms:W3CDTF">2017-09-29T15:16:34Z</dcterms:modified>
  <cp:revision>139</cp:revision>
  <dc:subject/>
  <dc:title>TITLE OF THE  PRESENTATION</dc:title>
</cp:coreProperties>
</file>