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DDA-1279-45D1-AA2E-0BAAED02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5A1-5E9E-41E4-9A25-A372687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A67-B11C-4C42-98A1-40EE6A6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DF7-50B7-4080-946D-A9C83384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6BA-9E4A-4F9C-8E5B-3F7A31DA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383-8075-4B59-816E-97AAEA48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5A2-07BC-4BEA-A2F4-2A34BF9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E35-F340-404E-A2AF-F4F3300B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A2E-C8DA-49D4-B332-8E721F69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0E0-635F-4B09-9534-F822DB6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DBA-B8A2-441F-BDFB-AD3BB2B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3BF-AC7D-4421-AD4C-4143066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3AE-C9B9-47CF-B134-1E4DE7DF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3399ff"/>
            </a:gs>
            <a:gs pos="100000">
              <a:srgbClr val="ffff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10960"/>
            <a:ext cx="645804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d9"/>
                </a:solidFill>
                <a:latin typeface="Arial"/>
                <a:ea typeface="Traditional Arabic"/>
              </a:rPr>
              <a:t>Réunion de revue à mi parcours du Projet  E-Commerc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d9"/>
                </a:solidFill>
                <a:latin typeface="Arial"/>
                <a:ea typeface="Traditional Arabic"/>
              </a:rPr>
              <a:t>Afrique du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64440" y="6101640"/>
            <a:ext cx="360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ccffff"/>
                </a:solidFill>
                <a:latin typeface="Verdana"/>
                <a:ea typeface="Times New Roman"/>
              </a:rPr>
              <a:t>Rabat, 29-30 juin</a:t>
            </a:r>
            <a:r>
              <a:rPr b="1" lang="fr-FR" sz="25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fr-FR" sz="2500" spc="-1" strike="noStrike">
                <a:solidFill>
                  <a:srgbClr val="ccffff"/>
                </a:solidFill>
                <a:latin typeface="Verdana"/>
                <a:ea typeface="Times New Roman"/>
              </a:rPr>
              <a:t>200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19520" y="209520"/>
          <a:ext cx="83808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9520"/>
                    <a:ext cx="838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90400" y="9334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NATIONS U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COMMISSION ECONOMIQUE POUR L’AF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cc"/>
                </a:solidFill>
                <a:latin typeface="Arial"/>
                <a:ea typeface="Arial Unicode MS"/>
              </a:rPr>
              <a:t>BUREAU POUR L’AFRIQUE DU NORD</a:t>
            </a:r>
            <a:r>
              <a:rPr b="1" lang="fr-FR" sz="1000" spc="-1" strike="noStrike">
                <a:solidFill>
                  <a:srgbClr val="0033cc"/>
                </a:solidFill>
                <a:latin typeface="Verdana"/>
                <a:ea typeface="Arial Unicode MS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39:07Z</dcterms:created>
  <dc:creator> </dc:creator>
  <dc:description/>
  <dc:language>en-US</dc:language>
  <cp:lastModifiedBy>Mosseddek</cp:lastModifiedBy>
  <dcterms:modified xsi:type="dcterms:W3CDTF">2006-06-28T10:28:57Z</dcterms:modified>
  <cp:revision>26</cp:revision>
  <dc:subject/>
  <dc:title>Slide 1</dc:title>
</cp:coreProperties>
</file>