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4574-19DD-478C-BAAE-8D50256D3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9AE3-863A-4DDF-B759-F2F3248B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B063-3E13-41C3-A7A0-92B704ED2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0006-EB90-40FD-8CB7-AA8A494F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AA53-A335-49B1-9BA9-C7673B58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E5C9-9F6A-4706-AF1B-B91E488B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4B3B-476F-482B-8BE7-C668B484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AD58-09F3-46FD-990E-50628E82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59D4-B41D-4928-8B32-A31A5B8F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AC6D-6C2A-4B91-BF57-A3DA3701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CD86-BDA1-41B7-83AD-BBCAE565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ED8A-5FF8-47A2-8534-87D289D6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C946-E335-4501-AF57-AE3B03CF3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50000">
              <a:srgbClr val="3399ff"/>
            </a:gs>
            <a:gs pos="100000">
              <a:srgbClr val="ffff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810960"/>
            <a:ext cx="645804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d9"/>
                </a:solidFill>
                <a:latin typeface="Arial"/>
                <a:ea typeface="Traditional Arabic"/>
              </a:rPr>
              <a:t>Réunion de revue à mi parcours du Projet  E-Commerce 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d9"/>
                </a:solidFill>
                <a:latin typeface="Arial"/>
                <a:ea typeface="Traditional Arabic"/>
              </a:rPr>
              <a:t>Afrique du N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64440" y="6101640"/>
            <a:ext cx="3608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ccffff"/>
                </a:solidFill>
                <a:latin typeface="Verdana"/>
                <a:ea typeface="Times New Roman"/>
              </a:rPr>
              <a:t>Rabat, 29-30 juin</a:t>
            </a:r>
            <a:r>
              <a:rPr b="1" lang="fr-FR" sz="25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 </a:t>
            </a:r>
            <a:r>
              <a:rPr b="1" lang="fr-FR" sz="2500" spc="-1" strike="noStrike">
                <a:solidFill>
                  <a:srgbClr val="ccffff"/>
                </a:solidFill>
                <a:latin typeface="Verdana"/>
                <a:ea typeface="Times New Roman"/>
              </a:rPr>
              <a:t>200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575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819520" y="209520"/>
          <a:ext cx="83808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09520"/>
                    <a:ext cx="83808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90400" y="93348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 Unicode MS"/>
              </a:rPr>
              <a:t>NATIONS U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cc"/>
                </a:solidFill>
                <a:latin typeface="Arial"/>
                <a:ea typeface="Arial Unicode MS"/>
              </a:rPr>
              <a:t>COMMISSION ECONOMIQUE POUR L’AF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cc"/>
                </a:solidFill>
                <a:latin typeface="Arial"/>
                <a:ea typeface="Arial Unicode MS"/>
              </a:rPr>
              <a:t>BUREAU POUR L’AFRIQUE DU NORD</a:t>
            </a:r>
            <a:r>
              <a:rPr b="1" lang="fr-FR" sz="1000" spc="-1" strike="noStrike">
                <a:solidFill>
                  <a:srgbClr val="0033cc"/>
                </a:solidFill>
                <a:latin typeface="Verdana"/>
                <a:ea typeface="Arial Unicode MS"/>
              </a:rPr>
              <a:t>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8T16:39:07Z</dcterms:created>
  <dc:creator> </dc:creator>
  <dc:description/>
  <dc:language>en-US</dc:language>
  <cp:lastModifiedBy>Mosseddek</cp:lastModifiedBy>
  <dcterms:modified xsi:type="dcterms:W3CDTF">2006-06-28T10:28:57Z</dcterms:modified>
  <cp:revision>26</cp:revision>
  <dc:subject/>
  <dc:title>Slide 1</dc:title>
</cp:coreProperties>
</file>