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1" lang="en-US" sz="40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"/>
              </a:rPr>
              <a:t>3 in North Africa : Algeria, Mauritania and Tunisia) </a:t>
            </a: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4053-C5AE-4143-BB05-104311EDFB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B359-3D1A-4601-AD41-CF81E1E2A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40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9CD3-CC40-4EB4-8818-11C5723BC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E775-14F9-4CE1-B6C8-CA17E402A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76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76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40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40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40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6831-9E81-4AF7-86BD-A57CDC036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30200" y="341280"/>
            <a:ext cx="82821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130D-A3C5-4865-B1E6-662999667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0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40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76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76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40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40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40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20B4-1047-4F1C-975E-8499A86AF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F086-4907-4CC0-BC21-47AF8E3F3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996A-3A28-4D10-93A9-E31224CCF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30200" y="341280"/>
            <a:ext cx="82821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3ECF-5B42-48B2-9E05-66188D84F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5E60-3A23-4DC8-9EF6-567174E6F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74C3-4E84-4EB1-A7CF-21ED54D64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0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4845-FC38-489A-84FC-2FF788314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457200"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indent="914400"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indent="1371600"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indent="182880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indent="182880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indent="182880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1824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88888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1AD9-2C07-42E0-B749-66AAE9C1223A}" type="slidenum">
              <a:rPr b="0" lang="en-US" sz="1800" spc="-1" strike="noStrike">
                <a:solidFill>
                  <a:srgbClr val="888888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15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457200"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indent="914400"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indent="1371600"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indent="182880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indent="182880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indent="182880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://www.uneca.org/" TargetMode="Externa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b5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3765600" y="5862600"/>
            <a:ext cx="5210280" cy="738360"/>
          </a:xfrm>
          <a:custGeom>
            <a:avLst/>
            <a:gdLst>
              <a:gd name="textAreaLeft" fmla="*/ 0 w 5210280"/>
              <a:gd name="textAreaRight" fmla="*/ 5210640 w 521028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19572" y="0"/>
                </a:moveTo>
                <a:lnTo>
                  <a:pt x="2028" y="0"/>
                </a:lnTo>
                <a:lnTo>
                  <a:pt x="1664" y="172"/>
                </a:lnTo>
                <a:lnTo>
                  <a:pt x="1321" y="669"/>
                </a:lnTo>
                <a:lnTo>
                  <a:pt x="1005" y="1460"/>
                </a:lnTo>
                <a:lnTo>
                  <a:pt x="722" y="2514"/>
                </a:lnTo>
                <a:lnTo>
                  <a:pt x="477" y="3803"/>
                </a:lnTo>
                <a:lnTo>
                  <a:pt x="277" y="5295"/>
                </a:lnTo>
                <a:lnTo>
                  <a:pt x="127" y="6961"/>
                </a:lnTo>
                <a:lnTo>
                  <a:pt x="33" y="8770"/>
                </a:lnTo>
                <a:lnTo>
                  <a:pt x="0" y="10692"/>
                </a:lnTo>
                <a:lnTo>
                  <a:pt x="0" y="10908"/>
                </a:lnTo>
                <a:lnTo>
                  <a:pt x="33" y="12830"/>
                </a:lnTo>
                <a:lnTo>
                  <a:pt x="127" y="14639"/>
                </a:lnTo>
                <a:lnTo>
                  <a:pt x="277" y="16304"/>
                </a:lnTo>
                <a:lnTo>
                  <a:pt x="477" y="17797"/>
                </a:lnTo>
                <a:lnTo>
                  <a:pt x="722" y="19085"/>
                </a:lnTo>
                <a:lnTo>
                  <a:pt x="1005" y="20140"/>
                </a:lnTo>
                <a:lnTo>
                  <a:pt x="1321" y="20931"/>
                </a:lnTo>
                <a:lnTo>
                  <a:pt x="1664" y="21428"/>
                </a:lnTo>
                <a:lnTo>
                  <a:pt x="2028" y="21600"/>
                </a:lnTo>
                <a:lnTo>
                  <a:pt x="19572" y="21600"/>
                </a:lnTo>
                <a:lnTo>
                  <a:pt x="19936" y="21428"/>
                </a:lnTo>
                <a:lnTo>
                  <a:pt x="20279" y="20931"/>
                </a:lnTo>
                <a:lnTo>
                  <a:pt x="20595" y="20140"/>
                </a:lnTo>
                <a:lnTo>
                  <a:pt x="20878" y="19085"/>
                </a:lnTo>
                <a:lnTo>
                  <a:pt x="21123" y="17797"/>
                </a:lnTo>
                <a:lnTo>
                  <a:pt x="21323" y="16304"/>
                </a:lnTo>
                <a:lnTo>
                  <a:pt x="21473" y="14639"/>
                </a:lnTo>
                <a:lnTo>
                  <a:pt x="21567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67" y="8770"/>
                </a:lnTo>
                <a:lnTo>
                  <a:pt x="21473" y="6961"/>
                </a:lnTo>
                <a:lnTo>
                  <a:pt x="21323" y="5295"/>
                </a:lnTo>
                <a:lnTo>
                  <a:pt x="21123" y="3803"/>
                </a:lnTo>
                <a:lnTo>
                  <a:pt x="20878" y="2514"/>
                </a:lnTo>
                <a:lnTo>
                  <a:pt x="20595" y="1460"/>
                </a:lnTo>
                <a:lnTo>
                  <a:pt x="20279" y="669"/>
                </a:lnTo>
                <a:lnTo>
                  <a:pt x="19936" y="172"/>
                </a:lnTo>
                <a:lnTo>
                  <a:pt x="19572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246560" y="3705120"/>
            <a:ext cx="43275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ato"/>
                <a:ea typeface="Lato"/>
              </a:rPr>
              <a:t>Eskedar Nega, Chief Evaluation Section –  Strategic Planning and Operational Quality Di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411800" y="4898880"/>
            <a:ext cx="3465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7200" indent="36216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 – 6 October 201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7200" indent="3621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ato"/>
                <a:ea typeface="Lato"/>
              </a:rPr>
              <a:t>Rabat, Morocc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663480" y="3273480"/>
            <a:ext cx="3730680" cy="511200"/>
          </a:xfrm>
          <a:custGeom>
            <a:avLst/>
            <a:gdLst>
              <a:gd name="textAreaLeft" fmla="*/ 0 w 3730680"/>
              <a:gd name="textAreaRight" fmla="*/ 3731040 w 37306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20155" y="0"/>
                </a:moveTo>
                <a:lnTo>
                  <a:pt x="1445" y="0"/>
                </a:lnTo>
                <a:lnTo>
                  <a:pt x="1185" y="172"/>
                </a:lnTo>
                <a:lnTo>
                  <a:pt x="941" y="669"/>
                </a:lnTo>
                <a:lnTo>
                  <a:pt x="716" y="1460"/>
                </a:lnTo>
                <a:lnTo>
                  <a:pt x="514" y="2514"/>
                </a:lnTo>
                <a:lnTo>
                  <a:pt x="340" y="3803"/>
                </a:lnTo>
                <a:lnTo>
                  <a:pt x="197" y="5295"/>
                </a:lnTo>
                <a:lnTo>
                  <a:pt x="90" y="6961"/>
                </a:lnTo>
                <a:lnTo>
                  <a:pt x="23" y="8770"/>
                </a:lnTo>
                <a:lnTo>
                  <a:pt x="0" y="10692"/>
                </a:lnTo>
                <a:lnTo>
                  <a:pt x="0" y="10908"/>
                </a:lnTo>
                <a:lnTo>
                  <a:pt x="23" y="12830"/>
                </a:lnTo>
                <a:lnTo>
                  <a:pt x="90" y="14639"/>
                </a:lnTo>
                <a:lnTo>
                  <a:pt x="197" y="16304"/>
                </a:lnTo>
                <a:lnTo>
                  <a:pt x="340" y="17797"/>
                </a:lnTo>
                <a:lnTo>
                  <a:pt x="514" y="19085"/>
                </a:lnTo>
                <a:lnTo>
                  <a:pt x="716" y="20140"/>
                </a:lnTo>
                <a:lnTo>
                  <a:pt x="941" y="20931"/>
                </a:lnTo>
                <a:lnTo>
                  <a:pt x="1185" y="21428"/>
                </a:lnTo>
                <a:lnTo>
                  <a:pt x="1445" y="21600"/>
                </a:lnTo>
                <a:lnTo>
                  <a:pt x="20155" y="21600"/>
                </a:lnTo>
                <a:lnTo>
                  <a:pt x="20415" y="21428"/>
                </a:lnTo>
                <a:lnTo>
                  <a:pt x="20659" y="20931"/>
                </a:lnTo>
                <a:lnTo>
                  <a:pt x="20884" y="20140"/>
                </a:lnTo>
                <a:lnTo>
                  <a:pt x="21086" y="19085"/>
                </a:lnTo>
                <a:lnTo>
                  <a:pt x="21260" y="17797"/>
                </a:lnTo>
                <a:lnTo>
                  <a:pt x="21403" y="16304"/>
                </a:lnTo>
                <a:lnTo>
                  <a:pt x="21510" y="14639"/>
                </a:lnTo>
                <a:lnTo>
                  <a:pt x="21577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77" y="8770"/>
                </a:lnTo>
                <a:lnTo>
                  <a:pt x="21510" y="6961"/>
                </a:lnTo>
                <a:lnTo>
                  <a:pt x="21403" y="5295"/>
                </a:lnTo>
                <a:lnTo>
                  <a:pt x="21260" y="3803"/>
                </a:lnTo>
                <a:lnTo>
                  <a:pt x="21086" y="2514"/>
                </a:lnTo>
                <a:lnTo>
                  <a:pt x="20884" y="1460"/>
                </a:lnTo>
                <a:lnTo>
                  <a:pt x="20659" y="669"/>
                </a:lnTo>
                <a:lnTo>
                  <a:pt x="20415" y="172"/>
                </a:lnTo>
                <a:lnTo>
                  <a:pt x="20155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1004760" y="3889440"/>
            <a:ext cx="2692440" cy="511200"/>
          </a:xfrm>
          <a:custGeom>
            <a:avLst/>
            <a:gdLst>
              <a:gd name="textAreaLeft" fmla="*/ 0 w 2692440"/>
              <a:gd name="textAreaRight" fmla="*/ 2692440 w 26924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19597" y="0"/>
                </a:moveTo>
                <a:lnTo>
                  <a:pt x="2003" y="0"/>
                </a:lnTo>
                <a:lnTo>
                  <a:pt x="1643" y="172"/>
                </a:lnTo>
                <a:lnTo>
                  <a:pt x="1304" y="669"/>
                </a:lnTo>
                <a:lnTo>
                  <a:pt x="992" y="1460"/>
                </a:lnTo>
                <a:lnTo>
                  <a:pt x="713" y="2514"/>
                </a:lnTo>
                <a:lnTo>
                  <a:pt x="471" y="3803"/>
                </a:lnTo>
                <a:lnTo>
                  <a:pt x="274" y="5295"/>
                </a:lnTo>
                <a:lnTo>
                  <a:pt x="125" y="6961"/>
                </a:lnTo>
                <a:lnTo>
                  <a:pt x="32" y="8770"/>
                </a:lnTo>
                <a:lnTo>
                  <a:pt x="0" y="10692"/>
                </a:lnTo>
                <a:lnTo>
                  <a:pt x="0" y="10908"/>
                </a:lnTo>
                <a:lnTo>
                  <a:pt x="32" y="12830"/>
                </a:lnTo>
                <a:lnTo>
                  <a:pt x="125" y="14639"/>
                </a:lnTo>
                <a:lnTo>
                  <a:pt x="274" y="16304"/>
                </a:lnTo>
                <a:lnTo>
                  <a:pt x="471" y="17797"/>
                </a:lnTo>
                <a:lnTo>
                  <a:pt x="713" y="19085"/>
                </a:lnTo>
                <a:lnTo>
                  <a:pt x="992" y="20140"/>
                </a:lnTo>
                <a:lnTo>
                  <a:pt x="1304" y="20931"/>
                </a:lnTo>
                <a:lnTo>
                  <a:pt x="1643" y="21428"/>
                </a:lnTo>
                <a:lnTo>
                  <a:pt x="2003" y="21600"/>
                </a:lnTo>
                <a:lnTo>
                  <a:pt x="19597" y="21600"/>
                </a:lnTo>
                <a:lnTo>
                  <a:pt x="19957" y="21428"/>
                </a:lnTo>
                <a:lnTo>
                  <a:pt x="20296" y="20931"/>
                </a:lnTo>
                <a:lnTo>
                  <a:pt x="20608" y="20140"/>
                </a:lnTo>
                <a:lnTo>
                  <a:pt x="20887" y="19085"/>
                </a:lnTo>
                <a:lnTo>
                  <a:pt x="21129" y="17797"/>
                </a:lnTo>
                <a:lnTo>
                  <a:pt x="21327" y="16304"/>
                </a:lnTo>
                <a:lnTo>
                  <a:pt x="21475" y="14639"/>
                </a:lnTo>
                <a:lnTo>
                  <a:pt x="21568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68" y="8770"/>
                </a:lnTo>
                <a:lnTo>
                  <a:pt x="21475" y="6961"/>
                </a:lnTo>
                <a:lnTo>
                  <a:pt x="21327" y="5295"/>
                </a:lnTo>
                <a:lnTo>
                  <a:pt x="21129" y="3803"/>
                </a:lnTo>
                <a:lnTo>
                  <a:pt x="20887" y="2514"/>
                </a:lnTo>
                <a:lnTo>
                  <a:pt x="20608" y="1460"/>
                </a:lnTo>
                <a:lnTo>
                  <a:pt x="20296" y="669"/>
                </a:lnTo>
                <a:lnTo>
                  <a:pt x="19957" y="172"/>
                </a:lnTo>
                <a:lnTo>
                  <a:pt x="19597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166760" y="4567320"/>
            <a:ext cx="2808360" cy="50940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9681" y="0"/>
                </a:moveTo>
                <a:lnTo>
                  <a:pt x="1919" y="0"/>
                </a:lnTo>
                <a:lnTo>
                  <a:pt x="1574" y="172"/>
                </a:lnTo>
                <a:lnTo>
                  <a:pt x="1250" y="669"/>
                </a:lnTo>
                <a:lnTo>
                  <a:pt x="951" y="1460"/>
                </a:lnTo>
                <a:lnTo>
                  <a:pt x="683" y="2514"/>
                </a:lnTo>
                <a:lnTo>
                  <a:pt x="451" y="3803"/>
                </a:lnTo>
                <a:lnTo>
                  <a:pt x="262" y="5295"/>
                </a:lnTo>
                <a:lnTo>
                  <a:pt x="120" y="6961"/>
                </a:lnTo>
                <a:lnTo>
                  <a:pt x="31" y="8770"/>
                </a:lnTo>
                <a:lnTo>
                  <a:pt x="0" y="10692"/>
                </a:lnTo>
                <a:lnTo>
                  <a:pt x="0" y="10908"/>
                </a:lnTo>
                <a:lnTo>
                  <a:pt x="31" y="12830"/>
                </a:lnTo>
                <a:lnTo>
                  <a:pt x="120" y="14639"/>
                </a:lnTo>
                <a:lnTo>
                  <a:pt x="262" y="16304"/>
                </a:lnTo>
                <a:lnTo>
                  <a:pt x="451" y="17797"/>
                </a:lnTo>
                <a:lnTo>
                  <a:pt x="683" y="19085"/>
                </a:lnTo>
                <a:lnTo>
                  <a:pt x="951" y="20140"/>
                </a:lnTo>
                <a:lnTo>
                  <a:pt x="1250" y="20931"/>
                </a:lnTo>
                <a:lnTo>
                  <a:pt x="1574" y="21428"/>
                </a:lnTo>
                <a:lnTo>
                  <a:pt x="1919" y="21600"/>
                </a:lnTo>
                <a:lnTo>
                  <a:pt x="19681" y="21600"/>
                </a:lnTo>
                <a:lnTo>
                  <a:pt x="20026" y="21420"/>
                </a:lnTo>
                <a:lnTo>
                  <a:pt x="20350" y="20904"/>
                </a:lnTo>
                <a:lnTo>
                  <a:pt x="20649" y="20084"/>
                </a:lnTo>
                <a:lnTo>
                  <a:pt x="20917" y="18995"/>
                </a:lnTo>
                <a:lnTo>
                  <a:pt x="21149" y="17671"/>
                </a:lnTo>
                <a:lnTo>
                  <a:pt x="21338" y="16144"/>
                </a:lnTo>
                <a:lnTo>
                  <a:pt x="21480" y="14450"/>
                </a:lnTo>
                <a:lnTo>
                  <a:pt x="21569" y="12621"/>
                </a:lnTo>
                <a:lnTo>
                  <a:pt x="21600" y="10692"/>
                </a:lnTo>
                <a:lnTo>
                  <a:pt x="21569" y="8770"/>
                </a:lnTo>
                <a:lnTo>
                  <a:pt x="21480" y="6961"/>
                </a:lnTo>
                <a:lnTo>
                  <a:pt x="21338" y="5295"/>
                </a:lnTo>
                <a:lnTo>
                  <a:pt x="21149" y="3803"/>
                </a:lnTo>
                <a:lnTo>
                  <a:pt x="20917" y="2514"/>
                </a:lnTo>
                <a:lnTo>
                  <a:pt x="20649" y="1460"/>
                </a:lnTo>
                <a:lnTo>
                  <a:pt x="20350" y="669"/>
                </a:lnTo>
                <a:lnTo>
                  <a:pt x="20026" y="172"/>
                </a:lnTo>
                <a:lnTo>
                  <a:pt x="19681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1166760" y="5253120"/>
            <a:ext cx="2141640" cy="509400"/>
          </a:xfrm>
          <a:custGeom>
            <a:avLst/>
            <a:gdLst>
              <a:gd name="textAreaLeft" fmla="*/ 0 w 2141640"/>
              <a:gd name="textAreaRight" fmla="*/ 2142000 w 21416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9083" y="0"/>
                </a:moveTo>
                <a:lnTo>
                  <a:pt x="2517" y="0"/>
                </a:lnTo>
                <a:lnTo>
                  <a:pt x="2065" y="172"/>
                </a:lnTo>
                <a:lnTo>
                  <a:pt x="1639" y="669"/>
                </a:lnTo>
                <a:lnTo>
                  <a:pt x="1247" y="1460"/>
                </a:lnTo>
                <a:lnTo>
                  <a:pt x="895" y="2514"/>
                </a:lnTo>
                <a:lnTo>
                  <a:pt x="592" y="3803"/>
                </a:lnTo>
                <a:lnTo>
                  <a:pt x="344" y="5295"/>
                </a:lnTo>
                <a:lnTo>
                  <a:pt x="157" y="6961"/>
                </a:lnTo>
                <a:lnTo>
                  <a:pt x="41" y="8770"/>
                </a:lnTo>
                <a:lnTo>
                  <a:pt x="0" y="10692"/>
                </a:lnTo>
                <a:lnTo>
                  <a:pt x="0" y="10908"/>
                </a:lnTo>
                <a:lnTo>
                  <a:pt x="41" y="12830"/>
                </a:lnTo>
                <a:lnTo>
                  <a:pt x="157" y="14639"/>
                </a:lnTo>
                <a:lnTo>
                  <a:pt x="344" y="16304"/>
                </a:lnTo>
                <a:lnTo>
                  <a:pt x="592" y="17797"/>
                </a:lnTo>
                <a:lnTo>
                  <a:pt x="895" y="19085"/>
                </a:lnTo>
                <a:lnTo>
                  <a:pt x="1247" y="20140"/>
                </a:lnTo>
                <a:lnTo>
                  <a:pt x="1639" y="20931"/>
                </a:lnTo>
                <a:lnTo>
                  <a:pt x="2065" y="21428"/>
                </a:lnTo>
                <a:lnTo>
                  <a:pt x="2517" y="21600"/>
                </a:lnTo>
                <a:lnTo>
                  <a:pt x="19083" y="21600"/>
                </a:lnTo>
                <a:lnTo>
                  <a:pt x="19535" y="21428"/>
                </a:lnTo>
                <a:lnTo>
                  <a:pt x="19961" y="20931"/>
                </a:lnTo>
                <a:lnTo>
                  <a:pt x="20353" y="20140"/>
                </a:lnTo>
                <a:lnTo>
                  <a:pt x="20705" y="19085"/>
                </a:lnTo>
                <a:lnTo>
                  <a:pt x="21008" y="17797"/>
                </a:lnTo>
                <a:lnTo>
                  <a:pt x="21256" y="16304"/>
                </a:lnTo>
                <a:lnTo>
                  <a:pt x="21443" y="14639"/>
                </a:lnTo>
                <a:lnTo>
                  <a:pt x="21559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59" y="8770"/>
                </a:lnTo>
                <a:lnTo>
                  <a:pt x="21443" y="6961"/>
                </a:lnTo>
                <a:lnTo>
                  <a:pt x="21256" y="5295"/>
                </a:lnTo>
                <a:lnTo>
                  <a:pt x="21008" y="3803"/>
                </a:lnTo>
                <a:lnTo>
                  <a:pt x="20705" y="2514"/>
                </a:lnTo>
                <a:lnTo>
                  <a:pt x="20353" y="1460"/>
                </a:lnTo>
                <a:lnTo>
                  <a:pt x="19961" y="669"/>
                </a:lnTo>
                <a:lnTo>
                  <a:pt x="19535" y="172"/>
                </a:lnTo>
                <a:lnTo>
                  <a:pt x="1908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1411200" y="5923080"/>
            <a:ext cx="1476360" cy="511200"/>
          </a:xfrm>
          <a:custGeom>
            <a:avLst/>
            <a:gdLst>
              <a:gd name="textAreaLeft" fmla="*/ 0 w 1476360"/>
              <a:gd name="textAreaRight" fmla="*/ 1476720 w 14763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17948" y="0"/>
                </a:moveTo>
                <a:lnTo>
                  <a:pt x="3652" y="0"/>
                </a:lnTo>
                <a:lnTo>
                  <a:pt x="2996" y="172"/>
                </a:lnTo>
                <a:lnTo>
                  <a:pt x="2378" y="669"/>
                </a:lnTo>
                <a:lnTo>
                  <a:pt x="1809" y="1460"/>
                </a:lnTo>
                <a:lnTo>
                  <a:pt x="1299" y="2514"/>
                </a:lnTo>
                <a:lnTo>
                  <a:pt x="859" y="3803"/>
                </a:lnTo>
                <a:lnTo>
                  <a:pt x="499" y="5295"/>
                </a:lnTo>
                <a:lnTo>
                  <a:pt x="228" y="6961"/>
                </a:lnTo>
                <a:lnTo>
                  <a:pt x="59" y="8770"/>
                </a:lnTo>
                <a:lnTo>
                  <a:pt x="0" y="10692"/>
                </a:lnTo>
                <a:lnTo>
                  <a:pt x="0" y="10908"/>
                </a:lnTo>
                <a:lnTo>
                  <a:pt x="59" y="12830"/>
                </a:lnTo>
                <a:lnTo>
                  <a:pt x="228" y="14639"/>
                </a:lnTo>
                <a:lnTo>
                  <a:pt x="499" y="16304"/>
                </a:lnTo>
                <a:lnTo>
                  <a:pt x="859" y="17797"/>
                </a:lnTo>
                <a:lnTo>
                  <a:pt x="1299" y="19085"/>
                </a:lnTo>
                <a:lnTo>
                  <a:pt x="1809" y="20140"/>
                </a:lnTo>
                <a:lnTo>
                  <a:pt x="2378" y="20931"/>
                </a:lnTo>
                <a:lnTo>
                  <a:pt x="2996" y="21428"/>
                </a:lnTo>
                <a:lnTo>
                  <a:pt x="3652" y="21600"/>
                </a:lnTo>
                <a:lnTo>
                  <a:pt x="17948" y="21600"/>
                </a:lnTo>
                <a:lnTo>
                  <a:pt x="18605" y="21428"/>
                </a:lnTo>
                <a:lnTo>
                  <a:pt x="19222" y="20931"/>
                </a:lnTo>
                <a:lnTo>
                  <a:pt x="19791" y="20140"/>
                </a:lnTo>
                <a:lnTo>
                  <a:pt x="20301" y="19085"/>
                </a:lnTo>
                <a:lnTo>
                  <a:pt x="20741" y="17797"/>
                </a:lnTo>
                <a:lnTo>
                  <a:pt x="21101" y="16304"/>
                </a:lnTo>
                <a:lnTo>
                  <a:pt x="21372" y="14639"/>
                </a:lnTo>
                <a:lnTo>
                  <a:pt x="21541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41" y="8770"/>
                </a:lnTo>
                <a:lnTo>
                  <a:pt x="21372" y="6961"/>
                </a:lnTo>
                <a:lnTo>
                  <a:pt x="21101" y="5295"/>
                </a:lnTo>
                <a:lnTo>
                  <a:pt x="20741" y="3803"/>
                </a:lnTo>
                <a:lnTo>
                  <a:pt x="20301" y="2514"/>
                </a:lnTo>
                <a:lnTo>
                  <a:pt x="19791" y="1460"/>
                </a:lnTo>
                <a:lnTo>
                  <a:pt x="19222" y="669"/>
                </a:lnTo>
                <a:lnTo>
                  <a:pt x="18605" y="172"/>
                </a:lnTo>
                <a:lnTo>
                  <a:pt x="17948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0" y="0"/>
            <a:ext cx="1004760" cy="49680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17873" y="0"/>
                </a:moveTo>
                <a:lnTo>
                  <a:pt x="0" y="0"/>
                </a:lnTo>
                <a:lnTo>
                  <a:pt x="0" y="21600"/>
                </a:lnTo>
                <a:lnTo>
                  <a:pt x="16243" y="21600"/>
                </a:lnTo>
                <a:lnTo>
                  <a:pt x="17206" y="21423"/>
                </a:lnTo>
                <a:lnTo>
                  <a:pt x="18112" y="20914"/>
                </a:lnTo>
                <a:lnTo>
                  <a:pt x="18947" y="20103"/>
                </a:lnTo>
                <a:lnTo>
                  <a:pt x="19694" y="19021"/>
                </a:lnTo>
                <a:lnTo>
                  <a:pt x="20340" y="17700"/>
                </a:lnTo>
                <a:lnTo>
                  <a:pt x="20869" y="16169"/>
                </a:lnTo>
                <a:lnTo>
                  <a:pt x="21265" y="14461"/>
                </a:lnTo>
                <a:lnTo>
                  <a:pt x="21514" y="12606"/>
                </a:lnTo>
                <a:lnTo>
                  <a:pt x="21600" y="10635"/>
                </a:lnTo>
                <a:lnTo>
                  <a:pt x="21600" y="10413"/>
                </a:lnTo>
                <a:lnTo>
                  <a:pt x="21514" y="8442"/>
                </a:lnTo>
                <a:lnTo>
                  <a:pt x="21265" y="6587"/>
                </a:lnTo>
                <a:lnTo>
                  <a:pt x="20869" y="4879"/>
                </a:lnTo>
                <a:lnTo>
                  <a:pt x="20340" y="3349"/>
                </a:lnTo>
                <a:lnTo>
                  <a:pt x="19694" y="2027"/>
                </a:lnTo>
                <a:lnTo>
                  <a:pt x="18947" y="945"/>
                </a:lnTo>
                <a:lnTo>
                  <a:pt x="18112" y="134"/>
                </a:lnTo>
                <a:lnTo>
                  <a:pt x="1787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1519200" y="6546960"/>
            <a:ext cx="790560" cy="309600"/>
          </a:xfrm>
          <a:custGeom>
            <a:avLst/>
            <a:gdLst>
              <a:gd name="textAreaLeft" fmla="*/ 0 w 790560"/>
              <a:gd name="textAreaRight" fmla="*/ 790920 w 7905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1600" h="21600">
                <a:moveTo>
                  <a:pt x="14782" y="0"/>
                </a:moveTo>
                <a:lnTo>
                  <a:pt x="6817" y="0"/>
                </a:lnTo>
                <a:lnTo>
                  <a:pt x="5592" y="283"/>
                </a:lnTo>
                <a:lnTo>
                  <a:pt x="4439" y="1100"/>
                </a:lnTo>
                <a:lnTo>
                  <a:pt x="3377" y="2401"/>
                </a:lnTo>
                <a:lnTo>
                  <a:pt x="2425" y="4137"/>
                </a:lnTo>
                <a:lnTo>
                  <a:pt x="1603" y="6257"/>
                </a:lnTo>
                <a:lnTo>
                  <a:pt x="931" y="8712"/>
                </a:lnTo>
                <a:lnTo>
                  <a:pt x="426" y="11452"/>
                </a:lnTo>
                <a:lnTo>
                  <a:pt x="110" y="14428"/>
                </a:lnTo>
                <a:lnTo>
                  <a:pt x="0" y="17590"/>
                </a:lnTo>
                <a:lnTo>
                  <a:pt x="0" y="17946"/>
                </a:lnTo>
                <a:lnTo>
                  <a:pt x="110" y="21108"/>
                </a:lnTo>
                <a:lnTo>
                  <a:pt x="162" y="21600"/>
                </a:lnTo>
                <a:lnTo>
                  <a:pt x="21438" y="21600"/>
                </a:lnTo>
                <a:lnTo>
                  <a:pt x="21490" y="21108"/>
                </a:lnTo>
                <a:lnTo>
                  <a:pt x="21600" y="17946"/>
                </a:lnTo>
                <a:lnTo>
                  <a:pt x="21600" y="17590"/>
                </a:lnTo>
                <a:lnTo>
                  <a:pt x="21490" y="14428"/>
                </a:lnTo>
                <a:lnTo>
                  <a:pt x="21173" y="11452"/>
                </a:lnTo>
                <a:lnTo>
                  <a:pt x="20669" y="8712"/>
                </a:lnTo>
                <a:lnTo>
                  <a:pt x="19997" y="6257"/>
                </a:lnTo>
                <a:lnTo>
                  <a:pt x="19175" y="4137"/>
                </a:lnTo>
                <a:lnTo>
                  <a:pt x="18223" y="2401"/>
                </a:lnTo>
                <a:lnTo>
                  <a:pt x="17161" y="1100"/>
                </a:lnTo>
                <a:lnTo>
                  <a:pt x="16008" y="283"/>
                </a:lnTo>
                <a:lnTo>
                  <a:pt x="14782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15"/>
          <p:cNvSpPr/>
          <p:nvPr/>
        </p:nvSpPr>
        <p:spPr>
          <a:xfrm>
            <a:off x="0" y="573120"/>
            <a:ext cx="1536840" cy="50940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8093" y="0"/>
                </a:moveTo>
                <a:lnTo>
                  <a:pt x="0" y="0"/>
                </a:lnTo>
                <a:lnTo>
                  <a:pt x="0" y="21600"/>
                </a:lnTo>
                <a:lnTo>
                  <a:pt x="18093" y="21600"/>
                </a:lnTo>
                <a:lnTo>
                  <a:pt x="18724" y="21428"/>
                </a:lnTo>
                <a:lnTo>
                  <a:pt x="19317" y="20931"/>
                </a:lnTo>
                <a:lnTo>
                  <a:pt x="19863" y="20140"/>
                </a:lnTo>
                <a:lnTo>
                  <a:pt x="20353" y="19085"/>
                </a:lnTo>
                <a:lnTo>
                  <a:pt x="20775" y="17797"/>
                </a:lnTo>
                <a:lnTo>
                  <a:pt x="21121" y="16304"/>
                </a:lnTo>
                <a:lnTo>
                  <a:pt x="21381" y="14639"/>
                </a:lnTo>
                <a:lnTo>
                  <a:pt x="21544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44" y="8770"/>
                </a:lnTo>
                <a:lnTo>
                  <a:pt x="21381" y="6961"/>
                </a:lnTo>
                <a:lnTo>
                  <a:pt x="21121" y="5295"/>
                </a:lnTo>
                <a:lnTo>
                  <a:pt x="20775" y="3803"/>
                </a:lnTo>
                <a:lnTo>
                  <a:pt x="20353" y="2514"/>
                </a:lnTo>
                <a:lnTo>
                  <a:pt x="19863" y="1460"/>
                </a:lnTo>
                <a:lnTo>
                  <a:pt x="19317" y="669"/>
                </a:lnTo>
                <a:lnTo>
                  <a:pt x="18724" y="172"/>
                </a:lnTo>
                <a:lnTo>
                  <a:pt x="1809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0" y="1238400"/>
            <a:ext cx="3067200" cy="509400"/>
          </a:xfrm>
          <a:custGeom>
            <a:avLst/>
            <a:gdLst>
              <a:gd name="textAreaLeft" fmla="*/ 0 w 3067200"/>
              <a:gd name="textAreaRight" fmla="*/ 3067560 w 306720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9842" y="0"/>
                </a:moveTo>
                <a:lnTo>
                  <a:pt x="0" y="0"/>
                </a:lnTo>
                <a:lnTo>
                  <a:pt x="0" y="21600"/>
                </a:lnTo>
                <a:lnTo>
                  <a:pt x="19842" y="21600"/>
                </a:lnTo>
                <a:lnTo>
                  <a:pt x="20158" y="21428"/>
                </a:lnTo>
                <a:lnTo>
                  <a:pt x="20456" y="20931"/>
                </a:lnTo>
                <a:lnTo>
                  <a:pt x="20729" y="20140"/>
                </a:lnTo>
                <a:lnTo>
                  <a:pt x="20975" y="19085"/>
                </a:lnTo>
                <a:lnTo>
                  <a:pt x="21187" y="17797"/>
                </a:lnTo>
                <a:lnTo>
                  <a:pt x="21360" y="16304"/>
                </a:lnTo>
                <a:lnTo>
                  <a:pt x="21490" y="14639"/>
                </a:lnTo>
                <a:lnTo>
                  <a:pt x="21572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72" y="8770"/>
                </a:lnTo>
                <a:lnTo>
                  <a:pt x="21490" y="6961"/>
                </a:lnTo>
                <a:lnTo>
                  <a:pt x="21360" y="5295"/>
                </a:lnTo>
                <a:lnTo>
                  <a:pt x="21187" y="3803"/>
                </a:lnTo>
                <a:lnTo>
                  <a:pt x="20975" y="2514"/>
                </a:lnTo>
                <a:lnTo>
                  <a:pt x="20729" y="1460"/>
                </a:lnTo>
                <a:lnTo>
                  <a:pt x="20456" y="669"/>
                </a:lnTo>
                <a:lnTo>
                  <a:pt x="20158" y="172"/>
                </a:lnTo>
                <a:lnTo>
                  <a:pt x="19842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0" y="1916280"/>
            <a:ext cx="3432240" cy="509400"/>
          </a:xfrm>
          <a:custGeom>
            <a:avLst/>
            <a:gdLst>
              <a:gd name="textAreaLeft" fmla="*/ 0 w 3432240"/>
              <a:gd name="textAreaRight" fmla="*/ 3432600 w 34322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20030" y="0"/>
                </a:moveTo>
                <a:lnTo>
                  <a:pt x="0" y="0"/>
                </a:lnTo>
                <a:lnTo>
                  <a:pt x="0" y="21600"/>
                </a:lnTo>
                <a:lnTo>
                  <a:pt x="20030" y="21600"/>
                </a:lnTo>
                <a:lnTo>
                  <a:pt x="20312" y="21428"/>
                </a:lnTo>
                <a:lnTo>
                  <a:pt x="20578" y="20931"/>
                </a:lnTo>
                <a:lnTo>
                  <a:pt x="20822" y="20140"/>
                </a:lnTo>
                <a:lnTo>
                  <a:pt x="21041" y="19085"/>
                </a:lnTo>
                <a:lnTo>
                  <a:pt x="21231" y="17797"/>
                </a:lnTo>
                <a:lnTo>
                  <a:pt x="21386" y="16304"/>
                </a:lnTo>
                <a:lnTo>
                  <a:pt x="21502" y="14639"/>
                </a:lnTo>
                <a:lnTo>
                  <a:pt x="21575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75" y="8770"/>
                </a:lnTo>
                <a:lnTo>
                  <a:pt x="21502" y="6961"/>
                </a:lnTo>
                <a:lnTo>
                  <a:pt x="21386" y="5295"/>
                </a:lnTo>
                <a:lnTo>
                  <a:pt x="21231" y="3803"/>
                </a:lnTo>
                <a:lnTo>
                  <a:pt x="21041" y="2514"/>
                </a:lnTo>
                <a:lnTo>
                  <a:pt x="20822" y="1460"/>
                </a:lnTo>
                <a:lnTo>
                  <a:pt x="20578" y="669"/>
                </a:lnTo>
                <a:lnTo>
                  <a:pt x="20312" y="172"/>
                </a:lnTo>
                <a:lnTo>
                  <a:pt x="20030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0" y="2600280"/>
            <a:ext cx="4619520" cy="511200"/>
          </a:xfrm>
          <a:custGeom>
            <a:avLst/>
            <a:gdLst>
              <a:gd name="textAreaLeft" fmla="*/ 0 w 4619520"/>
              <a:gd name="textAreaRight" fmla="*/ 4619880 w 4619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20598" y="0"/>
                </a:moveTo>
                <a:lnTo>
                  <a:pt x="0" y="0"/>
                </a:lnTo>
                <a:lnTo>
                  <a:pt x="0" y="21600"/>
                </a:lnTo>
                <a:lnTo>
                  <a:pt x="20433" y="21600"/>
                </a:lnTo>
                <a:lnTo>
                  <a:pt x="20643" y="21428"/>
                </a:lnTo>
                <a:lnTo>
                  <a:pt x="20840" y="20931"/>
                </a:lnTo>
                <a:lnTo>
                  <a:pt x="21022" y="20140"/>
                </a:lnTo>
                <a:lnTo>
                  <a:pt x="21185" y="19085"/>
                </a:lnTo>
                <a:lnTo>
                  <a:pt x="21326" y="17797"/>
                </a:lnTo>
                <a:lnTo>
                  <a:pt x="21441" y="16304"/>
                </a:lnTo>
                <a:lnTo>
                  <a:pt x="21527" y="14639"/>
                </a:lnTo>
                <a:lnTo>
                  <a:pt x="21581" y="12830"/>
                </a:lnTo>
                <a:lnTo>
                  <a:pt x="21600" y="10908"/>
                </a:lnTo>
                <a:lnTo>
                  <a:pt x="21600" y="9184"/>
                </a:lnTo>
                <a:lnTo>
                  <a:pt x="21574" y="7078"/>
                </a:lnTo>
                <a:lnTo>
                  <a:pt x="21498" y="5145"/>
                </a:lnTo>
                <a:lnTo>
                  <a:pt x="21380" y="3440"/>
                </a:lnTo>
                <a:lnTo>
                  <a:pt x="21225" y="2018"/>
                </a:lnTo>
                <a:lnTo>
                  <a:pt x="21039" y="933"/>
                </a:lnTo>
                <a:lnTo>
                  <a:pt x="20828" y="243"/>
                </a:lnTo>
                <a:lnTo>
                  <a:pt x="20598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3784680" y="5978520"/>
            <a:ext cx="50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ty-Second Session of the Intergovernmental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Committee of Experts (IC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27480" y="1456920"/>
            <a:ext cx="4284720" cy="15699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ato"/>
                <a:ea typeface="SimSun"/>
              </a:rPr>
              <a:t>REPORT on ECA ACTIVITIE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0" y="5400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279360" y="123840"/>
            <a:ext cx="4530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4659480" y="17784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CA93-E27A-457E-B31E-A31E1A14F88C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91600" y="2637000"/>
            <a:ext cx="859644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doption of the New Urban Agenda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the third United Nations Conference on Housing and Sustainable Urban Development (Habitat III) in Octob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63972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ECA extensively supported the endorsement of th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Common African Position on Habitat III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at the Heads of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63972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63972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334800" y="655560"/>
            <a:ext cx="828072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Promoting inclusive and equitable human and social development policies in support of Africa’s transformative agen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0" y="5400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279360" y="123840"/>
            <a:ext cx="438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659480" y="17784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9A96-207B-479E-9446-993AA64AE0F4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44160" y="2155680"/>
            <a:ext cx="859644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Formulation by member States of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national vision and fiscal decentralisation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 programmes  informed by th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Africa Social Development Index (ASDI)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results (e.g. Botswana and Kenya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52 member States and regional economic communities reporting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progress on gender-related conventions and commitments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using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frica Gender and Development Index (AGD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AUC awarded the best performing member states on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gender equality and women’s empowerment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using the ECA and ADB facilitated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African scorec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334800" y="563400"/>
            <a:ext cx="828072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ECA contributed to promote inclusive and equitable human and social development policies in support of Africa’s transformative agen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0" y="9036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279360" y="162000"/>
            <a:ext cx="4292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4659480" y="21600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6124-F195-49FE-9C35-C684E0A8DE37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60000" y="1698120"/>
            <a:ext cx="859788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2015 Conference of Ministers’ resolution 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requesting ECA “to lead the African data revolution, bringing together diverse data communities and using a wide range of data sources, tools and innovative technologie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First edition of the 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Africa Data Revolution Report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, which reviews the data ecosystem in the continent for sustainable development , to include 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assessments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of national data systems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n selected countries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Evaluation of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Helvetica Neue"/>
              </a:rPr>
              <a:t>the 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  <a:ea typeface="Helvetica Neue"/>
              </a:rPr>
              <a:t>alignment and readiness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Helvetica Neue"/>
              </a:rPr>
              <a:t>of a number of national statistical systems with SDGs and Agenda 2063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Review of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Civil Registration and Vital Statistics (CRVS)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in several countries in context of the implementation of the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Africa Programme for Accelerated Improvement of CR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Development of the African Programme on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Gender Stat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7666200" y="635652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7796160" y="647208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0" y="635652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71600" y="644220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"/>
          <p:cNvSpPr/>
          <p:nvPr/>
        </p:nvSpPr>
        <p:spPr>
          <a:xfrm>
            <a:off x="279360" y="625320"/>
            <a:ext cx="8596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Supporting the Africa Data Revolution for evidence based planning and policyma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Group 30" descr=""/>
          <p:cNvPicPr/>
          <p:nvPr/>
        </p:nvPicPr>
        <p:blipFill>
          <a:blip r:embed="rId1"/>
          <a:stretch/>
        </p:blipFill>
        <p:spPr>
          <a:xfrm>
            <a:off x="2114640" y="3767040"/>
            <a:ext cx="4914720" cy="244476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"/>
          <p:cNvGrpSpPr/>
          <p:nvPr/>
        </p:nvGrpSpPr>
        <p:grpSpPr>
          <a:xfrm>
            <a:off x="3995640" y="1316160"/>
            <a:ext cx="1152720" cy="2997000"/>
            <a:chOff x="3995640" y="1316160"/>
            <a:chExt cx="1152720" cy="2997000"/>
          </a:xfrm>
        </p:grpSpPr>
        <p:sp>
          <p:nvSpPr>
            <p:cNvPr id="249" name="Freeform 11"/>
            <p:cNvSpPr/>
            <p:nvPr/>
          </p:nvSpPr>
          <p:spPr>
            <a:xfrm>
              <a:off x="3995640" y="1316160"/>
              <a:ext cx="1152720" cy="393480"/>
            </a:xfrm>
            <a:custGeom>
              <a:avLst/>
              <a:gdLst/>
              <a:ahLst/>
              <a:rect l="l" t="t" r="r" b="b"/>
              <a:pathLst>
                <a:path w="725" h="248">
                  <a:moveTo>
                    <a:pt x="364" y="0"/>
                  </a:moveTo>
                  <a:lnTo>
                    <a:pt x="725" y="125"/>
                  </a:lnTo>
                  <a:lnTo>
                    <a:pt x="364" y="248"/>
                  </a:lnTo>
                  <a:lnTo>
                    <a:pt x="0" y="125"/>
                  </a:lnTo>
                  <a:lnTo>
                    <a:pt x="364" y="0"/>
                  </a:lnTo>
                  <a:close/>
                </a:path>
              </a:pathLst>
            </a:custGeom>
            <a:gradFill rotWithShape="0">
              <a:gsLst>
                <a:gs pos="0">
                  <a:srgbClr val="093667"/>
                </a:gs>
                <a:gs pos="100000">
                  <a:srgbClr val="0d4f97"/>
                </a:gs>
              </a:gsLst>
              <a:lin ang="5400000"/>
            </a:gradFill>
            <a:ln w="9360">
              <a:solidFill>
                <a:srgbClr val="0132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574520" y="1514520"/>
              <a:ext cx="573840" cy="2798640"/>
            </a:xfrm>
            <a:custGeom>
              <a:avLst/>
              <a:gdLst/>
              <a:ahLst/>
              <a:rect l="l" t="t" r="r" b="b"/>
              <a:pathLst>
                <a:path w="361" h="1763">
                  <a:moveTo>
                    <a:pt x="361" y="0"/>
                  </a:moveTo>
                  <a:lnTo>
                    <a:pt x="361" y="1640"/>
                  </a:lnTo>
                  <a:lnTo>
                    <a:pt x="0" y="1763"/>
                  </a:lnTo>
                  <a:lnTo>
                    <a:pt x="0" y="123"/>
                  </a:lnTo>
                  <a:lnTo>
                    <a:pt x="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93667"/>
                </a:gs>
                <a:gs pos="100000">
                  <a:srgbClr val="011e39"/>
                </a:gs>
              </a:gsLst>
              <a:lin ang="13500000"/>
            </a:gradFill>
            <a:ln w="9360">
              <a:solidFill>
                <a:srgbClr val="0132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3995640" y="1514520"/>
              <a:ext cx="578880" cy="2798640"/>
            </a:xfrm>
            <a:custGeom>
              <a:avLst/>
              <a:gdLst/>
              <a:ahLst/>
              <a:rect l="l" t="t" r="r" b="b"/>
              <a:pathLst>
                <a:path w="364" h="1763">
                  <a:moveTo>
                    <a:pt x="364" y="123"/>
                  </a:moveTo>
                  <a:lnTo>
                    <a:pt x="364" y="1763"/>
                  </a:lnTo>
                  <a:lnTo>
                    <a:pt x="0" y="1640"/>
                  </a:lnTo>
                  <a:lnTo>
                    <a:pt x="0" y="0"/>
                  </a:lnTo>
                  <a:lnTo>
                    <a:pt x="364" y="123"/>
                  </a:lnTo>
                  <a:close/>
                </a:path>
              </a:pathLst>
            </a:custGeom>
            <a:solidFill>
              <a:srgbClr val="093667"/>
            </a:solidFill>
            <a:ln w="9360">
              <a:solidFill>
                <a:srgbClr val="0132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7"/>
          <p:cNvGrpSpPr/>
          <p:nvPr/>
        </p:nvGrpSpPr>
        <p:grpSpPr>
          <a:xfrm>
            <a:off x="3209760" y="2014560"/>
            <a:ext cx="1148040" cy="2552760"/>
            <a:chOff x="3209760" y="2014560"/>
            <a:chExt cx="1148040" cy="2552760"/>
          </a:xfrm>
        </p:grpSpPr>
        <p:sp>
          <p:nvSpPr>
            <p:cNvPr id="253" name="Freeform 14"/>
            <p:cNvSpPr/>
            <p:nvPr/>
          </p:nvSpPr>
          <p:spPr>
            <a:xfrm>
              <a:off x="3209760" y="2014560"/>
              <a:ext cx="1148040" cy="39348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362" y="0"/>
                  </a:moveTo>
                  <a:lnTo>
                    <a:pt x="723" y="125"/>
                  </a:lnTo>
                  <a:lnTo>
                    <a:pt x="362" y="248"/>
                  </a:lnTo>
                  <a:lnTo>
                    <a:pt x="0" y="125"/>
                  </a:lnTo>
                  <a:lnTo>
                    <a:pt x="362" y="0"/>
                  </a:lnTo>
                  <a:close/>
                </a:path>
              </a:pathLst>
            </a:custGeom>
            <a:gradFill rotWithShape="0">
              <a:gsLst>
                <a:gs pos="0">
                  <a:srgbClr val="0560b3"/>
                </a:gs>
                <a:gs pos="100000">
                  <a:srgbClr val="066cc9"/>
                </a:gs>
              </a:gsLst>
              <a:lin ang="5400000"/>
            </a:gradFill>
            <a:ln w="9360">
              <a:solidFill>
                <a:srgbClr val="0156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3784680" y="2212920"/>
              <a:ext cx="573120" cy="2354400"/>
            </a:xfrm>
            <a:custGeom>
              <a:avLst/>
              <a:gdLst/>
              <a:ahLst/>
              <a:rect l="l" t="t" r="r" b="b"/>
              <a:pathLst>
                <a:path w="361" h="1483">
                  <a:moveTo>
                    <a:pt x="361" y="0"/>
                  </a:moveTo>
                  <a:lnTo>
                    <a:pt x="361" y="1360"/>
                  </a:lnTo>
                  <a:lnTo>
                    <a:pt x="0" y="1483"/>
                  </a:lnTo>
                  <a:lnTo>
                    <a:pt x="0" y="123"/>
                  </a:lnTo>
                  <a:lnTo>
                    <a:pt x="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560b3"/>
                </a:gs>
                <a:gs pos="100000">
                  <a:srgbClr val="043e72"/>
                </a:gs>
              </a:gsLst>
              <a:lin ang="13500000"/>
            </a:gradFill>
            <a:ln w="9360">
              <a:solidFill>
                <a:srgbClr val="0156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3209760" y="2212920"/>
              <a:ext cx="574920" cy="2354400"/>
            </a:xfrm>
            <a:custGeom>
              <a:avLst/>
              <a:gdLst/>
              <a:ahLst/>
              <a:rect l="l" t="t" r="r" b="b"/>
              <a:pathLst>
                <a:path w="362" h="1483">
                  <a:moveTo>
                    <a:pt x="362" y="123"/>
                  </a:moveTo>
                  <a:lnTo>
                    <a:pt x="362" y="1483"/>
                  </a:lnTo>
                  <a:lnTo>
                    <a:pt x="0" y="1360"/>
                  </a:lnTo>
                  <a:lnTo>
                    <a:pt x="0" y="0"/>
                  </a:lnTo>
                  <a:lnTo>
                    <a:pt x="362" y="123"/>
                  </a:lnTo>
                  <a:close/>
                </a:path>
              </a:pathLst>
            </a:custGeom>
            <a:solidFill>
              <a:srgbClr val="0560b3"/>
            </a:solidFill>
            <a:ln w="9360">
              <a:solidFill>
                <a:srgbClr val="0156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Group 34"/>
          <p:cNvGrpSpPr/>
          <p:nvPr/>
        </p:nvGrpSpPr>
        <p:grpSpPr>
          <a:xfrm>
            <a:off x="4789440" y="2452680"/>
            <a:ext cx="1147680" cy="2119320"/>
            <a:chOff x="4789440" y="2452680"/>
            <a:chExt cx="1147680" cy="2119320"/>
          </a:xfrm>
        </p:grpSpPr>
        <p:sp>
          <p:nvSpPr>
            <p:cNvPr id="257" name="Freeform 17"/>
            <p:cNvSpPr/>
            <p:nvPr/>
          </p:nvSpPr>
          <p:spPr>
            <a:xfrm>
              <a:off x="4789440" y="2452680"/>
              <a:ext cx="1147680" cy="39348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362" y="0"/>
                  </a:moveTo>
                  <a:lnTo>
                    <a:pt x="723" y="123"/>
                  </a:lnTo>
                  <a:lnTo>
                    <a:pt x="362" y="248"/>
                  </a:lnTo>
                  <a:lnTo>
                    <a:pt x="0" y="123"/>
                  </a:lnTo>
                  <a:lnTo>
                    <a:pt x="362" y="0"/>
                  </a:lnTo>
                  <a:close/>
                </a:path>
              </a:pathLst>
            </a:custGeom>
            <a:gradFill rotWithShape="0">
              <a:gsLst>
                <a:gs pos="0">
                  <a:srgbClr val="025663"/>
                </a:gs>
                <a:gs pos="100000">
                  <a:srgbClr val="02788c"/>
                </a:gs>
              </a:gsLst>
              <a:lin ang="5400000"/>
            </a:gradFill>
            <a:ln w="9360">
              <a:solidFill>
                <a:srgbClr val="0345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18"/>
            <p:cNvSpPr/>
            <p:nvPr/>
          </p:nvSpPr>
          <p:spPr>
            <a:xfrm>
              <a:off x="4789440" y="2647800"/>
              <a:ext cx="574560" cy="1924200"/>
            </a:xfrm>
            <a:custGeom>
              <a:avLst/>
              <a:gdLst/>
              <a:ahLst/>
              <a:rect l="l" t="t" r="r" b="b"/>
              <a:pathLst>
                <a:path w="362" h="1212">
                  <a:moveTo>
                    <a:pt x="362" y="125"/>
                  </a:moveTo>
                  <a:lnTo>
                    <a:pt x="362" y="1212"/>
                  </a:lnTo>
                  <a:lnTo>
                    <a:pt x="0" y="1089"/>
                  </a:lnTo>
                  <a:lnTo>
                    <a:pt x="0" y="0"/>
                  </a:lnTo>
                  <a:lnTo>
                    <a:pt x="362" y="125"/>
                  </a:lnTo>
                  <a:close/>
                </a:path>
              </a:pathLst>
            </a:custGeom>
            <a:solidFill>
              <a:srgbClr val="025663"/>
            </a:solidFill>
            <a:ln w="9360">
              <a:solidFill>
                <a:srgbClr val="0345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19"/>
            <p:cNvSpPr/>
            <p:nvPr/>
          </p:nvSpPr>
          <p:spPr>
            <a:xfrm>
              <a:off x="5364000" y="2647800"/>
              <a:ext cx="573120" cy="1924200"/>
            </a:xfrm>
            <a:custGeom>
              <a:avLst/>
              <a:gdLst/>
              <a:ahLst/>
              <a:rect l="l" t="t" r="r" b="b"/>
              <a:pathLst>
                <a:path w="361" h="1212">
                  <a:moveTo>
                    <a:pt x="361" y="0"/>
                  </a:moveTo>
                  <a:lnTo>
                    <a:pt x="361" y="1089"/>
                  </a:lnTo>
                  <a:lnTo>
                    <a:pt x="0" y="1212"/>
                  </a:lnTo>
                  <a:lnTo>
                    <a:pt x="0" y="125"/>
                  </a:lnTo>
                  <a:lnTo>
                    <a:pt x="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25663"/>
                </a:gs>
                <a:gs pos="100000">
                  <a:srgbClr val="01343d"/>
                </a:gs>
              </a:gsLst>
              <a:lin ang="13500000"/>
            </a:gradFill>
            <a:ln w="9360">
              <a:solidFill>
                <a:srgbClr val="0345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3"/>
          <p:cNvGrpSpPr/>
          <p:nvPr/>
        </p:nvGrpSpPr>
        <p:grpSpPr>
          <a:xfrm>
            <a:off x="2425680" y="3146400"/>
            <a:ext cx="1152720" cy="1676520"/>
            <a:chOff x="2425680" y="3146400"/>
            <a:chExt cx="1152720" cy="1676520"/>
          </a:xfrm>
        </p:grpSpPr>
        <p:sp>
          <p:nvSpPr>
            <p:cNvPr id="261" name="Freeform 20"/>
            <p:cNvSpPr/>
            <p:nvPr/>
          </p:nvSpPr>
          <p:spPr>
            <a:xfrm>
              <a:off x="2425680" y="3146400"/>
              <a:ext cx="1150560" cy="393480"/>
            </a:xfrm>
            <a:custGeom>
              <a:avLst/>
              <a:gdLst/>
              <a:ahLst/>
              <a:rect l="l" t="t" r="r" b="b"/>
              <a:pathLst>
                <a:path w="725" h="248">
                  <a:moveTo>
                    <a:pt x="361" y="0"/>
                  </a:moveTo>
                  <a:lnTo>
                    <a:pt x="725" y="125"/>
                  </a:lnTo>
                  <a:lnTo>
                    <a:pt x="361" y="248"/>
                  </a:lnTo>
                  <a:lnTo>
                    <a:pt x="0" y="125"/>
                  </a:lnTo>
                  <a:lnTo>
                    <a:pt x="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8a7ee"/>
                </a:gs>
                <a:gs pos="100000">
                  <a:srgbClr val="17b2f7"/>
                </a:gs>
              </a:gsLst>
              <a:lin ang="5400000"/>
            </a:gradFill>
            <a:ln w="9360">
              <a:solidFill>
                <a:srgbClr val="0195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3000960" y="3346200"/>
              <a:ext cx="577440" cy="1476720"/>
            </a:xfrm>
            <a:custGeom>
              <a:avLst/>
              <a:gdLst/>
              <a:ahLst/>
              <a:rect l="l" t="t" r="r" b="b"/>
              <a:pathLst>
                <a:path w="364" h="933">
                  <a:moveTo>
                    <a:pt x="364" y="0"/>
                  </a:moveTo>
                  <a:lnTo>
                    <a:pt x="364" y="808"/>
                  </a:lnTo>
                  <a:lnTo>
                    <a:pt x="0" y="933"/>
                  </a:lnTo>
                  <a:lnTo>
                    <a:pt x="0" y="123"/>
                  </a:lnTo>
                  <a:lnTo>
                    <a:pt x="364" y="0"/>
                  </a:lnTo>
                  <a:close/>
                </a:path>
              </a:pathLst>
            </a:custGeom>
            <a:gradFill rotWithShape="0">
              <a:gsLst>
                <a:gs pos="0">
                  <a:srgbClr val="037ab5"/>
                </a:gs>
                <a:gs pos="100000">
                  <a:srgbClr val="08a7ee"/>
                </a:gs>
              </a:gsLst>
              <a:lin ang="2700000"/>
            </a:gradFill>
            <a:ln w="9360">
              <a:solidFill>
                <a:srgbClr val="0195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2425680" y="3344760"/>
              <a:ext cx="572760" cy="1478160"/>
            </a:xfrm>
            <a:custGeom>
              <a:avLst/>
              <a:gdLst/>
              <a:ahLst/>
              <a:rect l="l" t="t" r="r" b="b"/>
              <a:pathLst>
                <a:path w="361" h="931">
                  <a:moveTo>
                    <a:pt x="361" y="123"/>
                  </a:moveTo>
                  <a:lnTo>
                    <a:pt x="361" y="931"/>
                  </a:lnTo>
                  <a:lnTo>
                    <a:pt x="0" y="806"/>
                  </a:lnTo>
                  <a:lnTo>
                    <a:pt x="0" y="0"/>
                  </a:lnTo>
                  <a:lnTo>
                    <a:pt x="361" y="123"/>
                  </a:lnTo>
                  <a:close/>
                </a:path>
              </a:pathLst>
            </a:custGeom>
            <a:solidFill>
              <a:srgbClr val="08a7ee"/>
            </a:solidFill>
            <a:ln w="9360">
              <a:solidFill>
                <a:srgbClr val="0195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35"/>
          <p:cNvGrpSpPr/>
          <p:nvPr/>
        </p:nvGrpSpPr>
        <p:grpSpPr>
          <a:xfrm>
            <a:off x="3995640" y="3522600"/>
            <a:ext cx="1152720" cy="1303560"/>
            <a:chOff x="3995640" y="3522600"/>
            <a:chExt cx="1152720" cy="1303560"/>
          </a:xfrm>
        </p:grpSpPr>
        <p:sp>
          <p:nvSpPr>
            <p:cNvPr id="265" name="Freeform 23"/>
            <p:cNvSpPr/>
            <p:nvPr/>
          </p:nvSpPr>
          <p:spPr>
            <a:xfrm>
              <a:off x="3995640" y="3522600"/>
              <a:ext cx="1152720" cy="413280"/>
            </a:xfrm>
            <a:custGeom>
              <a:avLst/>
              <a:gdLst/>
              <a:ahLst/>
              <a:rect l="l" t="t" r="r" b="b"/>
              <a:pathLst>
                <a:path w="725" h="248">
                  <a:moveTo>
                    <a:pt x="361" y="0"/>
                  </a:moveTo>
                  <a:lnTo>
                    <a:pt x="725" y="125"/>
                  </a:lnTo>
                  <a:lnTo>
                    <a:pt x="361" y="248"/>
                  </a:lnTo>
                  <a:lnTo>
                    <a:pt x="0" y="125"/>
                  </a:lnTo>
                  <a:lnTo>
                    <a:pt x="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8d8e2"/>
                </a:gs>
                <a:gs pos="100000">
                  <a:srgbClr val="08e7f2"/>
                </a:gs>
              </a:gsLst>
              <a:lin ang="5400000"/>
            </a:gradFill>
            <a:ln w="9360">
              <a:solidFill>
                <a:srgbClr val="06ce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4569480" y="3730680"/>
              <a:ext cx="578880" cy="1095480"/>
            </a:xfrm>
            <a:custGeom>
              <a:avLst/>
              <a:gdLst/>
              <a:ahLst/>
              <a:rect l="l" t="t" r="r" b="b"/>
              <a:pathLst>
                <a:path w="364" h="657">
                  <a:moveTo>
                    <a:pt x="364" y="0"/>
                  </a:moveTo>
                  <a:lnTo>
                    <a:pt x="364" y="532"/>
                  </a:lnTo>
                  <a:lnTo>
                    <a:pt x="0" y="657"/>
                  </a:lnTo>
                  <a:lnTo>
                    <a:pt x="0" y="123"/>
                  </a:lnTo>
                  <a:lnTo>
                    <a:pt x="364" y="0"/>
                  </a:lnTo>
                  <a:close/>
                </a:path>
              </a:pathLst>
            </a:custGeom>
            <a:gradFill rotWithShape="0">
              <a:gsLst>
                <a:gs pos="0">
                  <a:srgbClr val="08d8e2"/>
                </a:gs>
                <a:gs pos="100000">
                  <a:srgbClr val="06979e"/>
                </a:gs>
              </a:gsLst>
              <a:lin ang="13500000"/>
            </a:gradFill>
            <a:ln w="9360">
              <a:solidFill>
                <a:srgbClr val="06ce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3995640" y="3730680"/>
              <a:ext cx="573840" cy="1095480"/>
            </a:xfrm>
            <a:custGeom>
              <a:avLst/>
              <a:gdLst/>
              <a:ahLst/>
              <a:rect l="l" t="t" r="r" b="b"/>
              <a:pathLst>
                <a:path w="361" h="657">
                  <a:moveTo>
                    <a:pt x="361" y="123"/>
                  </a:moveTo>
                  <a:lnTo>
                    <a:pt x="361" y="657"/>
                  </a:lnTo>
                  <a:lnTo>
                    <a:pt x="0" y="532"/>
                  </a:lnTo>
                  <a:lnTo>
                    <a:pt x="0" y="0"/>
                  </a:lnTo>
                  <a:lnTo>
                    <a:pt x="361" y="123"/>
                  </a:lnTo>
                  <a:close/>
                </a:path>
              </a:pathLst>
            </a:custGeom>
            <a:solidFill>
              <a:srgbClr val="08d8e2"/>
            </a:solidFill>
            <a:ln w="9360">
              <a:solidFill>
                <a:srgbClr val="06ce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36"/>
          <p:cNvGrpSpPr/>
          <p:nvPr/>
        </p:nvGrpSpPr>
        <p:grpSpPr>
          <a:xfrm>
            <a:off x="5315040" y="3405240"/>
            <a:ext cx="1147680" cy="1471680"/>
            <a:chOff x="5315040" y="3405240"/>
            <a:chExt cx="1147680" cy="1471680"/>
          </a:xfrm>
        </p:grpSpPr>
        <p:sp>
          <p:nvSpPr>
            <p:cNvPr id="269" name="Freeform 26"/>
            <p:cNvSpPr/>
            <p:nvPr/>
          </p:nvSpPr>
          <p:spPr>
            <a:xfrm>
              <a:off x="5315040" y="3405240"/>
              <a:ext cx="1147680" cy="72144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361" y="0"/>
                  </a:moveTo>
                  <a:lnTo>
                    <a:pt x="723" y="125"/>
                  </a:lnTo>
                  <a:lnTo>
                    <a:pt x="361" y="248"/>
                  </a:lnTo>
                  <a:lnTo>
                    <a:pt x="0" y="125"/>
                  </a:lnTo>
                  <a:lnTo>
                    <a:pt x="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99a1"/>
                </a:gs>
                <a:gs pos="100000">
                  <a:srgbClr val="01abb3"/>
                </a:gs>
              </a:gsLst>
              <a:lin ang="5400000"/>
            </a:gradFill>
            <a:ln w="9360">
              <a:solidFill>
                <a:srgbClr val="048c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5315040" y="3768840"/>
              <a:ext cx="573120" cy="1108080"/>
            </a:xfrm>
            <a:custGeom>
              <a:avLst/>
              <a:gdLst/>
              <a:ahLst/>
              <a:rect l="l" t="t" r="r" b="b"/>
              <a:pathLst>
                <a:path w="361" h="381">
                  <a:moveTo>
                    <a:pt x="361" y="123"/>
                  </a:moveTo>
                  <a:lnTo>
                    <a:pt x="361" y="381"/>
                  </a:lnTo>
                  <a:lnTo>
                    <a:pt x="0" y="258"/>
                  </a:lnTo>
                  <a:lnTo>
                    <a:pt x="0" y="0"/>
                  </a:lnTo>
                  <a:lnTo>
                    <a:pt x="361" y="123"/>
                  </a:lnTo>
                  <a:close/>
                </a:path>
              </a:pathLst>
            </a:custGeom>
            <a:solidFill>
              <a:srgbClr val="0199a1"/>
            </a:solidFill>
            <a:ln w="9360">
              <a:solidFill>
                <a:srgbClr val="048c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5888160" y="3768840"/>
              <a:ext cx="574560" cy="1108080"/>
            </a:xfrm>
            <a:custGeom>
              <a:avLst/>
              <a:gdLst/>
              <a:ahLst/>
              <a:rect l="l" t="t" r="r" b="b"/>
              <a:pathLst>
                <a:path w="362" h="381">
                  <a:moveTo>
                    <a:pt x="362" y="0"/>
                  </a:moveTo>
                  <a:lnTo>
                    <a:pt x="362" y="258"/>
                  </a:lnTo>
                  <a:lnTo>
                    <a:pt x="0" y="381"/>
                  </a:lnTo>
                  <a:lnTo>
                    <a:pt x="0" y="123"/>
                  </a:lnTo>
                  <a:lnTo>
                    <a:pt x="362" y="0"/>
                  </a:lnTo>
                  <a:close/>
                </a:path>
              </a:pathLst>
            </a:custGeom>
            <a:gradFill rotWithShape="0">
              <a:gsLst>
                <a:gs pos="0">
                  <a:srgbClr val="0199a1"/>
                </a:gs>
                <a:gs pos="100000">
                  <a:srgbClr val="015e63"/>
                </a:gs>
              </a:gsLst>
              <a:lin ang="13500000"/>
            </a:gradFill>
            <a:ln w="9360">
              <a:solidFill>
                <a:srgbClr val="048c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72" name="Straight Arrow Connector 72"/>
          <p:cNvCxnSpPr/>
          <p:nvPr/>
        </p:nvCxnSpPr>
        <p:spPr>
          <a:xfrm>
            <a:off x="225000" y="2692080"/>
            <a:ext cx="3142440" cy="1080"/>
          </a:xfrm>
          <a:prstGeom prst="straightConnector1">
            <a:avLst/>
          </a:prstGeom>
          <a:ln w="19080">
            <a:solidFill>
              <a:srgbClr val="9b9b9b"/>
            </a:solidFill>
            <a:miter/>
            <a:tailEnd len="med" type="oval" w="med"/>
          </a:ln>
        </p:spPr>
      </p:cxnSp>
      <p:sp>
        <p:nvSpPr>
          <p:cNvPr id="273" name="TextBox 73"/>
          <p:cNvSpPr/>
          <p:nvPr/>
        </p:nvSpPr>
        <p:spPr>
          <a:xfrm>
            <a:off x="225360" y="1860480"/>
            <a:ext cx="29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98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4" name="Straight Arrow Connector 74"/>
          <p:cNvCxnSpPr/>
          <p:nvPr/>
        </p:nvCxnSpPr>
        <p:spPr>
          <a:xfrm>
            <a:off x="225000" y="1750680"/>
            <a:ext cx="3940920" cy="1080"/>
          </a:xfrm>
          <a:prstGeom prst="straightConnector1">
            <a:avLst/>
          </a:prstGeom>
          <a:ln w="19080">
            <a:solidFill>
              <a:srgbClr val="9b9b9b"/>
            </a:solidFill>
            <a:miter/>
            <a:tailEnd len="med" type="oval" w="med"/>
          </a:ln>
        </p:spPr>
      </p:cxnSp>
      <p:sp>
        <p:nvSpPr>
          <p:cNvPr id="275" name="TextBox 75"/>
          <p:cNvSpPr/>
          <p:nvPr/>
        </p:nvSpPr>
        <p:spPr>
          <a:xfrm>
            <a:off x="225360" y="919080"/>
            <a:ext cx="418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Over a total of 1000 participants i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major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Straight Arrow Connector 76"/>
          <p:cNvCxnSpPr/>
          <p:nvPr/>
        </p:nvCxnSpPr>
        <p:spPr>
          <a:xfrm flipH="1">
            <a:off x="5807880" y="2820600"/>
            <a:ext cx="3151800" cy="1080"/>
          </a:xfrm>
          <a:prstGeom prst="straightConnector1">
            <a:avLst/>
          </a:prstGeom>
          <a:ln w="19080">
            <a:solidFill>
              <a:srgbClr val="9b9b9b"/>
            </a:solidFill>
            <a:miter/>
            <a:tailEnd len="med" type="oval" w="med"/>
          </a:ln>
        </p:spPr>
      </p:cxnSp>
      <p:sp>
        <p:nvSpPr>
          <p:cNvPr id="277" name="TextBox 77"/>
          <p:cNvSpPr/>
          <p:nvPr/>
        </p:nvSpPr>
        <p:spPr>
          <a:xfrm>
            <a:off x="5938920" y="2361240"/>
            <a:ext cx="29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59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ECA Public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8" name="Straight Arrow Connector 79"/>
          <p:cNvCxnSpPr/>
          <p:nvPr/>
        </p:nvCxnSpPr>
        <p:spPr>
          <a:xfrm flipH="1">
            <a:off x="5092200" y="3657240"/>
            <a:ext cx="3852000" cy="1080"/>
          </a:xfrm>
          <a:prstGeom prst="straightConnector1">
            <a:avLst/>
          </a:prstGeom>
          <a:ln w="19080">
            <a:solidFill>
              <a:srgbClr val="9b9b9b"/>
            </a:solidFill>
            <a:miter/>
            <a:tailEnd len="med" type="oval" w="med"/>
          </a:ln>
        </p:spPr>
      </p:cxnSp>
      <p:sp>
        <p:nvSpPr>
          <p:cNvPr id="279" name="TextBox 80"/>
          <p:cNvSpPr/>
          <p:nvPr/>
        </p:nvSpPr>
        <p:spPr>
          <a:xfrm>
            <a:off x="5851440" y="3180600"/>
            <a:ext cx="29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21 peer-reviewed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academic 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0" name="Straight Arrow Connector 81"/>
          <p:cNvCxnSpPr/>
          <p:nvPr/>
        </p:nvCxnSpPr>
        <p:spPr>
          <a:xfrm flipH="1">
            <a:off x="6312960" y="4501800"/>
            <a:ext cx="2345760" cy="1080"/>
          </a:xfrm>
          <a:prstGeom prst="straightConnector1">
            <a:avLst/>
          </a:prstGeom>
          <a:ln w="19080">
            <a:solidFill>
              <a:srgbClr val="9b9b9b"/>
            </a:solidFill>
            <a:miter/>
            <a:tailEnd len="med" type="oval" w="med"/>
          </a:ln>
        </p:spPr>
      </p:cxnSp>
      <p:sp>
        <p:nvSpPr>
          <p:cNvPr id="281" name="TextBox 82"/>
          <p:cNvSpPr/>
          <p:nvPr/>
        </p:nvSpPr>
        <p:spPr>
          <a:xfrm>
            <a:off x="6153120" y="404244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21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Country Pro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-19080" y="106200"/>
            <a:ext cx="8029440" cy="441360"/>
          </a:xfrm>
          <a:custGeom>
            <a:avLst/>
            <a:gdLst>
              <a:gd name="textAreaLeft" fmla="*/ 0 w 8029440"/>
              <a:gd name="textAreaRight" fmla="*/ 8029800 w 80294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179280" y="81000"/>
            <a:ext cx="6696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2016 Key achievements: Credibility and Tr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594320" y="298440"/>
            <a:ext cx="417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67F3-E91A-40D2-8C9F-42EADC64A7FF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Group 20" descr=""/>
          <p:cNvPicPr/>
          <p:nvPr/>
        </p:nvPicPr>
        <p:blipFill>
          <a:blip r:embed="rId1"/>
          <a:stretch/>
        </p:blipFill>
        <p:spPr>
          <a:xfrm>
            <a:off x="969840" y="4956120"/>
            <a:ext cx="7204320" cy="9270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19"/>
          <p:cNvGrpSpPr/>
          <p:nvPr/>
        </p:nvGrpSpPr>
        <p:grpSpPr>
          <a:xfrm>
            <a:off x="1579680" y="4127400"/>
            <a:ext cx="5981760" cy="870120"/>
            <a:chOff x="1579680" y="4127400"/>
            <a:chExt cx="5981760" cy="870120"/>
          </a:xfrm>
        </p:grpSpPr>
        <p:sp>
          <p:nvSpPr>
            <p:cNvPr id="291" name="Rectangle 10"/>
            <p:cNvSpPr/>
            <p:nvPr/>
          </p:nvSpPr>
          <p:spPr>
            <a:xfrm>
              <a:off x="1579680" y="4732200"/>
              <a:ext cx="5981760" cy="265320"/>
            </a:xfrm>
            <a:prstGeom prst="rect">
              <a:avLst/>
            </a:prstGeom>
            <a:gradFill rotWithShape="0">
              <a:gsLst>
                <a:gs pos="0">
                  <a:srgbClr val="0560b3"/>
                </a:gs>
                <a:gs pos="100000">
                  <a:srgbClr val="043e72"/>
                </a:gs>
              </a:gsLst>
              <a:lin ang="5400000"/>
            </a:gradFill>
            <a:ln w="9360">
              <a:solidFill>
                <a:srgbClr val="0156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1"/>
            <p:cNvSpPr/>
            <p:nvPr/>
          </p:nvSpPr>
          <p:spPr>
            <a:xfrm>
              <a:off x="1579680" y="4127400"/>
              <a:ext cx="5981760" cy="564120"/>
            </a:xfrm>
            <a:prstGeom prst="pie">
              <a:avLst/>
            </a:prstGeom>
            <a:gradFill rotWithShape="0">
              <a:gsLst>
                <a:gs pos="0">
                  <a:srgbClr val="0560b3"/>
                </a:gs>
                <a:gs pos="100000">
                  <a:srgbClr val="066cc9"/>
                </a:gs>
              </a:gsLst>
              <a:lin ang="5400000"/>
            </a:gradFill>
            <a:ln w="9360">
              <a:solidFill>
                <a:srgbClr val="0156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                  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ECA Policy tools (e.g. AGDI, ASDI, RII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Group 8"/>
          <p:cNvGrpSpPr/>
          <p:nvPr/>
        </p:nvGrpSpPr>
        <p:grpSpPr>
          <a:xfrm>
            <a:off x="2198520" y="3306600"/>
            <a:ext cx="4713480" cy="847800"/>
            <a:chOff x="2198520" y="3306600"/>
            <a:chExt cx="4713480" cy="847800"/>
          </a:xfrm>
        </p:grpSpPr>
        <p:sp>
          <p:nvSpPr>
            <p:cNvPr id="294" name="Rectangle 12"/>
            <p:cNvSpPr/>
            <p:nvPr/>
          </p:nvSpPr>
          <p:spPr>
            <a:xfrm>
              <a:off x="2230920" y="3889440"/>
              <a:ext cx="4681080" cy="264960"/>
            </a:xfrm>
            <a:prstGeom prst="rect">
              <a:avLst/>
            </a:prstGeom>
            <a:gradFill rotWithShape="0">
              <a:gsLst>
                <a:gs pos="0">
                  <a:srgbClr val="093667"/>
                </a:gs>
                <a:gs pos="100000">
                  <a:srgbClr val="011e39"/>
                </a:gs>
              </a:gsLst>
              <a:lin ang="5400000"/>
            </a:gradFill>
            <a:ln w="9360">
              <a:solidFill>
                <a:srgbClr val="013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2198520" y="3306600"/>
              <a:ext cx="4680360" cy="563760"/>
            </a:xfrm>
            <a:prstGeom prst="pie">
              <a:avLst/>
            </a:prstGeom>
            <a:gradFill rotWithShape="0">
              <a:gsLst>
                <a:gs pos="0">
                  <a:srgbClr val="093667"/>
                </a:gs>
                <a:gs pos="100000">
                  <a:srgbClr val="0d4f97"/>
                </a:gs>
              </a:gsLst>
              <a:lin ang="5400000"/>
            </a:gradFill>
            <a:ln w="9360">
              <a:solidFill>
                <a:srgbClr val="0132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ssing Regional Integration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 Africa V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Group 7"/>
          <p:cNvGrpSpPr/>
          <p:nvPr/>
        </p:nvGrpSpPr>
        <p:grpSpPr>
          <a:xfrm>
            <a:off x="2781360" y="2332080"/>
            <a:ext cx="3581280" cy="993600"/>
            <a:chOff x="2781360" y="2332080"/>
            <a:chExt cx="3581280" cy="993600"/>
          </a:xfrm>
        </p:grpSpPr>
        <p:sp>
          <p:nvSpPr>
            <p:cNvPr id="297" name="Rectangle 14"/>
            <p:cNvSpPr/>
            <p:nvPr/>
          </p:nvSpPr>
          <p:spPr>
            <a:xfrm>
              <a:off x="2781360" y="3007800"/>
              <a:ext cx="3581280" cy="317880"/>
            </a:xfrm>
            <a:prstGeom prst="rect">
              <a:avLst/>
            </a:prstGeom>
            <a:gradFill rotWithShape="0">
              <a:gsLst>
                <a:gs pos="0">
                  <a:srgbClr val="025663"/>
                </a:gs>
                <a:gs pos="100000">
                  <a:srgbClr val="01343d"/>
                </a:gs>
              </a:gsLst>
              <a:lin ang="5400000"/>
            </a:gradFill>
            <a:ln w="9360">
              <a:solidFill>
                <a:srgbClr val="0345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2781360" y="2332080"/>
              <a:ext cx="3581280" cy="675720"/>
            </a:xfrm>
            <a:custGeom>
              <a:avLst/>
              <a:gdLst/>
              <a:ahLst/>
              <a:rect l="l" t="t" r="r" b="b"/>
              <a:pathLst>
                <a:path w="2256" h="355">
                  <a:moveTo>
                    <a:pt x="1897" y="0"/>
                  </a:moveTo>
                  <a:lnTo>
                    <a:pt x="359" y="0"/>
                  </a:lnTo>
                  <a:lnTo>
                    <a:pt x="0" y="355"/>
                  </a:lnTo>
                  <a:lnTo>
                    <a:pt x="2256" y="355"/>
                  </a:lnTo>
                  <a:lnTo>
                    <a:pt x="1897" y="0"/>
                  </a:lnTo>
                  <a:close/>
                </a:path>
              </a:pathLst>
            </a:custGeom>
            <a:gradFill rotWithShape="0">
              <a:gsLst>
                <a:gs pos="0">
                  <a:srgbClr val="025663"/>
                </a:gs>
                <a:gs pos="100000">
                  <a:srgbClr val="02788c"/>
                </a:gs>
              </a:gsLst>
              <a:lin ang="5400000"/>
            </a:gradFill>
            <a:ln w="9360">
              <a:solidFill>
                <a:srgbClr val="0345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3"/>
          <p:cNvGrpSpPr/>
          <p:nvPr/>
        </p:nvGrpSpPr>
        <p:grpSpPr>
          <a:xfrm>
            <a:off x="3390840" y="1511280"/>
            <a:ext cx="2441520" cy="828720"/>
            <a:chOff x="3390840" y="1511280"/>
            <a:chExt cx="2441520" cy="828720"/>
          </a:xfrm>
        </p:grpSpPr>
        <p:sp>
          <p:nvSpPr>
            <p:cNvPr id="300" name="Rectangle 16"/>
            <p:cNvSpPr/>
            <p:nvPr/>
          </p:nvSpPr>
          <p:spPr>
            <a:xfrm>
              <a:off x="3390840" y="2075040"/>
              <a:ext cx="2441520" cy="264960"/>
            </a:xfrm>
            <a:prstGeom prst="rect">
              <a:avLst/>
            </a:prstGeom>
            <a:gradFill rotWithShape="0">
              <a:gsLst>
                <a:gs pos="0">
                  <a:srgbClr val="0199a1"/>
                </a:gs>
                <a:gs pos="100000">
                  <a:srgbClr val="015e63"/>
                </a:gs>
              </a:gsLst>
              <a:lin ang="5400000"/>
            </a:gradFill>
            <a:ln w="9360">
              <a:solidFill>
                <a:srgbClr val="048c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3390840" y="1511280"/>
              <a:ext cx="2441520" cy="563760"/>
            </a:xfrm>
            <a:custGeom>
              <a:avLst/>
              <a:gdLst/>
              <a:ahLst/>
              <a:rect l="l" t="t" r="r" b="b"/>
              <a:pathLst>
                <a:path w="1538" h="355">
                  <a:moveTo>
                    <a:pt x="1259" y="0"/>
                  </a:moveTo>
                  <a:lnTo>
                    <a:pt x="277" y="0"/>
                  </a:lnTo>
                  <a:lnTo>
                    <a:pt x="0" y="355"/>
                  </a:lnTo>
                  <a:lnTo>
                    <a:pt x="1538" y="355"/>
                  </a:lnTo>
                  <a:lnTo>
                    <a:pt x="1259" y="0"/>
                  </a:lnTo>
                  <a:close/>
                </a:path>
              </a:pathLst>
            </a:custGeom>
            <a:gradFill rotWithShape="0">
              <a:gsLst>
                <a:gs pos="0">
                  <a:srgbClr val="0199a1"/>
                </a:gs>
                <a:gs pos="100000">
                  <a:srgbClr val="01abb3"/>
                </a:gs>
              </a:gsLst>
              <a:lin ang="5400000"/>
            </a:gradFill>
            <a:ln w="9360">
              <a:solidFill>
                <a:srgbClr val="048c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TextBox 21"/>
          <p:cNvSpPr/>
          <p:nvPr/>
        </p:nvSpPr>
        <p:spPr>
          <a:xfrm>
            <a:off x="3462480" y="1591200"/>
            <a:ext cx="2298600" cy="398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FS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22"/>
          <p:cNvSpPr/>
          <p:nvPr/>
        </p:nvSpPr>
        <p:spPr>
          <a:xfrm>
            <a:off x="2781360" y="2388240"/>
            <a:ext cx="3584520" cy="703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A 2016: Greening Africa’s Industria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25"/>
          <p:cNvSpPr/>
          <p:nvPr/>
        </p:nvSpPr>
        <p:spPr>
          <a:xfrm>
            <a:off x="1017720" y="5018400"/>
            <a:ext cx="7105680" cy="703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tegrating Agenda 2030 and 2063 in national development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6"/>
          <p:cNvSpPr/>
          <p:nvPr/>
        </p:nvSpPr>
        <p:spPr>
          <a:xfrm>
            <a:off x="-3240" y="328680"/>
            <a:ext cx="5796000" cy="441360"/>
          </a:xfrm>
          <a:custGeom>
            <a:avLst/>
            <a:gdLst>
              <a:gd name="textAreaLeft" fmla="*/ 0 w 5796000"/>
              <a:gd name="textAreaRight" fmla="*/ 5796000 w 57960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179280" y="360360"/>
            <a:ext cx="340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ato"/>
                <a:ea typeface="Lato"/>
              </a:rPr>
              <a:t>Credibility and Tr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7160" y="789120"/>
            <a:ext cx="869616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Arial"/>
                <a:ea typeface="Calibri"/>
              </a:rPr>
              <a:t>ECA continued to strengthen its credibility and trust through high quality knowledge products and delivery services</a:t>
            </a:r>
            <a:endParaRPr b="1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6"/>
          <p:cNvSpPr/>
          <p:nvPr/>
        </p:nvSpPr>
        <p:spPr>
          <a:xfrm>
            <a:off x="-19080" y="106200"/>
            <a:ext cx="8029440" cy="441360"/>
          </a:xfrm>
          <a:custGeom>
            <a:avLst/>
            <a:gdLst>
              <a:gd name="textAreaLeft" fmla="*/ 0 w 8029440"/>
              <a:gd name="textAreaRight" fmla="*/ 8029800 w 80294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179280" y="81000"/>
            <a:ext cx="783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2016 Key achievements: Accountability and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2"/>
          <p:cNvSpPr/>
          <p:nvPr/>
        </p:nvSpPr>
        <p:spPr>
          <a:xfrm>
            <a:off x="1440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Diagram 2" descr=""/>
          <p:cNvPicPr/>
          <p:nvPr/>
        </p:nvPicPr>
        <p:blipFill>
          <a:blip r:embed="rId1"/>
          <a:stretch/>
        </p:blipFill>
        <p:spPr>
          <a:xfrm>
            <a:off x="96840" y="798480"/>
            <a:ext cx="884556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1080" y="198360"/>
            <a:ext cx="7772400" cy="4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CA’s Partnerships</a:t>
            </a: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335200" y="1468080"/>
            <a:ext cx="354492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of type of partner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Chart 3" descr=""/>
          <p:cNvPicPr/>
          <p:nvPr/>
        </p:nvPicPr>
        <p:blipFill>
          <a:blip r:embed="rId1"/>
          <a:stretch/>
        </p:blipFill>
        <p:spPr>
          <a:xfrm>
            <a:off x="5261040" y="2090880"/>
            <a:ext cx="3578040" cy="276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147600" y="2116080"/>
          <a:ext cx="4807080" cy="2733840"/>
        </p:xfrm>
        <a:graphic>
          <a:graphicData uri="http://schemas.openxmlformats.org/drawingml/2006/table">
            <a:tbl>
              <a:tblPr/>
              <a:tblGrid>
                <a:gridCol w="2502000"/>
                <a:gridCol w="1441440"/>
                <a:gridCol w="863640"/>
              </a:tblGrid>
              <a:tr h="789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Part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Agre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cen-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8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n African Institu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9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mber States/RE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n State 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ed N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9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velopment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23" name="Rectangle 10"/>
          <p:cNvSpPr/>
          <p:nvPr/>
        </p:nvSpPr>
        <p:spPr>
          <a:xfrm>
            <a:off x="239760" y="15271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ype of partner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254160" y="852480"/>
            <a:ext cx="57895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"/>
              </a:rPr>
              <a:t>ECA entered into 57 new partnership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324000" y="5300640"/>
            <a:ext cx="86580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"/>
              </a:rPr>
              <a:t>The Commission continued the implementation of the ECA Partnership Strategy with a view to enhancing complementarity and development impact and to responding better to the evolving needs of its member States within the context of new and emerging opportunities and challeng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179280" y="257040"/>
            <a:ext cx="5508720" cy="44136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1973160" y="6388200"/>
            <a:ext cx="4295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nowledge Generation and Policy Resear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Content Placeholder 4" descr=""/>
          <p:cNvPicPr/>
          <p:nvPr/>
        </p:nvPicPr>
        <p:blipFill>
          <a:blip r:embed="rId1"/>
          <a:stretch/>
        </p:blipFill>
        <p:spPr>
          <a:xfrm>
            <a:off x="212760" y="853920"/>
            <a:ext cx="8888400" cy="516888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0" y="290520"/>
            <a:ext cx="5508720" cy="44136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1973160" y="6388200"/>
            <a:ext cx="4295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nowledge Generation and Policy Resear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Content Placeholder 4" descr=""/>
          <p:cNvPicPr/>
          <p:nvPr/>
        </p:nvPicPr>
        <p:blipFill>
          <a:blip r:embed="rId1"/>
          <a:stretch/>
        </p:blipFill>
        <p:spPr>
          <a:xfrm>
            <a:off x="401760" y="749160"/>
            <a:ext cx="8529480" cy="538956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0" y="290520"/>
            <a:ext cx="5508720" cy="44136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1973160" y="6388200"/>
            <a:ext cx="42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Knowledge Generation and Policy Resear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Content Placeholder 4" descr=""/>
          <p:cNvPicPr/>
          <p:nvPr/>
        </p:nvPicPr>
        <p:blipFill>
          <a:blip r:embed="rId1"/>
          <a:stretch/>
        </p:blipFill>
        <p:spPr>
          <a:xfrm>
            <a:off x="390600" y="701640"/>
            <a:ext cx="8680320" cy="532116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3"/>
          <p:cNvGrpSpPr/>
          <p:nvPr/>
        </p:nvGrpSpPr>
        <p:grpSpPr>
          <a:xfrm>
            <a:off x="1116000" y="907920"/>
            <a:ext cx="3448080" cy="2772000"/>
            <a:chOff x="1116000" y="907920"/>
            <a:chExt cx="3448080" cy="2772000"/>
          </a:xfrm>
        </p:grpSpPr>
        <p:sp>
          <p:nvSpPr>
            <p:cNvPr id="98" name="Freeform 6"/>
            <p:cNvSpPr/>
            <p:nvPr/>
          </p:nvSpPr>
          <p:spPr>
            <a:xfrm>
              <a:off x="3265560" y="907920"/>
              <a:ext cx="196560" cy="1503360"/>
            </a:xfrm>
            <a:custGeom>
              <a:avLst/>
              <a:gdLst/>
              <a:ahLst/>
              <a:rect l="l" t="t" r="r" b="b"/>
              <a:pathLst>
                <a:path w="39" h="401">
                  <a:moveTo>
                    <a:pt x="0" y="401"/>
                  </a:moveTo>
                  <a:cubicBezTo>
                    <a:pt x="0" y="304"/>
                    <a:pt x="0" y="206"/>
                    <a:pt x="0" y="108"/>
                  </a:cubicBezTo>
                  <a:cubicBezTo>
                    <a:pt x="1" y="59"/>
                    <a:pt x="21" y="22"/>
                    <a:pt x="39" y="0"/>
                  </a:cubicBezTo>
                  <a:cubicBezTo>
                    <a:pt x="38" y="293"/>
                    <a:pt x="38" y="293"/>
                    <a:pt x="38" y="293"/>
                  </a:cubicBezTo>
                  <a:cubicBezTo>
                    <a:pt x="20" y="316"/>
                    <a:pt x="0" y="352"/>
                    <a:pt x="0" y="401"/>
                  </a:cubicBezTo>
                  <a:close/>
                </a:path>
              </a:pathLst>
            </a:custGeom>
            <a:gradFill rotWithShape="0">
              <a:gsLst>
                <a:gs pos="0">
                  <a:srgbClr val="037ab5"/>
                </a:gs>
                <a:gs pos="100000">
                  <a:srgbClr val="08a7ee"/>
                </a:gs>
              </a:gsLst>
              <a:lin ang="5400000"/>
            </a:gradFill>
            <a:ln w="9360">
              <a:solidFill>
                <a:srgbClr val="0195f9"/>
              </a:solidFill>
              <a:round/>
            </a:ln>
            <a:effectLst>
              <a:outerShdw dist="25560" dir="54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7"/>
            <p:cNvSpPr/>
            <p:nvPr/>
          </p:nvSpPr>
          <p:spPr>
            <a:xfrm>
              <a:off x="1116000" y="907920"/>
              <a:ext cx="3448080" cy="1671840"/>
            </a:xfrm>
            <a:custGeom>
              <a:avLst/>
              <a:gdLst/>
              <a:ahLst/>
              <a:rect l="l" t="t" r="r" b="b"/>
              <a:pathLst>
                <a:path w="680" h="446">
                  <a:moveTo>
                    <a:pt x="463" y="0"/>
                  </a:moveTo>
                  <a:cubicBezTo>
                    <a:pt x="435" y="35"/>
                    <a:pt x="401" y="103"/>
                    <a:pt x="446" y="199"/>
                  </a:cubicBezTo>
                  <a:cubicBezTo>
                    <a:pt x="478" y="268"/>
                    <a:pt x="534" y="313"/>
                    <a:pt x="582" y="341"/>
                  </a:cubicBezTo>
                  <a:cubicBezTo>
                    <a:pt x="635" y="371"/>
                    <a:pt x="678" y="381"/>
                    <a:pt x="680" y="382"/>
                  </a:cubicBezTo>
                  <a:cubicBezTo>
                    <a:pt x="673" y="385"/>
                    <a:pt x="538" y="446"/>
                    <a:pt x="290" y="407"/>
                  </a:cubicBezTo>
                  <a:cubicBezTo>
                    <a:pt x="171" y="389"/>
                    <a:pt x="93" y="357"/>
                    <a:pt x="45" y="329"/>
                  </a:cubicBezTo>
                  <a:cubicBezTo>
                    <a:pt x="26" y="318"/>
                    <a:pt x="11" y="308"/>
                    <a:pt x="0" y="299"/>
                  </a:cubicBezTo>
                  <a:cubicBezTo>
                    <a:pt x="27" y="225"/>
                    <a:pt x="89" y="155"/>
                    <a:pt x="188" y="98"/>
                  </a:cubicBezTo>
                  <a:cubicBezTo>
                    <a:pt x="267" y="51"/>
                    <a:pt x="362" y="19"/>
                    <a:pt x="4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8a7ee"/>
                </a:gs>
                <a:gs pos="100000">
                  <a:srgbClr val="17b2f7"/>
                </a:gs>
              </a:gsLst>
              <a:lin ang="5400000"/>
            </a:gradFill>
            <a:ln w="9360">
              <a:solidFill>
                <a:srgbClr val="0195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8"/>
            <p:cNvSpPr/>
            <p:nvPr/>
          </p:nvSpPr>
          <p:spPr>
            <a:xfrm>
              <a:off x="1116000" y="2028600"/>
              <a:ext cx="3448080" cy="1651320"/>
            </a:xfrm>
            <a:custGeom>
              <a:avLst/>
              <a:gdLst/>
              <a:ahLst/>
              <a:rect l="l" t="t" r="r" b="b"/>
              <a:pathLst>
                <a:path w="680" h="440">
                  <a:moveTo>
                    <a:pt x="680" y="83"/>
                  </a:moveTo>
                  <a:cubicBezTo>
                    <a:pt x="679" y="376"/>
                    <a:pt x="679" y="376"/>
                    <a:pt x="679" y="376"/>
                  </a:cubicBezTo>
                  <a:cubicBezTo>
                    <a:pt x="672" y="380"/>
                    <a:pt x="537" y="440"/>
                    <a:pt x="289" y="402"/>
                  </a:cubicBezTo>
                  <a:cubicBezTo>
                    <a:pt x="170" y="383"/>
                    <a:pt x="93" y="351"/>
                    <a:pt x="44" y="323"/>
                  </a:cubicBezTo>
                  <a:cubicBezTo>
                    <a:pt x="25" y="312"/>
                    <a:pt x="10" y="302"/>
                    <a:pt x="0" y="29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" y="9"/>
                    <a:pt x="26" y="19"/>
                    <a:pt x="45" y="30"/>
                  </a:cubicBezTo>
                  <a:cubicBezTo>
                    <a:pt x="93" y="58"/>
                    <a:pt x="171" y="90"/>
                    <a:pt x="290" y="108"/>
                  </a:cubicBezTo>
                  <a:cubicBezTo>
                    <a:pt x="538" y="147"/>
                    <a:pt x="673" y="86"/>
                    <a:pt x="680" y="83"/>
                  </a:cubicBezTo>
                  <a:close/>
                </a:path>
              </a:pathLst>
            </a:custGeom>
            <a:gradFill rotWithShape="0">
              <a:gsLst>
                <a:gs pos="0">
                  <a:srgbClr val="037ab5"/>
                </a:gs>
                <a:gs pos="100000">
                  <a:srgbClr val="08a7ee"/>
                </a:gs>
              </a:gsLst>
              <a:lin ang="10800000"/>
            </a:gradFill>
            <a:ln w="9360">
              <a:solidFill>
                <a:srgbClr val="0195f9"/>
              </a:solidFill>
              <a:round/>
            </a:ln>
            <a:effectLst>
              <a:outerShdw dist="25560" dir="54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24"/>
          <p:cNvGrpSpPr/>
          <p:nvPr/>
        </p:nvGrpSpPr>
        <p:grpSpPr>
          <a:xfrm>
            <a:off x="4570560" y="2098800"/>
            <a:ext cx="3457440" cy="2774880"/>
            <a:chOff x="4570560" y="2098800"/>
            <a:chExt cx="3457440" cy="2774880"/>
          </a:xfrm>
        </p:grpSpPr>
        <p:grpSp>
          <p:nvGrpSpPr>
            <p:cNvPr id="102" name="Freeform 9"/>
            <p:cNvGrpSpPr/>
            <p:nvPr/>
          </p:nvGrpSpPr>
          <p:grpSpPr>
            <a:xfrm>
              <a:off x="4570560" y="2316600"/>
              <a:ext cx="1379520" cy="2225160"/>
              <a:chOff x="4570560" y="2316600"/>
              <a:chExt cx="1379520" cy="2225160"/>
            </a:xfrm>
          </p:grpSpPr>
          <p:pic>
            <p:nvPicPr>
              <p:cNvPr id="103" name="Freeform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0560" y="2316600"/>
                <a:ext cx="1379520" cy="22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4610880" y="2338200"/>
                <a:ext cx="1291320" cy="21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14320"/>
                    <a:tab algn="l" pos="1628640"/>
                    <a:tab algn="l" pos="2443320"/>
                    <a:tab algn="l" pos="3257640"/>
                    <a:tab algn="l" pos="4071960"/>
                    <a:tab algn="l" pos="4886280"/>
                    <a:tab algn="l" pos="5700600"/>
                    <a:tab algn="l" pos="6515280"/>
                    <a:tab algn="l" pos="7329600"/>
                    <a:tab algn="l" pos="8143920"/>
                    <a:tab algn="l" pos="8958240"/>
                    <a:tab algn="l" pos="9772560"/>
                    <a:tab algn="l" pos="10586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Freeform 10"/>
            <p:cNvSpPr/>
            <p:nvPr/>
          </p:nvSpPr>
          <p:spPr>
            <a:xfrm>
              <a:off x="4617360" y="2098800"/>
              <a:ext cx="3410640" cy="1673280"/>
            </a:xfrm>
            <a:custGeom>
              <a:avLst/>
              <a:gdLst/>
              <a:ahLst/>
              <a:rect l="l" t="t" r="r" b="b"/>
              <a:pathLst>
                <a:path w="680" h="446">
                  <a:moveTo>
                    <a:pt x="635" y="117"/>
                  </a:moveTo>
                  <a:cubicBezTo>
                    <a:pt x="654" y="128"/>
                    <a:pt x="669" y="138"/>
                    <a:pt x="680" y="147"/>
                  </a:cubicBezTo>
                  <a:cubicBezTo>
                    <a:pt x="653" y="221"/>
                    <a:pt x="591" y="291"/>
                    <a:pt x="492" y="348"/>
                  </a:cubicBezTo>
                  <a:cubicBezTo>
                    <a:pt x="413" y="395"/>
                    <a:pt x="318" y="427"/>
                    <a:pt x="217" y="446"/>
                  </a:cubicBezTo>
                  <a:cubicBezTo>
                    <a:pt x="245" y="411"/>
                    <a:pt x="279" y="343"/>
                    <a:pt x="234" y="247"/>
                  </a:cubicBezTo>
                  <a:cubicBezTo>
                    <a:pt x="202" y="178"/>
                    <a:pt x="146" y="133"/>
                    <a:pt x="98" y="105"/>
                  </a:cubicBezTo>
                  <a:cubicBezTo>
                    <a:pt x="45" y="75"/>
                    <a:pt x="2" y="65"/>
                    <a:pt x="0" y="64"/>
                  </a:cubicBezTo>
                  <a:cubicBezTo>
                    <a:pt x="7" y="61"/>
                    <a:pt x="143" y="0"/>
                    <a:pt x="390" y="39"/>
                  </a:cubicBezTo>
                  <a:cubicBezTo>
                    <a:pt x="509" y="57"/>
                    <a:pt x="587" y="89"/>
                    <a:pt x="635" y="117"/>
                  </a:cubicBezTo>
                  <a:close/>
                </a:path>
              </a:pathLst>
            </a:custGeom>
            <a:gradFill rotWithShape="0">
              <a:gsLst>
                <a:gs pos="0">
                  <a:srgbClr val="0560b3"/>
                </a:gs>
                <a:gs pos="100000">
                  <a:srgbClr val="066cc9"/>
                </a:gs>
              </a:gsLst>
              <a:lin ang="5400000"/>
            </a:gradFill>
            <a:ln w="9360">
              <a:solidFill>
                <a:srgbClr val="0156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"/>
            <p:cNvSpPr/>
            <p:nvPr/>
          </p:nvSpPr>
          <p:spPr>
            <a:xfrm>
              <a:off x="5704560" y="2649600"/>
              <a:ext cx="2323440" cy="2224080"/>
            </a:xfrm>
            <a:custGeom>
              <a:avLst/>
              <a:gdLst/>
              <a:ahLst/>
              <a:rect l="l" t="t" r="r" b="b"/>
              <a:pathLst>
                <a:path w="463" h="593">
                  <a:moveTo>
                    <a:pt x="463" y="0"/>
                  </a:moveTo>
                  <a:cubicBezTo>
                    <a:pt x="462" y="294"/>
                    <a:pt x="462" y="294"/>
                    <a:pt x="462" y="294"/>
                  </a:cubicBezTo>
                  <a:cubicBezTo>
                    <a:pt x="436" y="367"/>
                    <a:pt x="373" y="438"/>
                    <a:pt x="275" y="495"/>
                  </a:cubicBezTo>
                  <a:cubicBezTo>
                    <a:pt x="195" y="541"/>
                    <a:pt x="100" y="574"/>
                    <a:pt x="0" y="593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01" y="280"/>
                    <a:pt x="196" y="248"/>
                    <a:pt x="275" y="201"/>
                  </a:cubicBezTo>
                  <a:cubicBezTo>
                    <a:pt x="374" y="144"/>
                    <a:pt x="436" y="74"/>
                    <a:pt x="4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560b3"/>
                </a:gs>
                <a:gs pos="100000">
                  <a:srgbClr val="043e72"/>
                </a:gs>
              </a:gsLst>
              <a:lin ang="5400000"/>
            </a:gradFill>
            <a:ln w="9360">
              <a:solidFill>
                <a:srgbClr val="01568f"/>
              </a:solidFill>
              <a:round/>
            </a:ln>
            <a:effectLst>
              <a:outerShdw dist="25560" dir="54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TextBox 25"/>
          <p:cNvSpPr/>
          <p:nvPr/>
        </p:nvSpPr>
        <p:spPr>
          <a:xfrm>
            <a:off x="1332000" y="1630440"/>
            <a:ext cx="2197080" cy="626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Knowledge gene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5353200" y="2406600"/>
            <a:ext cx="2442960" cy="626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Knowled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eliver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0" y="325440"/>
            <a:ext cx="6156360" cy="44136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88920" y="247680"/>
            <a:ext cx="4295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93400" y="4967280"/>
            <a:ext cx="873108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The Commission’s programme of work was pivoted around two main pillars: knowledge generation and knowledge delive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71600" y="6221520"/>
            <a:ext cx="662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4016520" y="922320"/>
            <a:ext cx="48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  <a:ea typeface="Arial"/>
              </a:rPr>
              <a:t>ECA continued its efforts to influence African development policies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025280" cy="1292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>
            <a:off x="6875640" y="2959200"/>
            <a:ext cx="1143000" cy="1388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" descr=""/>
          <p:cNvPicPr/>
          <p:nvPr/>
        </p:nvPicPr>
        <p:blipFill>
          <a:blip r:embed="rId3"/>
          <a:stretch/>
        </p:blipFill>
        <p:spPr>
          <a:xfrm>
            <a:off x="6948360" y="1222200"/>
            <a:ext cx="1070280" cy="135756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6"/>
          <p:cNvSpPr/>
          <p:nvPr/>
        </p:nvSpPr>
        <p:spPr>
          <a:xfrm>
            <a:off x="0" y="290520"/>
            <a:ext cx="5508720" cy="44136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243000" y="190440"/>
            <a:ext cx="36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1973160" y="6388200"/>
            <a:ext cx="42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Knowledge Generation and Policy Resear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4"/>
          <a:stretch/>
        </p:blipFill>
        <p:spPr>
          <a:xfrm>
            <a:off x="8078760" y="1236600"/>
            <a:ext cx="957240" cy="1343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5"/>
          <a:stretch/>
        </p:blipFill>
        <p:spPr>
          <a:xfrm>
            <a:off x="8078760" y="2959200"/>
            <a:ext cx="1025640" cy="1388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6"/>
          <a:stretch/>
        </p:blipFill>
        <p:spPr>
          <a:xfrm>
            <a:off x="8107200" y="4724280"/>
            <a:ext cx="997200" cy="12970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49280" y="1854360"/>
            <a:ext cx="6330960" cy="27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Visit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www.uneca.org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 to access ECA knowledge products and the calendar of ECA events (workshops, seminars, high level policy dialogues, and advisory servi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0"/>
            <a:ext cx="9144000" cy="6845400"/>
          </a:xfrm>
          <a:prstGeom prst="rect">
            <a:avLst/>
          </a:prstGeom>
          <a:solidFill>
            <a:srgbClr val="065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2360520" y="4294080"/>
            <a:ext cx="4421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Lato"/>
                <a:ea typeface="Lato"/>
              </a:rPr>
              <a:t>THANK YOU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2957400" y="6156360"/>
            <a:ext cx="3311640" cy="44136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d7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181320" y="6245280"/>
            <a:ext cx="267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venir Book"/>
              </a:rPr>
              <a:t>More: www.uneca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8" descr="pasted-image.pdf"/>
          <p:cNvPicPr/>
          <p:nvPr/>
        </p:nvPicPr>
        <p:blipFill>
          <a:blip r:embed="rId1"/>
          <a:stretch/>
        </p:blipFill>
        <p:spPr>
          <a:xfrm>
            <a:off x="3289320" y="1171440"/>
            <a:ext cx="25639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0" y="29052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79360" y="360360"/>
            <a:ext cx="472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4659480" y="41436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E211-E688-4FD6-921E-A7B0FF1EBD9D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11040" y="1825560"/>
            <a:ext cx="839016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rom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mmon African Position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 the Post-2015 Development Agenda, through to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implementation of Agenda 2030 and Agenda 2063 (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Africa’s key messages to be delivered at the HLPF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deliberated and agreed at t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he ARFS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59364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The MDG-SDG transition report 2016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highlighting the opportunities and challenges and sharing country experiences in implementing the new agendas, particularly the institutional arrangem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59364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59364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Development of a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coherent framework and an integrated approach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for implementation and reporting on achievements of Agenda 2063 and Agenda 203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59364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59364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ntegrating Agenda 2063 and Agenda 2030 into national development plans and strategies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(growing number of member States requesting ECA’s sup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7670880" y="6338880"/>
            <a:ext cx="1212840" cy="44136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7800840" y="64548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0" y="635328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20840" y="643716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420840" y="836640"/>
            <a:ext cx="82803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Arial"/>
                <a:ea typeface="Times New Roman"/>
              </a:rPr>
              <a:t>Supporting member States in strengthening overall economic management and governance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0" y="7632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279360" y="146160"/>
            <a:ext cx="438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4659480" y="20016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DE24-EA6C-4D6B-BCF7-108A7A0123DF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4160" y="2130480"/>
            <a:ext cx="839628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rom the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Special Declaration by AU Heads of State and Government on th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High Level Panel Report on Illicit Financial Flows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, through to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Marrakech Consensus on Innovative Financing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nd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AA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Establishment of a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sortium on Curbing Illicit Financial Flows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to follow through the recommendations of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High-level Panel on Illicit Financial Fl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rticulation of the revitalization process of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frican Peer Review 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7666200" y="6408720"/>
            <a:ext cx="1212840" cy="44136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7796160" y="652464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0" y="640872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71600" y="649440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334800" y="639720"/>
            <a:ext cx="7982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Supporting member States in strengthening overall economic management and governance</a:t>
            </a:r>
            <a:r>
              <a:rPr b="1" lang="en-US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0" y="29052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279360" y="360360"/>
            <a:ext cx="438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59480" y="41436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CE19-F830-47A9-BADA-493660CDC3DB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61440" y="2087280"/>
            <a:ext cx="8596440" cy="35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Support to Arab Maghreb Union (UMA) and its member states, led to enhanced UMA’s capacity to assess the impact of CFTA through an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economic estimation of trade liberalization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 North Africa countries’ economies, especially on the industrial 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Development of the template agreement for the establishment of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inental Free Trade Area; and validation of national/regional </a:t>
            </a:r>
            <a:r>
              <a:rPr b="1" lang="en-AU" sz="2000" spc="-1" strike="noStrike">
                <a:solidFill>
                  <a:srgbClr val="002060"/>
                </a:solidFill>
                <a:latin typeface="Arial"/>
                <a:ea typeface="Arial"/>
              </a:rPr>
              <a:t>action plans for Boosting Intra-African Trade</a:t>
            </a:r>
            <a:r>
              <a:rPr b="0" lang="en-AU" sz="2000" spc="-1" strike="noStrike">
                <a:solidFill>
                  <a:srgbClr val="002060"/>
                </a:solidFill>
                <a:latin typeface="Arial"/>
                <a:ea typeface="Arial"/>
              </a:rPr>
              <a:t> (BI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334800" y="846000"/>
            <a:ext cx="82807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Influencing transformative policies through regional integration, trade, investment, agriculture, value chains, land, </a:t>
            </a:r>
            <a:r>
              <a:rPr b="1" i="1" lang="en-AU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industrialization, energy </a:t>
            </a:r>
            <a:r>
              <a:rPr b="1" i="1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and infrastructure development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0" y="290520"/>
            <a:ext cx="4659480" cy="441360"/>
          </a:xfrm>
          <a:custGeom>
            <a:avLst/>
            <a:gdLst>
              <a:gd name="textAreaLeft" fmla="*/ 0 w 4659480"/>
              <a:gd name="textAreaRight" fmla="*/ 4659840 w 465948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79360" y="360360"/>
            <a:ext cx="438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659480" y="41436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A250-3A92-4D65-91E3-262FF2BD72F0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61440" y="2028960"/>
            <a:ext cx="859644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Development of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Industrial Policies, Strategies, Road Map and Action Plans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(Guinea, Senegal, Swaziland and the SADC ) based on ECA’s research findings and advisory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Integration of land tenure and governance into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gricultural and Investment Plans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(e.g., Côte d’Ivoire, DRC, Congo, Madagascar, Malawi, Rwanda, Tanzania) supported by LP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334800" y="846000"/>
            <a:ext cx="82807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Influencing transformative policies through regional integration, trade, investment, agriculture, value chains, land, </a:t>
            </a:r>
            <a:r>
              <a:rPr b="1" i="1" lang="en-AU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industrialization, energy </a:t>
            </a:r>
            <a:r>
              <a:rPr b="1" i="1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and infrastructure development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0" y="6336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279360" y="133200"/>
            <a:ext cx="438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4659480" y="18720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79F7-629A-475F-A099-AC673475D66E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66760" y="1965240"/>
            <a:ext cx="85960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Support to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Union maghrébine des entrepreneurs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in organizing national and regional round tables in Algeria, Mauritania, Morocco and Tunisia to increas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private sector awareness on climate chang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hallenges, opportunities &amp; trends in climate finance opportunities =&gt; adoption of the Déclaration de l’ Union maghrébine des entreprene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Supporting the African Group of Negotiators (AGN) to wards a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mmon African Position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 Climate Change (UNFCCC- COP 22  Marrake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Hosting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frica Pavilion at the COP 22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: A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convening venue and platform for Africans in making the voices of the continent heard during the climate change negoti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7666200" y="6291360"/>
            <a:ext cx="1212840" cy="44136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7796160" y="640728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0" y="629136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71600" y="637704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279360" y="614520"/>
            <a:ext cx="8280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Advancing sustainable development policies, resilience to climate change, effective management of natural resources, and new technologies and innovation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0" y="6336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279360" y="133200"/>
            <a:ext cx="438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659480" y="18720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225B-9D97-4CAE-8063-8F079AD8EE8D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79000" y="1901880"/>
            <a:ext cx="85964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Indian Ocean Commission regional action plan on the blue economy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using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ECA policy handbook on blue economy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as a methodologic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Development of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Energy Security Policy Framework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for the East African Community (EAC) member States, incl. a framework for sustainable deployment of renewable energy technologies in Rwanda; an e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nergy resources assessment and development planning advisory service to Djibout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ormulation of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Science and Technology Policies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(e.g., the Republic of South Sudan, Guinea-Bissa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7666200" y="6291360"/>
            <a:ext cx="1212840" cy="44136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7796160" y="640728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0" y="6262560"/>
            <a:ext cx="7308720" cy="44316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71600" y="637704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279360" y="614520"/>
            <a:ext cx="8280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Advancing sustainable development policies, resilience to climate change, effective management of natural resources, and new technologies and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0" y="6336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279360" y="133200"/>
            <a:ext cx="447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4659480" y="18720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8B05-71D4-4522-A667-0F64F20EE9C7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79000" y="1766520"/>
            <a:ext cx="859644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Adoption of policies or regulatory frameworks for the management of natural and mineral resources in line with the African Mining Vision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(e.g. Burkina Faso and Guinea Conakry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Support th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Mining Policies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of Ghana and Zambia on the formalization of artisanal and small-scale mi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Development of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frican Mining Governance Framework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,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frican Mining and Geological Information Strategy,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nd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las of African Blue Economy/African Deep Sea M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7666200" y="6291360"/>
            <a:ext cx="1212840" cy="44136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7796160" y="640728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629136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71600" y="637704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279360" y="614520"/>
            <a:ext cx="8280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Advancing sustainable development policies, resilience to climate change, effective management of natural resources, and new technologies and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fework Temtime</dc:creator>
  <dc:description/>
  <dc:language>en-US</dc:language>
  <cp:lastModifiedBy>sro-na</cp:lastModifiedBy>
  <cp:lastPrinted>2017-07-06T12:57:05Z</cp:lastPrinted>
  <dcterms:modified xsi:type="dcterms:W3CDTF">2017-10-05T10:08:32Z</dcterms:modified>
  <cp:revision>216</cp:revision>
  <dc:subject/>
  <dc:title>TITLE OF THE  PRESENTATION</dc:title>
</cp:coreProperties>
</file>