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D9F6F5-69D6-4EB4-B07D-1355B588F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34920" y="4411800"/>
            <a:ext cx="51372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1CFD21-7DA4-407A-8747-3A9637F32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D9F444-5268-4E71-8363-9BD1A23F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82CA11-EB9D-4A81-ACEE-9249F92B8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6DC2EC-C392-477B-8D75-04FF812C5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BA2A86-B230-44D9-B198-E3B07BE7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046250-B959-4F41-A576-709BF7C87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2ADDDC-47CB-49F1-A16E-D5F9465B1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8B5B2D-DCB8-4A66-AD93-67CBD1017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D9671B-028C-4558-AC9F-6891B0DC6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E6F4BD-5CF4-4CDC-8DE9-954137F45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7940D8-0CDF-49D1-8F71-B45C82A24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D65361-6ADD-4C2C-A99D-8B88AC53C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42701B-F822-44CF-97C3-B42A81129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A0C5B6-CBBA-408A-AA56-12616DABC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584351-D9C9-4E02-AA6B-B60AE816A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7B6860-A7BA-492A-830B-3D3830267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DF4670-42D6-44C2-BEF5-0C2F5218B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7044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396944-E551-4FBA-81A1-FE6A5A089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9"/>
          <p:cNvSpPr/>
          <p:nvPr/>
        </p:nvSpPr>
        <p:spPr>
          <a:xfrm>
            <a:off x="914400" y="609480"/>
            <a:ext cx="8229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Text Box 17"/>
          <p:cNvSpPr/>
          <p:nvPr/>
        </p:nvSpPr>
        <p:spPr>
          <a:xfrm>
            <a:off x="685800" y="2286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38080" y="0"/>
            <a:ext cx="7620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  <a:ea typeface="Arial"/>
              </a:rPr>
              <a:t>Economic Commission for Africa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  <a:ea typeface="Arial"/>
              </a:rPr>
              <a:t>Office for North Africa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6613560"/>
            <a:ext cx="670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Twenty Third Meeting of the Intergovernmental Committee of Experts (ICE) - </a:t>
            </a:r>
            <a:r>
              <a:rPr b="1" lang="fr-FR" sz="900" spc="-1" strike="noStrike">
                <a:solidFill>
                  <a:srgbClr val="ffffcc"/>
                </a:solidFill>
                <a:latin typeface="Arial"/>
              </a:rPr>
              <a:t>Rabat, Morocco 10-13 March 2008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1880" y="6629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104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E7A4-4762-4F3C-A66F-2BD2503450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2209680"/>
            <a:ext cx="5715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ECA SRO NA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ORK PROGRAMME FOR 2008 </a:t>
            </a:r>
            <a:br>
              <a:rPr sz="3600"/>
            </a:b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99"/>
                </a:solidFill>
                <a:latin typeface="Arial"/>
              </a:rPr>
              <a:t>Focus for 2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47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sistance to RE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nual ICE Session: A special focus on S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 Hoc Experts Group Meeting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E/SMIs in North Africa; R&amp;D in North Africa; The implementation of the 1993 System of National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ub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Es and industries development in North Africa; Stimulating production capacity through R&amp;D in North Africa; Prospectus on integration in North Afr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eld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stitutional strengthening of the UMA; Joint ECA/ESCWA/ECE Mediterranean Project on New and Renewable Energy; Observatory of regional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renghening Partnership with international instit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ssistance to A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an 14 2008: A multi-year program of cooperation between AMU and SRO-NA for the period 2008-2009;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parties decided to implement multi-year programs aiming at promoting regional integration in the Maghreb Region, throu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ment of databases and Information sh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moting various forms of public-private partner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courage sectoral activities for sustainable developmen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eas of cooperation are based on studies, technical assistance, expert meetings and seminars covering such topics as trade and regional integration, ITC, Statistiques and institutional strengthening initi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ntergovernmental Committee of Experts (ICE)</a:t>
            </a:r>
            <a:r>
              <a:rPr b="1" lang="en-GB" sz="3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 and social developments: tracking progress in North Afr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troductory note on promoting SMES as driving forces for economic development in th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ort on the implementation of regional and international ag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ituting Conclusions of the Tunis Seminar on Sustainabl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ort of the Meeting on Capital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 programme for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performance report for the period 2006-2007; and proposed programme plan for 2010-201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d Hoc Experts Group Meet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E/SMIs in North Africa:  with a focus on the relation between SMEs’, job creation, regional integration, migration and climat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in North Africa: Thematic will be identified on the basis of Conclusions and Recommendations emanating from the “Science with Africa Conference” (3-7 March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reness raising on the implementation of the System of National Accounts 1993 in North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ublication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78416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Es and industries development: identifying opportunities and challenges facing these entities and strategic niches and s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mulating production capacity through R&amp;D: capturing various aspects of innovation and knowledge management and their impact enterprise performance in North African Count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spectus on integration: Information, initiatives  and events shared with development partn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Technical cooperatio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n advisory missions at the request of member States, UMA,CEN-SAD and other subregional and intergovernmental organizations on institutional and sectoral issues related to strengthening regional integration and implementation of NEPAD in North Afr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ield Pro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mplementation of AMU/SRO-NA MOU with focus on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de and regional integration, ITC, Statistics and institutional strengthening initia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servatory of regional integration in North Afric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alization and dissem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ressing sustainable development challenges in North Africa: focus on environment, desertification and water;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New and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ewable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erg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monization of policies to build a North Africa knowledge econom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Strengthening Partnership with international Partner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nual Consultative Meeting of UN agencies based in North Afr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rengthening partnership with other S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tendance of ECA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joint ECA/ESCWA/UNFPA Initiative on an Integrated Social Policy, in reaction to a request from the Moroccan Govern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rengthened Cooperation with other Regional and International Part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rengthened cooperation with universities through the Internship Program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Overview of 2009 Activ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engthening of the AMU’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V Session of ICE on “Education and Employmen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 Hoc Experts Group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 and capacity-building for job cre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ssing the SRO/AMUmulti-year progra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streaming Poverty Reduction Strategies in national development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 and capacity-building action plan for job creation in North Afr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 on various themes identified in the SRO-NA and UMA multi-year program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 Event: North Africa Development Foru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Coop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eld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ory of Sub-regional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monization of Policies to strengthen the North Africa knowledge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engthening Partnership with international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120" y="1980720"/>
            <a:ext cx="8147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This Work Programme for the 2008-2009 Biennium is being implemented in the context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A Repositioned EC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A New Strategic Direction for S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A Refocused mis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New Programatic Framework, taking into account regional specific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8077320" cy="59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New Strategic Direction for S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focused 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Programmatic Framework taking into account regional specifi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99"/>
                </a:solidFill>
                <a:latin typeface="Arial"/>
              </a:rPr>
              <a:t>A refocused 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w mission of the SRO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in shaping ECA’s agenda and implementation at the subreg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nd support specific subregional priorities and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e a subregional node for knowledge-management and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UN System Activities for Subregional Integ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46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ffff99"/>
                </a:solidFill>
                <a:latin typeface="Arial"/>
              </a:rPr>
              <a:t>A New Programmatic Framework for SROs Sub-Programme 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5 SROs will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be the main implementing actors for ECA’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-regional activities as described in ECA’s Programme Cluster 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each SRO will specify its own objectives and programmatic choic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The main Objective for SRO-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trengthen the capacities of member States, AM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ENSAD and others for regional integration promo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hanced by strengthened partnership at regiona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untry level to support policy advocay, policymak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mplementation of sub-regional programmes in Nor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Expected Accomplishments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394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capacity of member States, RECs,  and other institutions to formulate and implement policies and programmes to address key subregional development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ed partnerships to support policy advocacy, policy-making and implementation of regional integration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ed role of the intergovernmental machinery through improved networking among key stakeholders involved in the subregional development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8d8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99"/>
                </a:solidFill>
                <a:latin typeface="Arial"/>
              </a:rPr>
              <a:t>Implementation of the Work Programme for 2008-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Work Programme is being implemented within the framework of ECA’s Strategic Focus, and will focus on two pill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moting regional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dressing North Africa’s Special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E/SMIs (2008) and Education and employment (2009) are the main thematic focus for the bienni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08:25:03Z</dcterms:created>
  <dc:creator>UNECA</dc:creator>
  <dc:description/>
  <dc:language>en-US</dc:language>
  <cp:lastModifiedBy>gondjé</cp:lastModifiedBy>
  <cp:lastPrinted>2001-03-23T10:50:40Z</cp:lastPrinted>
  <dcterms:modified xsi:type="dcterms:W3CDTF">2008-03-12T16:32:17Z</dcterms:modified>
  <cp:revision>186</cp:revision>
  <dc:subject/>
  <dc:title>No Slide Title</dc:title>
</cp:coreProperties>
</file>