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5D3344-7F50-4330-8F2E-202136E31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920" y="4411800"/>
            <a:ext cx="51372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2841AB-292E-443E-ACD5-CB63AFE9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5AB41A-36B0-4A46-BF24-F05B3DF4C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61C218-6679-45C9-91E7-FCF85608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9B42A4-F12F-4734-989A-4799B19A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287A40-BD20-489E-BFE1-B2433135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A13556-5479-417F-BB90-F1261CF8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CEB11E-CBD8-4F73-851F-306273A1B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CC71B8-C6B5-4EBF-8B28-683F38F9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4DC2D0-7C63-49DF-93E8-EC0B1DF7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27FA4C-46EA-4228-96A9-0D43D32E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88B19A-DCBB-43DF-A1E6-590A90DD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C37304-D653-4B38-9025-9650FDBB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8356D-8A1D-41E4-9059-5BCB77B6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F9A930-0C29-4ED2-B6F3-4FE2ED3B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41E7E1-669D-410B-B155-58481451F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5C38DB-BC3E-40A3-A6D2-818F0AFD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186CC4-09CC-4E00-9C8E-31168898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1475A5-9A4D-4A12-BF3A-466C3FBD0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914400" y="609480"/>
            <a:ext cx="8229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68580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080" y="0"/>
            <a:ext cx="7620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Economic Commission for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Office for North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6613560"/>
            <a:ext cx="670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Twenty Third Meeting of the Intergovernmental Committee of Experts (ICE) - </a:t>
            </a:r>
            <a:r>
              <a:rPr b="1" lang="fr-FR" sz="900" spc="-1" strike="noStrike">
                <a:solidFill>
                  <a:srgbClr val="ffffcc"/>
                </a:solidFill>
                <a:latin typeface="Arial"/>
              </a:rPr>
              <a:t>Rabat, Morocco 10-13 March 2008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1880" y="6629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15BC-1C02-45AF-B2FD-E3DD8A3605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209680"/>
            <a:ext cx="5715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ECA SRO NA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 PROGRAMME FOR 2008 </a:t>
            </a: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99"/>
                </a:solidFill>
                <a:latin typeface="Arial"/>
              </a:rPr>
              <a:t>Focus for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47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istance to RE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nual ICE Session: A special focus on S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 Hoc Experts Group Meetin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E/SMIs in North Africa; R&amp;D in North Africa; The implementation of the 1993 System of National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Es and industries development in North Africa; Stimulating production capacity through R&amp;D in North Africa; Prospectus on integration in North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eld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stitutional strengthening of the UMA; Joint ECA/ESCWA/ECE Mediterranean Project on New and Renewable Energy; Observatory of region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enghening Partnership with international instit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ssistance to A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an 14 2008: A multi-year program of cooperation between AMU and SRO-NA for the period 2008-2009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parties decided to implement multi-year programs aiming at promoting regional integration in the Maghreb Region,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ment of databases and Information 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ing various forms of public-private partner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courage sectoral activities for sustainable developmen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as of cooperation are based on studies, technical assistance, expert meetings and seminars covering such topics as trade and regional integration, ITC, Statistiques and institutional strengthening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ergovernmental Committee of Experts (ICE)</a:t>
            </a:r>
            <a:r>
              <a:rPr b="1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social developments: tracking progress in North Af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troductory note on promoting SMES as driving forces for economic development in th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 on the implementation of regional and international ag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ituting Conclusions of the Tunis Seminar on Sustainabl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 of the Meeting on Capital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programme fo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performance report for the period 2006-2007; and proposed programme plan for 2010-20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d Hoc Experts Group Meet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/SMIs in North Africa:  with a focus on the relation between SMEs’, job creation, regional integration, migration and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in North Africa: Thematic will be identified on the basis of Conclusions and Recommendations emanating from the “Science with Africa Conference” (3-7 March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eness raising on the implementation of the System of National Accounts 1993 in North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ublication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Es and industries development: identifying opportunities and challenges facing these entities and strategic niches and s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mulating production capacity through R&amp;D: capturing various aspects of innovation and knowledge management and their impact enterprise performance in North African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spectus on integration: Information, initiatives  and events shared with development partn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Technical cooperatio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n advisory missions at the request of member States, UMA,CEN-SAD and other subregional and intergovernmental organizations on institutional and sectoral issues related to strengthening regional integration and implementation of NEPAD in North Af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ield Pro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mplementation of AMU/SRO-NA MOU with focus 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de and regional integration, ITC, Statistics and institutional strengthening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servatory of regional integration in North Afric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lization and disse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ressing sustainable development challenges in North Africa: focus on environment, desertification and water;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New a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ewabl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er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policies to build a North Africa knowledge econom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Strengthening Partnership with international Partner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ual Consultative Meeting of UN agencies based in North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ing partnership with other S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ndance of ECA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joint ECA/ESCWA/UNFPA Initiative on an Integrated Social Policy, in reaction to a request from the Moroccan Gover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ed Cooperation with other Regional and International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ed cooperation with universities through the Internship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Overview of 2009 Acti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engthening of the AMU’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V Session of ICE on “Education and Employme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Hoc Experts Group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 and capacity-building for job cre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ing the SRO/AMUmulti-year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streaming Poverty Reduction Strategies in national develop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 and capacity-building action plan for job creation in North Af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on various themes identified in the SRO-NA and UMA multi-year program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Event: North Africa Development For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Coop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ory of Sub-region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monization of Policies to strengthen the North Africa knowledg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engthening Partnership with international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198072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This Work Programme for the 2008-2009 Biennium is being implemented in the contex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Repositioned E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New Strategic Direction for S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Refocused mi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New Programatic Framework, taking into account regional specific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7732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New Strategic Direction for S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focused 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Programmatic Framework taking into account regional specifi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A refocused 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mission of the SR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in shaping ECA’s agenda and implementation at the subreg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nd support specific subregional priorities and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e a subregional node for knowledge-management and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UN System Activities for Subregional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4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A New Programmatic Framework for SROs Sub-Programme 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5 SROs will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be the main implementing actors for ECA’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-regional activities as described in ECA’s Programme Cluster 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each SRO will specify its own objectives and programmatic choi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The main Objective for SRO-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trengthen the capacities of member States, A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ENSAD and others for regional integration promo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hanced by strengthened partnership at region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ntry level to support policy advocay, policymak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mplementation of sub-regional programmes in Nor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Expected Accomplishments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394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capacity of member States, RECs,  and other institutions to formulate and implement policies and programmes to address key subregional development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ed partnerships to support policy advocacy, policy-making and implementation of regional integration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ed role of the intergovernmental machinery through improved networking among key stakeholders involved in the subregional development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Implementation of the Work Programme for 2008-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Work Programme is being implemented within the framework of ECA’s Strategic Focus, and will focus on two pi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ing region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dressing North Africa’s Special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E/SMIs (2008) and Education and employment (2009) are the main thematic focus for the bienn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8:25:03Z</dcterms:created>
  <dc:creator>UNECA</dc:creator>
  <dc:description/>
  <dc:language>en-US</dc:language>
  <cp:lastModifiedBy>gondjé</cp:lastModifiedBy>
  <cp:lastPrinted>2001-03-23T10:50:40Z</cp:lastPrinted>
  <dcterms:modified xsi:type="dcterms:W3CDTF">2008-03-12T16:32:17Z</dcterms:modified>
  <cp:revision>186</cp:revision>
  <dc:subject/>
  <dc:title>No Slide Title</dc:title>
</cp:coreProperties>
</file>